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55.jpeg" ContentType="image/jpeg"/>
  <Override PartName="/ppt/media/image53.jpeg" ContentType="image/jpeg"/>
  <Override PartName="/ppt/media/image51.png" ContentType="image/png"/>
  <Override PartName="/ppt/media/image50.png" ContentType="image/png"/>
  <Override PartName="/ppt/media/image48.jpeg" ContentType="image/jpeg"/>
  <Override PartName="/ppt/media/image46.png" ContentType="image/png"/>
  <Override PartName="/ppt/media/image45.png" ContentType="image/png"/>
  <Override PartName="/ppt/media/image44.jpeg" ContentType="image/jpeg"/>
  <Override PartName="/ppt/media/image34.png" ContentType="image/png"/>
  <Override PartName="/ppt/media/image25.jpeg" ContentType="image/jpeg"/>
  <Override PartName="/ppt/media/image18.jpeg" ContentType="image/jpeg"/>
  <Override PartName="/ppt/media/image24.jpeg" ContentType="image/jpeg"/>
  <Override PartName="/ppt/media/image56.jpeg" ContentType="image/jpeg"/>
  <Override PartName="/ppt/media/image15.png" ContentType="image/png"/>
  <Override PartName="/ppt/media/image3.png" ContentType="image/png"/>
  <Override PartName="/ppt/media/image49.jpeg" ContentType="image/jpeg"/>
  <Override PartName="/ppt/media/image4.png" ContentType="image/png"/>
  <Override PartName="/ppt/media/image16.png" ContentType="image/png"/>
  <Override PartName="/ppt/media/image12.png" ContentType="image/png"/>
  <Override PartName="/ppt/media/image71.jpeg" ContentType="image/jpeg"/>
  <Override PartName="/ppt/media/image66.jpeg" ContentType="image/jpeg"/>
  <Override PartName="/ppt/media/image11.png" ContentType="image/png"/>
  <Override PartName="/ppt/media/image65.jpeg" ContentType="image/jpeg"/>
  <Override PartName="/ppt/media/image23.jpeg" ContentType="image/jpeg"/>
  <Override PartName="/ppt/media/image8.png" ContentType="image/png"/>
  <Override PartName="/ppt/media/image69.jpeg" ContentType="image/jpeg"/>
  <Override PartName="/ppt/media/image68.jpeg" ContentType="image/jpeg"/>
  <Override PartName="/ppt/media/image67.jpeg" ContentType="image/jpeg"/>
  <Override PartName="/ppt/media/image21.png" ContentType="image/png"/>
  <Override PartName="/ppt/media/image64.jpeg" ContentType="image/jpeg"/>
  <Override PartName="/ppt/media/image38.jpeg" ContentType="image/jpeg"/>
  <Override PartName="/ppt/media/image63.jpeg" ContentType="image/jpeg"/>
  <Override PartName="/ppt/media/image61.jpeg" ContentType="image/jpeg"/>
  <Override PartName="/ppt/media/image60.jpeg" ContentType="image/jpeg"/>
  <Override PartName="/ppt/media/image37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28.jpeg" ContentType="image/jpeg"/>
  <Override PartName="/ppt/media/image32.jpeg" ContentType="image/jpeg"/>
  <Override PartName="/ppt/media/image70.jpeg" ContentType="image/jpeg"/>
  <Override PartName="/ppt/media/image35.png" ContentType="image/png"/>
  <Override PartName="/ppt/media/image43.jpeg" ContentType="image/jpeg"/>
  <Override PartName="/ppt/media/image39.jpeg" ContentType="image/jpeg"/>
  <Override PartName="/ppt/media/image17.png" ContentType="image/png"/>
  <Override PartName="/ppt/media/image5.png" ContentType="image/png"/>
  <Override PartName="/ppt/media/image26.jpeg" ContentType="image/jpeg"/>
  <Override PartName="/ppt/media/image29.jpeg" ContentType="image/jpeg"/>
  <Override PartName="/ppt/media/image27.jpeg" ContentType="image/jpeg"/>
  <Override PartName="/ppt/media/image47.png" ContentType="image/png"/>
  <Override PartName="/ppt/media/image19.jpeg" ContentType="image/jpeg"/>
  <Override PartName="/ppt/media/image22.jpeg" ContentType="image/jpeg"/>
  <Override PartName="/ppt/media/image9.png" ContentType="image/png"/>
  <Override PartName="/ppt/media/image62.jpeg" ContentType="image/jpeg"/>
  <Override PartName="/ppt/media/image7.png" ContentType="image/png"/>
  <Override PartName="/ppt/media/image20.jpeg" ContentType="image/jpeg"/>
  <Override PartName="/ppt/media/image1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40.jpeg" ContentType="image/jpeg"/>
  <Override PartName="/ppt/media/image4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6858000" cy="9907588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77C-CF50-49C1-B1AB-5AF5A2DC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7AB-A11C-4AAE-93E5-E3822D19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812-EE17-4952-9BAF-5A703112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E69-4D87-44F9-81C0-A1FB080E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B5C-3203-4F9C-9E93-EA4889D5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E92-CE14-4C2B-B531-768D949F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92E-EC9A-4BA0-B177-D03820F9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D65-6943-480C-BB8C-2EEA6F56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39C-B026-4B12-93FD-FC69860A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7E3-B1C5-4F41-8BC3-17B90419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3A4-84B0-4C27-A0BF-AE896784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05D-5C07-412F-B3A8-F75EF74A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2E2E-2FBA-4A0F-93B5-D23AFC19DC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1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1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6.jpeg"/><Relationship Id="rId7" Type="http://schemas.openxmlformats.org/officeDocument/2006/relationships/image" Target="../media/image26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6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6.jpeg"/><Relationship Id="rId15" Type="http://schemas.openxmlformats.org/officeDocument/2006/relationships/image" Target="../media/image21.png"/><Relationship Id="rId16" Type="http://schemas.openxmlformats.org/officeDocument/2006/relationships/image" Target="../media/image37.jpeg"/><Relationship Id="rId17" Type="http://schemas.openxmlformats.org/officeDocument/2006/relationships/image" Target="../media/image37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image" Target="../media/image22.jpeg"/><Relationship Id="rId21" Type="http://schemas.openxmlformats.org/officeDocument/2006/relationships/image" Target="../media/image22.jpeg"/><Relationship Id="rId22" Type="http://schemas.openxmlformats.org/officeDocument/2006/relationships/image" Target="../media/image39.jpeg"/><Relationship Id="rId23" Type="http://schemas.openxmlformats.org/officeDocument/2006/relationships/image" Target="../media/image37.jpeg"/><Relationship Id="rId24" Type="http://schemas.openxmlformats.org/officeDocument/2006/relationships/image" Target="../media/image36.jpeg"/><Relationship Id="rId25" Type="http://schemas.openxmlformats.org/officeDocument/2006/relationships/image" Target="../media/image26.jpeg"/><Relationship Id="rId26" Type="http://schemas.openxmlformats.org/officeDocument/2006/relationships/image" Target="../media/image26.jpeg"/><Relationship Id="rId27" Type="http://schemas.openxmlformats.org/officeDocument/2006/relationships/image" Target="../media/image26.jpeg"/><Relationship Id="rId28" Type="http://schemas.openxmlformats.org/officeDocument/2006/relationships/image" Target="../media/image40.jpeg"/><Relationship Id="rId29" Type="http://schemas.openxmlformats.org/officeDocument/2006/relationships/image" Target="../media/image26.jpeg"/><Relationship Id="rId30" Type="http://schemas.openxmlformats.org/officeDocument/2006/relationships/image" Target="../media/image26.jpeg"/><Relationship Id="rId31" Type="http://schemas.openxmlformats.org/officeDocument/2006/relationships/image" Target="../media/image26.jpeg"/><Relationship Id="rId32" Type="http://schemas.openxmlformats.org/officeDocument/2006/relationships/image" Target="../media/image26.jpeg"/><Relationship Id="rId33" Type="http://schemas.openxmlformats.org/officeDocument/2006/relationships/image" Target="../media/image26.jpeg"/><Relationship Id="rId34" Type="http://schemas.openxmlformats.org/officeDocument/2006/relationships/image" Target="../media/image40.jpeg"/><Relationship Id="rId35" Type="http://schemas.openxmlformats.org/officeDocument/2006/relationships/image" Target="../media/image40.jpeg"/><Relationship Id="rId36" Type="http://schemas.openxmlformats.org/officeDocument/2006/relationships/image" Target="../media/image36.jpeg"/><Relationship Id="rId37" Type="http://schemas.openxmlformats.org/officeDocument/2006/relationships/image" Target="../media/image24.jpeg"/><Relationship Id="rId38" Type="http://schemas.openxmlformats.org/officeDocument/2006/relationships/image" Target="../media/image26.jpeg"/><Relationship Id="rId39" Type="http://schemas.openxmlformats.org/officeDocument/2006/relationships/image" Target="../media/image26.jpeg"/><Relationship Id="rId40" Type="http://schemas.openxmlformats.org/officeDocument/2006/relationships/image" Target="../media/image26.jpeg"/><Relationship Id="rId41" Type="http://schemas.openxmlformats.org/officeDocument/2006/relationships/image" Target="../media/image26.jpeg"/><Relationship Id="rId42" Type="http://schemas.openxmlformats.org/officeDocument/2006/relationships/image" Target="../media/image26.jpeg"/><Relationship Id="rId4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9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4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6.jpeg"/><Relationship Id="rId11" Type="http://schemas.openxmlformats.org/officeDocument/2006/relationships/image" Target="../media/image26.jpeg"/><Relationship Id="rId12" Type="http://schemas.openxmlformats.org/officeDocument/2006/relationships/image" Target="../media/image26.jpeg"/><Relationship Id="rId13" Type="http://schemas.openxmlformats.org/officeDocument/2006/relationships/image" Target="../media/image26.jpeg"/><Relationship Id="rId14" Type="http://schemas.openxmlformats.org/officeDocument/2006/relationships/image" Target="../media/image36.jpeg"/><Relationship Id="rId15" Type="http://schemas.openxmlformats.org/officeDocument/2006/relationships/image" Target="../media/image26.jpeg"/><Relationship Id="rId16" Type="http://schemas.openxmlformats.org/officeDocument/2006/relationships/image" Target="../media/image36.jpeg"/><Relationship Id="rId17" Type="http://schemas.openxmlformats.org/officeDocument/2006/relationships/image" Target="../media/image26.jpeg"/><Relationship Id="rId18" Type="http://schemas.openxmlformats.org/officeDocument/2006/relationships/image" Target="../media/image36.jpeg"/><Relationship Id="rId19" Type="http://schemas.openxmlformats.org/officeDocument/2006/relationships/image" Target="../media/image26.jpeg"/><Relationship Id="rId20" Type="http://schemas.openxmlformats.org/officeDocument/2006/relationships/image" Target="../media/image36.jpeg"/><Relationship Id="rId21" Type="http://schemas.openxmlformats.org/officeDocument/2006/relationships/image" Target="../media/image26.jpeg"/><Relationship Id="rId22" Type="http://schemas.openxmlformats.org/officeDocument/2006/relationships/image" Target="../media/image36.jpeg"/><Relationship Id="rId23" Type="http://schemas.openxmlformats.org/officeDocument/2006/relationships/image" Target="../media/image26.jpeg"/><Relationship Id="rId24" Type="http://schemas.openxmlformats.org/officeDocument/2006/relationships/image" Target="../media/image36.jpeg"/><Relationship Id="rId25" Type="http://schemas.openxmlformats.org/officeDocument/2006/relationships/image" Target="../media/image26.jpeg"/><Relationship Id="rId26" Type="http://schemas.openxmlformats.org/officeDocument/2006/relationships/image" Target="../media/image36.jpeg"/><Relationship Id="rId27" Type="http://schemas.openxmlformats.org/officeDocument/2006/relationships/image" Target="../media/image26.jpeg"/><Relationship Id="rId28" Type="http://schemas.openxmlformats.org/officeDocument/2006/relationships/image" Target="../media/image36.jpeg"/><Relationship Id="rId29" Type="http://schemas.openxmlformats.org/officeDocument/2006/relationships/image" Target="../media/image26.jpeg"/><Relationship Id="rId30" Type="http://schemas.openxmlformats.org/officeDocument/2006/relationships/image" Target="../media/image36.jpeg"/><Relationship Id="rId31" Type="http://schemas.openxmlformats.org/officeDocument/2006/relationships/image" Target="../media/image26.jpeg"/><Relationship Id="rId32" Type="http://schemas.openxmlformats.org/officeDocument/2006/relationships/image" Target="../media/image26.jpeg"/><Relationship Id="rId33" Type="http://schemas.openxmlformats.org/officeDocument/2006/relationships/image" Target="../media/image26.jpeg"/><Relationship Id="rId34" Type="http://schemas.openxmlformats.org/officeDocument/2006/relationships/image" Target="../media/image26.jpeg"/><Relationship Id="rId35" Type="http://schemas.openxmlformats.org/officeDocument/2006/relationships/image" Target="../media/image26.jpeg"/><Relationship Id="rId36" Type="http://schemas.openxmlformats.org/officeDocument/2006/relationships/image" Target="../media/image22.jpeg"/><Relationship Id="rId37" Type="http://schemas.openxmlformats.org/officeDocument/2006/relationships/image" Target="../media/image36.jpeg"/><Relationship Id="rId38" Type="http://schemas.openxmlformats.org/officeDocument/2006/relationships/image" Target="../media/image26.jpeg"/><Relationship Id="rId39" Type="http://schemas.openxmlformats.org/officeDocument/2006/relationships/image" Target="../media/image26.jpeg"/><Relationship Id="rId40" Type="http://schemas.openxmlformats.org/officeDocument/2006/relationships/image" Target="../media/image26.jpeg"/><Relationship Id="rId41" Type="http://schemas.openxmlformats.org/officeDocument/2006/relationships/image" Target="../media/image26.jpeg"/><Relationship Id="rId42" Type="http://schemas.openxmlformats.org/officeDocument/2006/relationships/image" Target="../media/image26.jpeg"/><Relationship Id="rId4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36.jpeg"/><Relationship Id="rId7" Type="http://schemas.openxmlformats.org/officeDocument/2006/relationships/image" Target="../media/image26.jpeg"/><Relationship Id="rId8" Type="http://schemas.openxmlformats.org/officeDocument/2006/relationships/image" Target="../media/image36.jpeg"/><Relationship Id="rId9" Type="http://schemas.openxmlformats.org/officeDocument/2006/relationships/image" Target="../media/image26.jpeg"/><Relationship Id="rId10" Type="http://schemas.openxmlformats.org/officeDocument/2006/relationships/image" Target="../media/image26.jpeg"/><Relationship Id="rId11" Type="http://schemas.openxmlformats.org/officeDocument/2006/relationships/image" Target="../media/image24.jpeg"/><Relationship Id="rId12" Type="http://schemas.openxmlformats.org/officeDocument/2006/relationships/image" Target="../media/image20.jpeg"/><Relationship Id="rId13" Type="http://schemas.openxmlformats.org/officeDocument/2006/relationships/image" Target="../media/image26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image" Target="../media/image29.jpeg"/><Relationship Id="rId17" Type="http://schemas.openxmlformats.org/officeDocument/2006/relationships/image" Target="../media/image22.jpeg"/><Relationship Id="rId18" Type="http://schemas.openxmlformats.org/officeDocument/2006/relationships/image" Target="../media/image43.jpeg"/><Relationship Id="rId19" Type="http://schemas.openxmlformats.org/officeDocument/2006/relationships/image" Target="../media/image43.jpeg"/><Relationship Id="rId20" Type="http://schemas.openxmlformats.org/officeDocument/2006/relationships/image" Target="../media/image43.jpeg"/><Relationship Id="rId21" Type="http://schemas.openxmlformats.org/officeDocument/2006/relationships/image" Target="../media/image22.jpeg"/><Relationship Id="rId22" Type="http://schemas.openxmlformats.org/officeDocument/2006/relationships/image" Target="../media/image22.jpeg"/><Relationship Id="rId23" Type="http://schemas.openxmlformats.org/officeDocument/2006/relationships/image" Target="../media/image22.jpeg"/><Relationship Id="rId24" Type="http://schemas.openxmlformats.org/officeDocument/2006/relationships/image" Target="../media/image26.jpeg"/><Relationship Id="rId25" Type="http://schemas.openxmlformats.org/officeDocument/2006/relationships/image" Target="../media/image26.jpeg"/><Relationship Id="rId26" Type="http://schemas.openxmlformats.org/officeDocument/2006/relationships/image" Target="../media/image26.jpeg"/><Relationship Id="rId27" Type="http://schemas.openxmlformats.org/officeDocument/2006/relationships/image" Target="../media/image26.jpeg"/><Relationship Id="rId2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5.png"/><Relationship Id="rId9" Type="http://schemas.openxmlformats.org/officeDocument/2006/relationships/image" Target="../media/image45.png"/><Relationship Id="rId10" Type="http://schemas.openxmlformats.org/officeDocument/2006/relationships/image" Target="../media/image45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44.jpe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0.png"/><Relationship Id="rId8" Type="http://schemas.openxmlformats.org/officeDocument/2006/relationships/image" Target="../media/image49.jpe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3.jpeg"/><Relationship Id="rId4" Type="http://schemas.openxmlformats.org/officeDocument/2006/relationships/image" Target="../media/image44.jpe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0.png"/><Relationship Id="rId9" Type="http://schemas.openxmlformats.org/officeDocument/2006/relationships/image" Target="../media/image54.jpeg"/><Relationship Id="rId10" Type="http://schemas.openxmlformats.org/officeDocument/2006/relationships/image" Target="../media/image54.jpeg"/><Relationship Id="rId11" Type="http://schemas.openxmlformats.org/officeDocument/2006/relationships/image" Target="../media/image54.jpeg"/><Relationship Id="rId12" Type="http://schemas.openxmlformats.org/officeDocument/2006/relationships/image" Target="../media/image54.jpeg"/><Relationship Id="rId13" Type="http://schemas.openxmlformats.org/officeDocument/2006/relationships/image" Target="../media/image54.jpeg"/><Relationship Id="rId14" Type="http://schemas.openxmlformats.org/officeDocument/2006/relationships/image" Target="../media/image54.jpeg"/><Relationship Id="rId15" Type="http://schemas.openxmlformats.org/officeDocument/2006/relationships/image" Target="../media/image53.jpeg"/><Relationship Id="rId16" Type="http://schemas.openxmlformats.org/officeDocument/2006/relationships/image" Target="../media/image53.jpeg"/><Relationship Id="rId17" Type="http://schemas.openxmlformats.org/officeDocument/2006/relationships/image" Target="../media/image53.jpeg"/><Relationship Id="rId18" Type="http://schemas.openxmlformats.org/officeDocument/2006/relationships/image" Target="../media/image53.jpeg"/><Relationship Id="rId19" Type="http://schemas.openxmlformats.org/officeDocument/2006/relationships/image" Target="../media/image53.jpeg"/><Relationship Id="rId20" Type="http://schemas.openxmlformats.org/officeDocument/2006/relationships/image" Target="../media/image53.jpeg"/><Relationship Id="rId21" Type="http://schemas.openxmlformats.org/officeDocument/2006/relationships/image" Target="../media/image53.jpeg"/><Relationship Id="rId22" Type="http://schemas.openxmlformats.org/officeDocument/2006/relationships/image" Target="../media/image53.jpeg"/><Relationship Id="rId23" Type="http://schemas.openxmlformats.org/officeDocument/2006/relationships/image" Target="../media/image46.png"/><Relationship Id="rId24" Type="http://schemas.openxmlformats.org/officeDocument/2006/relationships/image" Target="../media/image47.png"/><Relationship Id="rId25" Type="http://schemas.openxmlformats.org/officeDocument/2006/relationships/image" Target="../media/image54.jpeg"/><Relationship Id="rId26" Type="http://schemas.openxmlformats.org/officeDocument/2006/relationships/image" Target="../media/image54.jpeg"/><Relationship Id="rId27" Type="http://schemas.openxmlformats.org/officeDocument/2006/relationships/image" Target="../media/image54.jpeg"/><Relationship Id="rId2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9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5.jpeg"/><Relationship Id="rId3" Type="http://schemas.openxmlformats.org/officeDocument/2006/relationships/image" Target="../media/image58.jpeg"/><Relationship Id="rId4" Type="http://schemas.openxmlformats.org/officeDocument/2006/relationships/image" Target="../media/image53.jpeg"/><Relationship Id="rId5" Type="http://schemas.openxmlformats.org/officeDocument/2006/relationships/image" Target="../media/image53.jpeg"/><Relationship Id="rId6" Type="http://schemas.openxmlformats.org/officeDocument/2006/relationships/image" Target="../media/image53.jpeg"/><Relationship Id="rId7" Type="http://schemas.openxmlformats.org/officeDocument/2006/relationships/image" Target="../media/image53.jpeg"/><Relationship Id="rId8" Type="http://schemas.openxmlformats.org/officeDocument/2006/relationships/image" Target="../media/image53.jpeg"/><Relationship Id="rId9" Type="http://schemas.openxmlformats.org/officeDocument/2006/relationships/image" Target="../media/image59.jpeg"/><Relationship Id="rId10" Type="http://schemas.openxmlformats.org/officeDocument/2006/relationships/image" Target="../media/image59.jpeg"/><Relationship Id="rId11" Type="http://schemas.openxmlformats.org/officeDocument/2006/relationships/image" Target="../media/image37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8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3.jpeg"/><Relationship Id="rId3" Type="http://schemas.openxmlformats.org/officeDocument/2006/relationships/image" Target="../media/image54.jpeg"/><Relationship Id="rId4" Type="http://schemas.openxmlformats.org/officeDocument/2006/relationships/image" Target="../media/image54.jpeg"/><Relationship Id="rId5" Type="http://schemas.openxmlformats.org/officeDocument/2006/relationships/image" Target="../media/image53.jpeg"/><Relationship Id="rId6" Type="http://schemas.openxmlformats.org/officeDocument/2006/relationships/image" Target="../media/image53.jpeg"/><Relationship Id="rId7" Type="http://schemas.openxmlformats.org/officeDocument/2006/relationships/image" Target="../media/image53.jpeg"/><Relationship Id="rId8" Type="http://schemas.openxmlformats.org/officeDocument/2006/relationships/image" Target="../media/image58.jpeg"/><Relationship Id="rId9" Type="http://schemas.openxmlformats.org/officeDocument/2006/relationships/image" Target="../media/image37.jpeg"/><Relationship Id="rId10" Type="http://schemas.openxmlformats.org/officeDocument/2006/relationships/image" Target="../media/image56.jpe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8.jpeg"/><Relationship Id="rId3" Type="http://schemas.openxmlformats.org/officeDocument/2006/relationships/image" Target="../media/image37.jpeg"/><Relationship Id="rId4" Type="http://schemas.openxmlformats.org/officeDocument/2006/relationships/image" Target="../media/image53.jpeg"/><Relationship Id="rId5" Type="http://schemas.openxmlformats.org/officeDocument/2006/relationships/image" Target="../media/image53.jpeg"/><Relationship Id="rId6" Type="http://schemas.openxmlformats.org/officeDocument/2006/relationships/image" Target="../media/image53.jpeg"/><Relationship Id="rId7" Type="http://schemas.openxmlformats.org/officeDocument/2006/relationships/image" Target="../media/image37.jpeg"/><Relationship Id="rId8" Type="http://schemas.openxmlformats.org/officeDocument/2006/relationships/image" Target="../media/image53.jpeg"/><Relationship Id="rId9" Type="http://schemas.openxmlformats.org/officeDocument/2006/relationships/image" Target="../media/image53.jpeg"/><Relationship Id="rId10" Type="http://schemas.openxmlformats.org/officeDocument/2006/relationships/image" Target="../media/image53.jpeg"/><Relationship Id="rId11" Type="http://schemas.openxmlformats.org/officeDocument/2006/relationships/image" Target="../media/image60.jpeg"/><Relationship Id="rId1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5.jpeg"/><Relationship Id="rId3" Type="http://schemas.openxmlformats.org/officeDocument/2006/relationships/image" Target="../media/image41.jpeg"/><Relationship Id="rId4" Type="http://schemas.openxmlformats.org/officeDocument/2006/relationships/image" Target="../media/image30.jpeg"/><Relationship Id="rId5" Type="http://schemas.openxmlformats.org/officeDocument/2006/relationships/image" Target="../media/image61.jpeg"/><Relationship Id="rId6" Type="http://schemas.openxmlformats.org/officeDocument/2006/relationships/image" Target="../media/image53.jpeg"/><Relationship Id="rId7" Type="http://schemas.openxmlformats.org/officeDocument/2006/relationships/image" Target="../media/image53.jpeg"/><Relationship Id="rId8" Type="http://schemas.openxmlformats.org/officeDocument/2006/relationships/image" Target="../media/image61.jpeg"/><Relationship Id="rId9" Type="http://schemas.openxmlformats.org/officeDocument/2006/relationships/image" Target="../media/image37.jpeg"/><Relationship Id="rId10" Type="http://schemas.openxmlformats.org/officeDocument/2006/relationships/image" Target="../media/image59.jpe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55.jpeg"/><Relationship Id="rId6" Type="http://schemas.openxmlformats.org/officeDocument/2006/relationships/image" Target="../media/image29.jpeg"/><Relationship Id="rId7" Type="http://schemas.openxmlformats.org/officeDocument/2006/relationships/image" Target="../media/image65.jpeg"/><Relationship Id="rId8" Type="http://schemas.openxmlformats.org/officeDocument/2006/relationships/image" Target="../media/image66.jpeg"/><Relationship Id="rId9" Type="http://schemas.openxmlformats.org/officeDocument/2006/relationships/image" Target="../media/image57.jpeg"/><Relationship Id="rId10" Type="http://schemas.openxmlformats.org/officeDocument/2006/relationships/image" Target="../media/image57.jpeg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4.jpeg"/><Relationship Id="rId3" Type="http://schemas.openxmlformats.org/officeDocument/2006/relationships/image" Target="../media/image64.jpeg"/><Relationship Id="rId4" Type="http://schemas.openxmlformats.org/officeDocument/2006/relationships/image" Target="../media/image64.jpeg"/><Relationship Id="rId5" Type="http://schemas.openxmlformats.org/officeDocument/2006/relationships/image" Target="../media/image55.jpeg"/><Relationship Id="rId6" Type="http://schemas.openxmlformats.org/officeDocument/2006/relationships/image" Target="../media/image55.jpeg"/><Relationship Id="rId7" Type="http://schemas.openxmlformats.org/officeDocument/2006/relationships/image" Target="../media/image63.jpeg"/><Relationship Id="rId8" Type="http://schemas.openxmlformats.org/officeDocument/2006/relationships/image" Target="../media/image59.jpeg"/><Relationship Id="rId9" Type="http://schemas.openxmlformats.org/officeDocument/2006/relationships/image" Target="../media/image56.jpeg"/><Relationship Id="rId10" Type="http://schemas.openxmlformats.org/officeDocument/2006/relationships/image" Target="../media/image37.jpeg"/><Relationship Id="rId11" Type="http://schemas.openxmlformats.org/officeDocument/2006/relationships/image" Target="../media/image37.jpeg"/><Relationship Id="rId12" Type="http://schemas.openxmlformats.org/officeDocument/2006/relationships/image" Target="../media/image59.jpeg"/><Relationship Id="rId1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8.jpeg"/><Relationship Id="rId3" Type="http://schemas.openxmlformats.org/officeDocument/2006/relationships/image" Target="../media/image58.jpeg"/><Relationship Id="rId4" Type="http://schemas.openxmlformats.org/officeDocument/2006/relationships/image" Target="../media/image63.jpeg"/><Relationship Id="rId5" Type="http://schemas.openxmlformats.org/officeDocument/2006/relationships/image" Target="../media/image63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58.jpeg"/><Relationship Id="rId4" Type="http://schemas.openxmlformats.org/officeDocument/2006/relationships/image" Target="../media/image53.jpeg"/><Relationship Id="rId5" Type="http://schemas.openxmlformats.org/officeDocument/2006/relationships/image" Target="../media/image69.jpeg"/><Relationship Id="rId6" Type="http://schemas.openxmlformats.org/officeDocument/2006/relationships/image" Target="../media/image53.jpeg"/><Relationship Id="rId7" Type="http://schemas.openxmlformats.org/officeDocument/2006/relationships/image" Target="../media/image53.jpeg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1.jpeg"/><Relationship Id="rId3" Type="http://schemas.openxmlformats.org/officeDocument/2006/relationships/image" Target="../media/image55.jpeg"/><Relationship Id="rId4" Type="http://schemas.openxmlformats.org/officeDocument/2006/relationships/image" Target="../media/image53.jpeg"/><Relationship Id="rId5" Type="http://schemas.openxmlformats.org/officeDocument/2006/relationships/image" Target="../media/image53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37.jpeg"/><Relationship Id="rId9" Type="http://schemas.openxmlformats.org/officeDocument/2006/relationships/image" Target="../media/image66.jpeg"/><Relationship Id="rId10" Type="http://schemas.openxmlformats.org/officeDocument/2006/relationships/image" Target="../media/image72.jpe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14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1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image" Target="../media/image19.jpe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0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image" Target="../media/image22.jpeg"/><Relationship Id="rId17" Type="http://schemas.openxmlformats.org/officeDocument/2006/relationships/image" Target="../media/image22.jpeg"/><Relationship Id="rId18" Type="http://schemas.openxmlformats.org/officeDocument/2006/relationships/image" Target="../media/image22.jpeg"/><Relationship Id="rId19" Type="http://schemas.openxmlformats.org/officeDocument/2006/relationships/image" Target="../media/image22.jpeg"/><Relationship Id="rId20" Type="http://schemas.openxmlformats.org/officeDocument/2006/relationships/image" Target="../media/image22.jpeg"/><Relationship Id="rId21" Type="http://schemas.openxmlformats.org/officeDocument/2006/relationships/image" Target="../media/image22.jpeg"/><Relationship Id="rId22" Type="http://schemas.openxmlformats.org/officeDocument/2006/relationships/image" Target="../media/image22.jpeg"/><Relationship Id="rId2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0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6.jpeg"/><Relationship Id="rId11" Type="http://schemas.openxmlformats.org/officeDocument/2006/relationships/image" Target="../media/image26.jpeg"/><Relationship Id="rId12" Type="http://schemas.openxmlformats.org/officeDocument/2006/relationships/image" Target="../media/image26.jpeg"/><Relationship Id="rId13" Type="http://schemas.openxmlformats.org/officeDocument/2006/relationships/image" Target="../media/image26.jpeg"/><Relationship Id="rId14" Type="http://schemas.openxmlformats.org/officeDocument/2006/relationships/image" Target="../media/image26.jpeg"/><Relationship Id="rId15" Type="http://schemas.openxmlformats.org/officeDocument/2006/relationships/image" Target="../media/image26.jpeg"/><Relationship Id="rId16" Type="http://schemas.openxmlformats.org/officeDocument/2006/relationships/image" Target="../media/image26.jpeg"/><Relationship Id="rId17" Type="http://schemas.openxmlformats.org/officeDocument/2006/relationships/image" Target="../media/image26.jpeg"/><Relationship Id="rId18" Type="http://schemas.openxmlformats.org/officeDocument/2006/relationships/image" Target="../media/image26.jpeg"/><Relationship Id="rId19" Type="http://schemas.openxmlformats.org/officeDocument/2006/relationships/image" Target="../media/image26.jpeg"/><Relationship Id="rId20" Type="http://schemas.openxmlformats.org/officeDocument/2006/relationships/image" Target="../media/image26.jpeg"/><Relationship Id="rId21" Type="http://schemas.openxmlformats.org/officeDocument/2006/relationships/image" Target="../media/image26.jpeg"/><Relationship Id="rId22" Type="http://schemas.openxmlformats.org/officeDocument/2006/relationships/image" Target="../media/image26.jpeg"/><Relationship Id="rId23" Type="http://schemas.openxmlformats.org/officeDocument/2006/relationships/image" Target="../media/image26.jpeg"/><Relationship Id="rId24" Type="http://schemas.openxmlformats.org/officeDocument/2006/relationships/image" Target="../media/image26.jpeg"/><Relationship Id="rId25" Type="http://schemas.openxmlformats.org/officeDocument/2006/relationships/image" Target="../media/image26.jpeg"/><Relationship Id="rId26" Type="http://schemas.openxmlformats.org/officeDocument/2006/relationships/image" Target="../media/image26.jpeg"/><Relationship Id="rId27" Type="http://schemas.openxmlformats.org/officeDocument/2006/relationships/image" Target="../media/image26.jpeg"/><Relationship Id="rId28" Type="http://schemas.openxmlformats.org/officeDocument/2006/relationships/image" Target="../media/image26.jpeg"/><Relationship Id="rId29" Type="http://schemas.openxmlformats.org/officeDocument/2006/relationships/image" Target="../media/image26.jpeg"/><Relationship Id="rId30" Type="http://schemas.openxmlformats.org/officeDocument/2006/relationships/image" Target="../media/image26.jpeg"/><Relationship Id="rId31" Type="http://schemas.openxmlformats.org/officeDocument/2006/relationships/image" Target="../media/image26.jpeg"/><Relationship Id="rId32" Type="http://schemas.openxmlformats.org/officeDocument/2006/relationships/image" Target="../media/image26.jpeg"/><Relationship Id="rId33" Type="http://schemas.openxmlformats.org/officeDocument/2006/relationships/image" Target="../media/image26.jpeg"/><Relationship Id="rId34" Type="http://schemas.openxmlformats.org/officeDocument/2006/relationships/image" Target="../media/image26.jpeg"/><Relationship Id="rId35" Type="http://schemas.openxmlformats.org/officeDocument/2006/relationships/image" Target="../media/image20.jpeg"/><Relationship Id="rId36" Type="http://schemas.openxmlformats.org/officeDocument/2006/relationships/image" Target="../media/image29.jpeg"/><Relationship Id="rId37" Type="http://schemas.openxmlformats.org/officeDocument/2006/relationships/image" Target="../media/image27.jpeg"/><Relationship Id="rId38" Type="http://schemas.openxmlformats.org/officeDocument/2006/relationships/image" Target="../media/image22.jpeg"/><Relationship Id="rId39" Type="http://schemas.openxmlformats.org/officeDocument/2006/relationships/image" Target="../media/image22.jpeg"/><Relationship Id="rId40" Type="http://schemas.openxmlformats.org/officeDocument/2006/relationships/image" Target="../media/image26.jpeg"/><Relationship Id="rId41" Type="http://schemas.openxmlformats.org/officeDocument/2006/relationships/image" Target="../media/image26.jpeg"/><Relationship Id="rId42" Type="http://schemas.openxmlformats.org/officeDocument/2006/relationships/image" Target="../media/image26.jpeg"/><Relationship Id="rId43" Type="http://schemas.openxmlformats.org/officeDocument/2006/relationships/image" Target="../media/image26.jpeg"/><Relationship Id="rId44" Type="http://schemas.openxmlformats.org/officeDocument/2006/relationships/image" Target="../media/image26.jpeg"/><Relationship Id="rId45" Type="http://schemas.openxmlformats.org/officeDocument/2006/relationships/image" Target="../media/image26.jpeg"/><Relationship Id="rId46" Type="http://schemas.openxmlformats.org/officeDocument/2006/relationships/image" Target="../media/image26.jpeg"/><Relationship Id="rId47" Type="http://schemas.openxmlformats.org/officeDocument/2006/relationships/image" Target="../media/image26.jpeg"/><Relationship Id="rId48" Type="http://schemas.openxmlformats.org/officeDocument/2006/relationships/image" Target="../media/image26.jpeg"/><Relationship Id="rId49" Type="http://schemas.openxmlformats.org/officeDocument/2006/relationships/image" Target="../media/image26.jpeg"/><Relationship Id="rId50" Type="http://schemas.openxmlformats.org/officeDocument/2006/relationships/image" Target="../media/image26.jpeg"/><Relationship Id="rId51" Type="http://schemas.openxmlformats.org/officeDocument/2006/relationships/image" Target="../media/image26.jpeg"/><Relationship Id="rId52" Type="http://schemas.openxmlformats.org/officeDocument/2006/relationships/image" Target="../media/image26.jpeg"/><Relationship Id="rId53" Type="http://schemas.openxmlformats.org/officeDocument/2006/relationships/image" Target="../media/image30.jpeg"/><Relationship Id="rId54" Type="http://schemas.openxmlformats.org/officeDocument/2006/relationships/image" Target="../media/image26.jpeg"/><Relationship Id="rId55" Type="http://schemas.openxmlformats.org/officeDocument/2006/relationships/image" Target="../media/image22.jpeg"/><Relationship Id="rId56" Type="http://schemas.openxmlformats.org/officeDocument/2006/relationships/image" Target="../media/image22.jpeg"/><Relationship Id="rId57" Type="http://schemas.openxmlformats.org/officeDocument/2006/relationships/image" Target="../media/image22.jpeg"/><Relationship Id="rId58" Type="http://schemas.openxmlformats.org/officeDocument/2006/relationships/image" Target="../media/image22.jpeg"/><Relationship Id="rId59" Type="http://schemas.openxmlformats.org/officeDocument/2006/relationships/image" Target="../media/image22.jpeg"/><Relationship Id="rId60" Type="http://schemas.openxmlformats.org/officeDocument/2006/relationships/image" Target="../media/image22.jpeg"/><Relationship Id="rId61" Type="http://schemas.openxmlformats.org/officeDocument/2006/relationships/image" Target="../media/image22.jpeg"/><Relationship Id="rId62" Type="http://schemas.openxmlformats.org/officeDocument/2006/relationships/image" Target="../media/image26.jpeg"/><Relationship Id="rId63" Type="http://schemas.openxmlformats.org/officeDocument/2006/relationships/image" Target="../media/image26.jpeg"/><Relationship Id="rId64" Type="http://schemas.openxmlformats.org/officeDocument/2006/relationships/image" Target="../media/image26.jpeg"/><Relationship Id="rId65" Type="http://schemas.openxmlformats.org/officeDocument/2006/relationships/image" Target="../media/image26.jpeg"/><Relationship Id="rId66" Type="http://schemas.openxmlformats.org/officeDocument/2006/relationships/image" Target="../media/image22.jpeg"/><Relationship Id="rId67" Type="http://schemas.openxmlformats.org/officeDocument/2006/relationships/image" Target="../media/image22.jpeg"/><Relationship Id="rId6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6.jpeg"/><Relationship Id="rId9" Type="http://schemas.openxmlformats.org/officeDocument/2006/relationships/image" Target="../media/image33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33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image" Target="../media/image19.jpeg"/><Relationship Id="rId16" Type="http://schemas.openxmlformats.org/officeDocument/2006/relationships/image" Target="../media/image33.jpe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200400"/>
            <a:ext cx="6477120" cy="6248520"/>
          </a:xfrm>
          <a:prstGeom prst="rect">
            <a:avLst/>
          </a:prstGeom>
          <a:solidFill>
            <a:srgbClr val="f8f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194000"/>
            <a:ext cx="871560" cy="1312920"/>
          </a:xfrm>
          <a:custGeom>
            <a:avLst/>
            <a:gdLst/>
            <a:ahLst/>
            <a:rect l="l" t="t" r="r" b="b"/>
            <a:pathLst>
              <a:path w="549" h="827">
                <a:moveTo>
                  <a:pt x="5" y="101"/>
                </a:moveTo>
                <a:cubicBezTo>
                  <a:pt x="133" y="0"/>
                  <a:pt x="331" y="26"/>
                  <a:pt x="416" y="37"/>
                </a:cubicBezTo>
                <a:cubicBezTo>
                  <a:pt x="501" y="48"/>
                  <a:pt x="549" y="97"/>
                  <a:pt x="517" y="165"/>
                </a:cubicBezTo>
                <a:cubicBezTo>
                  <a:pt x="485" y="233"/>
                  <a:pt x="277" y="348"/>
                  <a:pt x="224" y="448"/>
                </a:cubicBezTo>
                <a:cubicBezTo>
                  <a:pt x="171" y="548"/>
                  <a:pt x="229" y="709"/>
                  <a:pt x="197" y="768"/>
                </a:cubicBezTo>
                <a:cubicBezTo>
                  <a:pt x="165" y="827"/>
                  <a:pt x="133" y="805"/>
                  <a:pt x="32" y="805"/>
                </a:cubicBezTo>
                <a:cubicBezTo>
                  <a:pt x="0" y="694"/>
                  <a:pt x="11" y="248"/>
                  <a:pt x="5" y="101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6040" y="7000920"/>
            <a:ext cx="6195960" cy="2330280"/>
          </a:xfrm>
          <a:custGeom>
            <a:avLst/>
            <a:gdLst/>
            <a:ahLst/>
            <a:rect l="l" t="t" r="r" b="b"/>
            <a:pathLst>
              <a:path w="3903" h="1468">
                <a:moveTo>
                  <a:pt x="57" y="998"/>
                </a:moveTo>
                <a:cubicBezTo>
                  <a:pt x="307" y="815"/>
                  <a:pt x="775" y="654"/>
                  <a:pt x="1118" y="587"/>
                </a:cubicBezTo>
                <a:cubicBezTo>
                  <a:pt x="1462" y="520"/>
                  <a:pt x="1816" y="621"/>
                  <a:pt x="2117" y="597"/>
                </a:cubicBezTo>
                <a:cubicBezTo>
                  <a:pt x="2419" y="573"/>
                  <a:pt x="2631" y="536"/>
                  <a:pt x="2929" y="442"/>
                </a:cubicBezTo>
                <a:cubicBezTo>
                  <a:pt x="3227" y="348"/>
                  <a:pt x="3742" y="0"/>
                  <a:pt x="3903" y="30"/>
                </a:cubicBezTo>
                <a:cubicBezTo>
                  <a:pt x="3903" y="222"/>
                  <a:pt x="3903" y="510"/>
                  <a:pt x="3895" y="622"/>
                </a:cubicBezTo>
                <a:cubicBezTo>
                  <a:pt x="3529" y="558"/>
                  <a:pt x="3298" y="901"/>
                  <a:pt x="2991" y="981"/>
                </a:cubicBezTo>
                <a:cubicBezTo>
                  <a:pt x="2684" y="1061"/>
                  <a:pt x="2361" y="1079"/>
                  <a:pt x="2055" y="1099"/>
                </a:cubicBezTo>
                <a:cubicBezTo>
                  <a:pt x="1749" y="1119"/>
                  <a:pt x="1496" y="1040"/>
                  <a:pt x="1154" y="1099"/>
                </a:cubicBezTo>
                <a:cubicBezTo>
                  <a:pt x="812" y="1158"/>
                  <a:pt x="182" y="1468"/>
                  <a:pt x="0" y="1451"/>
                </a:cubicBezTo>
                <a:cubicBezTo>
                  <a:pt x="0" y="1195"/>
                  <a:pt x="57" y="1309"/>
                  <a:pt x="57" y="998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310360"/>
            <a:ext cx="1650960" cy="4138560"/>
          </a:xfrm>
          <a:custGeom>
            <a:avLst/>
            <a:gdLst/>
            <a:ahLst/>
            <a:rect l="l" t="t" r="r" b="b"/>
            <a:pathLst>
              <a:path w="1040" h="2607">
                <a:moveTo>
                  <a:pt x="185" y="2607"/>
                </a:moveTo>
                <a:cubicBezTo>
                  <a:pt x="185" y="2314"/>
                  <a:pt x="558" y="2313"/>
                  <a:pt x="661" y="2196"/>
                </a:cubicBezTo>
                <a:cubicBezTo>
                  <a:pt x="764" y="2079"/>
                  <a:pt x="739" y="1985"/>
                  <a:pt x="800" y="1906"/>
                </a:cubicBezTo>
                <a:cubicBezTo>
                  <a:pt x="861" y="1827"/>
                  <a:pt x="1040" y="1784"/>
                  <a:pt x="1029" y="1720"/>
                </a:cubicBezTo>
                <a:cubicBezTo>
                  <a:pt x="1018" y="1656"/>
                  <a:pt x="821" y="1653"/>
                  <a:pt x="736" y="1519"/>
                </a:cubicBezTo>
                <a:cubicBezTo>
                  <a:pt x="651" y="1385"/>
                  <a:pt x="580" y="1097"/>
                  <a:pt x="517" y="916"/>
                </a:cubicBezTo>
                <a:cubicBezTo>
                  <a:pt x="454" y="735"/>
                  <a:pt x="361" y="576"/>
                  <a:pt x="361" y="431"/>
                </a:cubicBezTo>
                <a:cubicBezTo>
                  <a:pt x="361" y="286"/>
                  <a:pt x="534" y="94"/>
                  <a:pt x="517" y="47"/>
                </a:cubicBezTo>
                <a:cubicBezTo>
                  <a:pt x="500" y="0"/>
                  <a:pt x="346" y="43"/>
                  <a:pt x="261" y="148"/>
                </a:cubicBezTo>
                <a:cubicBezTo>
                  <a:pt x="176" y="253"/>
                  <a:pt x="69" y="266"/>
                  <a:pt x="10" y="676"/>
                </a:cubicBezTo>
                <a:cubicBezTo>
                  <a:pt x="10" y="1391"/>
                  <a:pt x="32" y="1914"/>
                  <a:pt x="0" y="2598"/>
                </a:cubicBezTo>
                <a:cubicBezTo>
                  <a:pt x="389" y="2594"/>
                  <a:pt x="29" y="2595"/>
                  <a:pt x="185" y="2607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27240" y="3340080"/>
            <a:ext cx="2830680" cy="1960560"/>
          </a:xfrm>
          <a:custGeom>
            <a:avLst/>
            <a:gdLst/>
            <a:ahLst/>
            <a:rect l="l" t="t" r="r" b="b"/>
            <a:pathLst>
              <a:path w="1580" h="1076">
                <a:moveTo>
                  <a:pt x="1484" y="1064"/>
                </a:moveTo>
                <a:cubicBezTo>
                  <a:pt x="1430" y="1076"/>
                  <a:pt x="1361" y="930"/>
                  <a:pt x="1292" y="872"/>
                </a:cubicBezTo>
                <a:cubicBezTo>
                  <a:pt x="1223" y="814"/>
                  <a:pt x="1136" y="763"/>
                  <a:pt x="1072" y="716"/>
                </a:cubicBezTo>
                <a:cubicBezTo>
                  <a:pt x="1008" y="669"/>
                  <a:pt x="983" y="626"/>
                  <a:pt x="908" y="588"/>
                </a:cubicBezTo>
                <a:cubicBezTo>
                  <a:pt x="833" y="550"/>
                  <a:pt x="752" y="537"/>
                  <a:pt x="624" y="488"/>
                </a:cubicBezTo>
                <a:cubicBezTo>
                  <a:pt x="496" y="439"/>
                  <a:pt x="227" y="371"/>
                  <a:pt x="140" y="296"/>
                </a:cubicBezTo>
                <a:cubicBezTo>
                  <a:pt x="53" y="221"/>
                  <a:pt x="0" y="80"/>
                  <a:pt x="103" y="40"/>
                </a:cubicBezTo>
                <a:cubicBezTo>
                  <a:pt x="206" y="0"/>
                  <a:pt x="574" y="22"/>
                  <a:pt x="757" y="54"/>
                </a:cubicBezTo>
                <a:cubicBezTo>
                  <a:pt x="940" y="86"/>
                  <a:pt x="1111" y="160"/>
                  <a:pt x="1200" y="232"/>
                </a:cubicBezTo>
                <a:cubicBezTo>
                  <a:pt x="1289" y="304"/>
                  <a:pt x="1234" y="377"/>
                  <a:pt x="1292" y="488"/>
                </a:cubicBezTo>
                <a:cubicBezTo>
                  <a:pt x="1350" y="599"/>
                  <a:pt x="1516" y="803"/>
                  <a:pt x="1548" y="899"/>
                </a:cubicBezTo>
                <a:cubicBezTo>
                  <a:pt x="1580" y="995"/>
                  <a:pt x="1497" y="1030"/>
                  <a:pt x="1484" y="1064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760" y="20952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レッシュ周辺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所属：山賊王国 レイフー都市連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伝統的権力中枢：山賊王ヴーン（バーバリアン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怪物的権力中枢：夜に町をさまようデーモ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：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,600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ゲーム中の取引上限価格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3,000g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レッシュの主な組織：主な所属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警備兵：警備兵長ジェイキン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ウォリアー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アイウーズ駐留軍：グルックス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ター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レイフー商工組合：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盗賊結社：詳細不明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魔術ギルド：ギルド長ホロン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ウィザー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アイウーズ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嘘と苦痛の邪神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神殿：司祭ンヤダク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レリック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オリダマラ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酒と盗賊の神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神殿：酔いどれナイルシー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レリック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ファラングン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旅の神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社：巡回司祭のカリム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レリック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その他：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宿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amp;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酒場“かがり火と煙”亭：店主ヘイゼ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エキスパー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酒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amp;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賭場 “歌う杯”亭 ：亭主グランネ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バー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雑貨屋“ペリカン屋”：店主ジェンナ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エキスパー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“バリディン鍛冶工房”：バリディン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モナー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：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：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57913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カポーナ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9601200"/>
            <a:ext cx="58294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資料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5248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9524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 ft(=900m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1320" y="8070840"/>
            <a:ext cx="2176560" cy="1319400"/>
          </a:xfrm>
          <a:custGeom>
            <a:avLst/>
            <a:gdLst/>
            <a:ahLst/>
            <a:rect l="l" t="t" r="r" b="b"/>
            <a:pathLst>
              <a:path w="1371" h="831">
                <a:moveTo>
                  <a:pt x="548" y="566"/>
                </a:moveTo>
                <a:cubicBezTo>
                  <a:pt x="629" y="501"/>
                  <a:pt x="471" y="395"/>
                  <a:pt x="576" y="310"/>
                </a:cubicBezTo>
                <a:cubicBezTo>
                  <a:pt x="681" y="225"/>
                  <a:pt x="1051" y="101"/>
                  <a:pt x="1179" y="54"/>
                </a:cubicBezTo>
                <a:cubicBezTo>
                  <a:pt x="1307" y="7"/>
                  <a:pt x="1317" y="0"/>
                  <a:pt x="1344" y="27"/>
                </a:cubicBezTo>
                <a:cubicBezTo>
                  <a:pt x="1371" y="54"/>
                  <a:pt x="1355" y="144"/>
                  <a:pt x="1344" y="219"/>
                </a:cubicBezTo>
                <a:cubicBezTo>
                  <a:pt x="1333" y="294"/>
                  <a:pt x="1306" y="396"/>
                  <a:pt x="1280" y="475"/>
                </a:cubicBezTo>
                <a:cubicBezTo>
                  <a:pt x="1254" y="554"/>
                  <a:pt x="1252" y="636"/>
                  <a:pt x="1188" y="694"/>
                </a:cubicBezTo>
                <a:cubicBezTo>
                  <a:pt x="1124" y="752"/>
                  <a:pt x="1088" y="667"/>
                  <a:pt x="896" y="822"/>
                </a:cubicBezTo>
                <a:cubicBezTo>
                  <a:pt x="731" y="822"/>
                  <a:pt x="219" y="822"/>
                  <a:pt x="0" y="831"/>
                </a:cubicBezTo>
                <a:cubicBezTo>
                  <a:pt x="0" y="731"/>
                  <a:pt x="0" y="747"/>
                  <a:pt x="91" y="703"/>
                </a:cubicBezTo>
                <a:cubicBezTo>
                  <a:pt x="182" y="659"/>
                  <a:pt x="479" y="624"/>
                  <a:pt x="548" y="566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86200" y="152280"/>
            <a:ext cx="2743200" cy="884880"/>
            <a:chOff x="3886200" y="152280"/>
            <a:chExt cx="2743200" cy="884880"/>
          </a:xfrm>
        </p:grpSpPr>
        <p:grpSp>
          <p:nvGrpSpPr>
            <p:cNvPr id="53" name=""/>
            <p:cNvGrpSpPr/>
            <p:nvPr/>
          </p:nvGrpSpPr>
          <p:grpSpPr>
            <a:xfrm>
              <a:off x="5791320" y="380880"/>
              <a:ext cx="838080" cy="648000"/>
              <a:chOff x="5791320" y="380880"/>
              <a:chExt cx="838080" cy="6480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5791320" y="494640"/>
                <a:ext cx="152280" cy="414000"/>
                <a:chOff x="5791320" y="494640"/>
                <a:chExt cx="152280" cy="41400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5791320" y="494640"/>
                  <a:ext cx="152280" cy="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5791320" y="718200"/>
                  <a:ext cx="152280" cy="0"/>
                </a:xfrm>
                <a:prstGeom prst="line">
                  <a:avLst/>
                </a:prstGeom>
                <a:ln w="1908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5791320" y="908640"/>
                  <a:ext cx="152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5877000" y="380880"/>
                <a:ext cx="752400" cy="64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道・石橋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吊り橋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防壁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3886200" y="828360"/>
              <a:ext cx="152280" cy="1526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81480" y="799920"/>
              <a:ext cx="152640" cy="152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81480" y="437760"/>
              <a:ext cx="152640" cy="152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81480" y="609480"/>
              <a:ext cx="152640" cy="152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86200" y="22356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180720"/>
              <a:ext cx="129528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牧場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湖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湿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森林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6200" y="419040"/>
              <a:ext cx="15228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86200" y="609480"/>
              <a:ext cx="152280" cy="152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38480" y="152280"/>
              <a:ext cx="114300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居住区画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居住区画（富裕層）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居住区画（貧民層）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畑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81480" y="228240"/>
              <a:ext cx="152640" cy="152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538440" y="3192480"/>
            <a:ext cx="3090960" cy="765000"/>
          </a:xfrm>
          <a:custGeom>
            <a:avLst/>
            <a:gdLst/>
            <a:ahLst/>
            <a:rect l="l" t="t" r="r" b="b"/>
            <a:pathLst>
              <a:path w="1947" h="482">
                <a:moveTo>
                  <a:pt x="1947" y="192"/>
                </a:moveTo>
                <a:cubicBezTo>
                  <a:pt x="1755" y="220"/>
                  <a:pt x="1782" y="467"/>
                  <a:pt x="1627" y="467"/>
                </a:cubicBezTo>
                <a:cubicBezTo>
                  <a:pt x="1546" y="482"/>
                  <a:pt x="1564" y="330"/>
                  <a:pt x="1462" y="284"/>
                </a:cubicBezTo>
                <a:cubicBezTo>
                  <a:pt x="1360" y="238"/>
                  <a:pt x="1189" y="218"/>
                  <a:pt x="1014" y="192"/>
                </a:cubicBezTo>
                <a:cubicBezTo>
                  <a:pt x="839" y="166"/>
                  <a:pt x="537" y="160"/>
                  <a:pt x="411" y="128"/>
                </a:cubicBezTo>
                <a:cubicBezTo>
                  <a:pt x="285" y="96"/>
                  <a:pt x="0" y="20"/>
                  <a:pt x="255" y="0"/>
                </a:cubicBezTo>
                <a:cubicBezTo>
                  <a:pt x="927" y="0"/>
                  <a:pt x="1290" y="29"/>
                  <a:pt x="1944" y="5"/>
                </a:cubicBezTo>
                <a:cubicBezTo>
                  <a:pt x="1944" y="173"/>
                  <a:pt x="1947" y="30"/>
                  <a:pt x="1947" y="192"/>
                </a:cubicBez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6902280"/>
            <a:ext cx="6261120" cy="2578320"/>
          </a:xfrm>
          <a:custGeom>
            <a:avLst/>
            <a:gdLst/>
            <a:ahLst/>
            <a:rect l="l" t="t" r="r" b="b"/>
            <a:pathLst>
              <a:path w="3944" h="1624">
                <a:moveTo>
                  <a:pt x="0" y="994"/>
                </a:moveTo>
                <a:cubicBezTo>
                  <a:pt x="256" y="811"/>
                  <a:pt x="736" y="650"/>
                  <a:pt x="1088" y="583"/>
                </a:cubicBezTo>
                <a:cubicBezTo>
                  <a:pt x="1440" y="516"/>
                  <a:pt x="1803" y="617"/>
                  <a:pt x="2112" y="593"/>
                </a:cubicBezTo>
                <a:cubicBezTo>
                  <a:pt x="2421" y="569"/>
                  <a:pt x="2639" y="531"/>
                  <a:pt x="2944" y="438"/>
                </a:cubicBezTo>
                <a:cubicBezTo>
                  <a:pt x="3249" y="345"/>
                  <a:pt x="3779" y="0"/>
                  <a:pt x="3944" y="36"/>
                </a:cubicBezTo>
                <a:cubicBezTo>
                  <a:pt x="3944" y="228"/>
                  <a:pt x="3944" y="540"/>
                  <a:pt x="3936" y="652"/>
                </a:cubicBezTo>
                <a:cubicBezTo>
                  <a:pt x="3561" y="588"/>
                  <a:pt x="3323" y="903"/>
                  <a:pt x="3008" y="977"/>
                </a:cubicBezTo>
                <a:cubicBezTo>
                  <a:pt x="2693" y="1051"/>
                  <a:pt x="2362" y="1075"/>
                  <a:pt x="2048" y="1095"/>
                </a:cubicBezTo>
                <a:cubicBezTo>
                  <a:pt x="1734" y="1115"/>
                  <a:pt x="1465" y="1010"/>
                  <a:pt x="1124" y="1095"/>
                </a:cubicBezTo>
                <a:cubicBezTo>
                  <a:pt x="783" y="1180"/>
                  <a:pt x="187" y="1624"/>
                  <a:pt x="0" y="1607"/>
                </a:cubicBezTo>
                <a:cubicBezTo>
                  <a:pt x="0" y="1351"/>
                  <a:pt x="0" y="1305"/>
                  <a:pt x="0" y="994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720" y="3164040"/>
            <a:ext cx="924120" cy="4941720"/>
          </a:xfrm>
          <a:custGeom>
            <a:avLst/>
            <a:gdLst/>
            <a:ahLst/>
            <a:rect l="l" t="t" r="r" b="b"/>
            <a:pathLst>
              <a:path w="582" h="3113">
                <a:moveTo>
                  <a:pt x="0" y="0"/>
                </a:moveTo>
                <a:cubicBezTo>
                  <a:pt x="85" y="116"/>
                  <a:pt x="442" y="525"/>
                  <a:pt x="512" y="732"/>
                </a:cubicBezTo>
                <a:cubicBezTo>
                  <a:pt x="582" y="939"/>
                  <a:pt x="484" y="1089"/>
                  <a:pt x="420" y="1244"/>
                </a:cubicBezTo>
                <a:cubicBezTo>
                  <a:pt x="356" y="1399"/>
                  <a:pt x="181" y="1527"/>
                  <a:pt x="128" y="1664"/>
                </a:cubicBezTo>
                <a:cubicBezTo>
                  <a:pt x="75" y="1801"/>
                  <a:pt x="57" y="1871"/>
                  <a:pt x="100" y="2066"/>
                </a:cubicBezTo>
                <a:cubicBezTo>
                  <a:pt x="143" y="2261"/>
                  <a:pt x="342" y="2660"/>
                  <a:pt x="384" y="2834"/>
                </a:cubicBezTo>
                <a:cubicBezTo>
                  <a:pt x="426" y="3008"/>
                  <a:pt x="361" y="3055"/>
                  <a:pt x="355" y="3113"/>
                </a:cubicBezTo>
              </a:path>
            </a:pathLst>
          </a:custGeom>
          <a:noFill/>
          <a:ln w="7632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890200">
            <a:off x="1603080" y="4932360"/>
            <a:ext cx="228600" cy="295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6296400">
            <a:off x="1447200" y="5200200"/>
            <a:ext cx="22860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7414200">
            <a:off x="1770840" y="72385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890200">
            <a:off x="1904760" y="4762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890200">
            <a:off x="1914120" y="5019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890200">
            <a:off x="1706400" y="5256000"/>
            <a:ext cx="1904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890200">
            <a:off x="1628640" y="5503680"/>
            <a:ext cx="24732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890200">
            <a:off x="1580760" y="5771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7414200">
            <a:off x="1751760" y="6933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7414200">
            <a:off x="1980360" y="70862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890200">
            <a:off x="1647360" y="4723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890200">
            <a:off x="1879200" y="533196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890200">
            <a:off x="1904760" y="56192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890200">
            <a:off x="1819080" y="5857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3958800">
            <a:off x="5495400" y="6867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7414200">
            <a:off x="2056680" y="6838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7414200">
            <a:off x="2208960" y="72385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7567800">
            <a:off x="2513880" y="5181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6823800">
            <a:off x="2257200" y="5857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7414200">
            <a:off x="2266200" y="6981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7414200">
            <a:off x="2437560" y="7391160"/>
            <a:ext cx="22860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7567800">
            <a:off x="2694960" y="5381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6927000">
            <a:off x="2549520" y="5605920"/>
            <a:ext cx="227160" cy="1652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7135200">
            <a:off x="2533320" y="5914800"/>
            <a:ext cx="22860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8101200">
            <a:off x="3266280" y="4828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7929600">
            <a:off x="3123720" y="5038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6823800">
            <a:off x="2895120" y="6162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6823800">
            <a:off x="2800080" y="639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4587600">
            <a:off x="3171600" y="69627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4587600">
            <a:off x="3152520" y="7210440"/>
            <a:ext cx="22860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8101200">
            <a:off x="3542760" y="4905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8101200">
            <a:off x="3390120" y="51145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7567800">
            <a:off x="2758320" y="5728680"/>
            <a:ext cx="228600" cy="2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7567800">
            <a:off x="3037680" y="5971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6823800">
            <a:off x="3219120" y="61527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4587600">
            <a:off x="3428640" y="69152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4587600">
            <a:off x="3409560" y="7182000"/>
            <a:ext cx="22860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8101200">
            <a:off x="3780720" y="5038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8101200">
            <a:off x="3631680" y="5242680"/>
            <a:ext cx="20664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7567800">
            <a:off x="3171240" y="57621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6823800">
            <a:off x="3419280" y="6286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7567800">
            <a:off x="3351960" y="59432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4531800">
            <a:off x="3676320" y="7153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8101200">
            <a:off x="4439880" y="5473440"/>
            <a:ext cx="342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8101200">
            <a:off x="4104720" y="5143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8101200">
            <a:off x="3904560" y="5314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8101200">
            <a:off x="3837960" y="5657400"/>
            <a:ext cx="228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7567800">
            <a:off x="3561480" y="60861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805600">
            <a:off x="4075920" y="69055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805600">
            <a:off x="4075920" y="7153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8101200">
            <a:off x="4266360" y="53337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101200">
            <a:off x="4037760" y="5866920"/>
            <a:ext cx="228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8101200">
            <a:off x="4056840" y="5505120"/>
            <a:ext cx="228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805600">
            <a:off x="4342680" y="6934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805600">
            <a:off x="4342680" y="7162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8101200">
            <a:off x="4247280" y="5686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3958800">
            <a:off x="5752800" y="6781320"/>
            <a:ext cx="22860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4824000">
            <a:off x="5371920" y="6610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4824000">
            <a:off x="5152320" y="66816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90600" y="6467400"/>
            <a:ext cx="371520" cy="324000"/>
          </a:xfrm>
          <a:custGeom>
            <a:avLst/>
            <a:gdLst/>
            <a:ahLst/>
            <a:rect l="l" t="t" r="r" b="b"/>
            <a:pathLst>
              <a:path w="234" h="204">
                <a:moveTo>
                  <a:pt x="60" y="0"/>
                </a:moveTo>
                <a:lnTo>
                  <a:pt x="234" y="102"/>
                </a:lnTo>
                <a:lnTo>
                  <a:pt x="204" y="204"/>
                </a:lnTo>
                <a:lnTo>
                  <a:pt x="84" y="168"/>
                </a:lnTo>
                <a:lnTo>
                  <a:pt x="0" y="42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76640" y="6477120"/>
            <a:ext cx="800280" cy="209520"/>
          </a:xfrm>
          <a:custGeom>
            <a:avLst/>
            <a:gdLst/>
            <a:ahLst/>
            <a:rect l="l" t="t" r="r" b="b"/>
            <a:pathLst>
              <a:path w="504" h="132">
                <a:moveTo>
                  <a:pt x="0" y="90"/>
                </a:moveTo>
                <a:lnTo>
                  <a:pt x="42" y="132"/>
                </a:lnTo>
                <a:lnTo>
                  <a:pt x="504" y="48"/>
                </a:lnTo>
                <a:lnTo>
                  <a:pt x="456" y="0"/>
                </a:lnTo>
                <a:lnTo>
                  <a:pt x="42" y="12"/>
                </a:lnTo>
                <a:lnTo>
                  <a:pt x="0" y="9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90640" y="610560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42"/>
                </a:moveTo>
                <a:lnTo>
                  <a:pt x="168" y="138"/>
                </a:lnTo>
                <a:lnTo>
                  <a:pt x="102" y="168"/>
                </a:lnTo>
                <a:lnTo>
                  <a:pt x="60" y="126"/>
                </a:lnTo>
                <a:lnTo>
                  <a:pt x="0" y="0"/>
                </a:lnTo>
                <a:lnTo>
                  <a:pt x="126" y="18"/>
                </a:lnTo>
                <a:lnTo>
                  <a:pt x="168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5524560"/>
            <a:ext cx="533160" cy="933480"/>
          </a:xfrm>
          <a:custGeom>
            <a:avLst/>
            <a:gdLst/>
            <a:ahLst/>
            <a:rect l="l" t="t" r="r" b="b"/>
            <a:pathLst>
              <a:path w="336" h="588">
                <a:moveTo>
                  <a:pt x="240" y="24"/>
                </a:moveTo>
                <a:lnTo>
                  <a:pt x="240" y="168"/>
                </a:lnTo>
                <a:lnTo>
                  <a:pt x="300" y="198"/>
                </a:lnTo>
                <a:lnTo>
                  <a:pt x="282" y="306"/>
                </a:lnTo>
                <a:lnTo>
                  <a:pt x="336" y="360"/>
                </a:lnTo>
                <a:lnTo>
                  <a:pt x="336" y="456"/>
                </a:lnTo>
                <a:lnTo>
                  <a:pt x="192" y="456"/>
                </a:lnTo>
                <a:lnTo>
                  <a:pt x="192" y="552"/>
                </a:lnTo>
                <a:lnTo>
                  <a:pt x="126" y="588"/>
                </a:lnTo>
                <a:lnTo>
                  <a:pt x="48" y="456"/>
                </a:lnTo>
                <a:lnTo>
                  <a:pt x="0" y="312"/>
                </a:lnTo>
                <a:lnTo>
                  <a:pt x="48" y="168"/>
                </a:lnTo>
                <a:lnTo>
                  <a:pt x="168" y="0"/>
                </a:lnTo>
                <a:lnTo>
                  <a:pt x="240" y="24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00640" y="6705720"/>
            <a:ext cx="399960" cy="199800"/>
          </a:xfrm>
          <a:custGeom>
            <a:avLst/>
            <a:gdLst/>
            <a:ahLst/>
            <a:rect l="l" t="t" r="r" b="b"/>
            <a:pathLst>
              <a:path w="252" h="126">
                <a:moveTo>
                  <a:pt x="0" y="60"/>
                </a:moveTo>
                <a:lnTo>
                  <a:pt x="252" y="0"/>
                </a:lnTo>
                <a:lnTo>
                  <a:pt x="234" y="126"/>
                </a:lnTo>
                <a:lnTo>
                  <a:pt x="66" y="84"/>
                </a:lnTo>
                <a:lnTo>
                  <a:pt x="0" y="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5810400"/>
            <a:ext cx="457200" cy="447480"/>
          </a:xfrm>
          <a:custGeom>
            <a:avLst/>
            <a:gdLst/>
            <a:ahLst/>
            <a:rect l="l" t="t" r="r" b="b"/>
            <a:pathLst>
              <a:path w="288" h="282">
                <a:moveTo>
                  <a:pt x="288" y="228"/>
                </a:moveTo>
                <a:lnTo>
                  <a:pt x="270" y="282"/>
                </a:lnTo>
                <a:lnTo>
                  <a:pt x="0" y="36"/>
                </a:lnTo>
                <a:lnTo>
                  <a:pt x="66" y="0"/>
                </a:lnTo>
                <a:lnTo>
                  <a:pt x="288" y="2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470520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0"/>
                </a:moveTo>
                <a:lnTo>
                  <a:pt x="0" y="96"/>
                </a:lnTo>
                <a:lnTo>
                  <a:pt x="96" y="192"/>
                </a:lnTo>
                <a:lnTo>
                  <a:pt x="192" y="96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76400" y="4724280"/>
            <a:ext cx="428760" cy="238320"/>
          </a:xfrm>
          <a:custGeom>
            <a:avLst/>
            <a:gdLst/>
            <a:ahLst/>
            <a:rect l="l" t="t" r="r" b="b"/>
            <a:pathLst>
              <a:path w="270" h="150">
                <a:moveTo>
                  <a:pt x="12" y="0"/>
                </a:moveTo>
                <a:lnTo>
                  <a:pt x="0" y="108"/>
                </a:lnTo>
                <a:lnTo>
                  <a:pt x="186" y="150"/>
                </a:lnTo>
                <a:lnTo>
                  <a:pt x="270" y="42"/>
                </a:lnTo>
                <a:lnTo>
                  <a:pt x="270" y="6"/>
                </a:lnTo>
                <a:lnTo>
                  <a:pt x="12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14760" y="493380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84" y="0"/>
                </a:moveTo>
                <a:lnTo>
                  <a:pt x="294" y="42"/>
                </a:lnTo>
                <a:lnTo>
                  <a:pt x="162" y="204"/>
                </a:lnTo>
                <a:lnTo>
                  <a:pt x="0" y="84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00240" y="5229360"/>
            <a:ext cx="895320" cy="628560"/>
          </a:xfrm>
          <a:custGeom>
            <a:avLst/>
            <a:gdLst/>
            <a:ahLst/>
            <a:rect l="l" t="t" r="r" b="b"/>
            <a:pathLst>
              <a:path w="564" h="396">
                <a:moveTo>
                  <a:pt x="0" y="84"/>
                </a:moveTo>
                <a:lnTo>
                  <a:pt x="210" y="276"/>
                </a:lnTo>
                <a:lnTo>
                  <a:pt x="354" y="396"/>
                </a:lnTo>
                <a:lnTo>
                  <a:pt x="462" y="360"/>
                </a:lnTo>
                <a:lnTo>
                  <a:pt x="564" y="258"/>
                </a:lnTo>
                <a:lnTo>
                  <a:pt x="504" y="210"/>
                </a:lnTo>
                <a:lnTo>
                  <a:pt x="360" y="90"/>
                </a:lnTo>
                <a:lnTo>
                  <a:pt x="306" y="126"/>
                </a:lnTo>
                <a:lnTo>
                  <a:pt x="240" y="42"/>
                </a:lnTo>
                <a:lnTo>
                  <a:pt x="180" y="84"/>
                </a:lnTo>
                <a:lnTo>
                  <a:pt x="54" y="0"/>
                </a:lnTo>
                <a:lnTo>
                  <a:pt x="0" y="8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8101200">
            <a:off x="4571280" y="5790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8101200">
            <a:off x="4342680" y="59432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6095880"/>
            <a:ext cx="419040" cy="304920"/>
          </a:xfrm>
          <a:custGeom>
            <a:avLst/>
            <a:gdLst/>
            <a:ahLst/>
            <a:rect l="l" t="t" r="r" b="b"/>
            <a:pathLst>
              <a:path w="264" h="192">
                <a:moveTo>
                  <a:pt x="96" y="192"/>
                </a:moveTo>
                <a:lnTo>
                  <a:pt x="0" y="96"/>
                </a:lnTo>
                <a:lnTo>
                  <a:pt x="48" y="48"/>
                </a:lnTo>
                <a:lnTo>
                  <a:pt x="96" y="0"/>
                </a:lnTo>
                <a:lnTo>
                  <a:pt x="264" y="168"/>
                </a:lnTo>
                <a:lnTo>
                  <a:pt x="96" y="192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5638680"/>
            <a:ext cx="542880" cy="457200"/>
          </a:xfrm>
          <a:custGeom>
            <a:avLst/>
            <a:gdLst/>
            <a:ahLst/>
            <a:rect l="l" t="t" r="r" b="b"/>
            <a:pathLst>
              <a:path w="342" h="288">
                <a:moveTo>
                  <a:pt x="48" y="0"/>
                </a:moveTo>
                <a:lnTo>
                  <a:pt x="0" y="48"/>
                </a:lnTo>
                <a:lnTo>
                  <a:pt x="96" y="162"/>
                </a:lnTo>
                <a:lnTo>
                  <a:pt x="48" y="240"/>
                </a:lnTo>
                <a:lnTo>
                  <a:pt x="114" y="288"/>
                </a:lnTo>
                <a:lnTo>
                  <a:pt x="342" y="204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6000840"/>
            <a:ext cx="542880" cy="323640"/>
          </a:xfrm>
          <a:custGeom>
            <a:avLst/>
            <a:gdLst/>
            <a:ahLst/>
            <a:rect l="l" t="t" r="r" b="b"/>
            <a:pathLst>
              <a:path w="342" h="204">
                <a:moveTo>
                  <a:pt x="336" y="204"/>
                </a:moveTo>
                <a:lnTo>
                  <a:pt x="48" y="204"/>
                </a:lnTo>
                <a:lnTo>
                  <a:pt x="0" y="60"/>
                </a:lnTo>
                <a:lnTo>
                  <a:pt x="48" y="60"/>
                </a:lnTo>
                <a:lnTo>
                  <a:pt x="114" y="84"/>
                </a:lnTo>
                <a:lnTo>
                  <a:pt x="342" y="0"/>
                </a:lnTo>
                <a:lnTo>
                  <a:pt x="336" y="20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6095880"/>
            <a:ext cx="238320" cy="266760"/>
          </a:xfrm>
          <a:custGeom>
            <a:avLst/>
            <a:gdLst/>
            <a:ahLst/>
            <a:rect l="l" t="t" r="r" b="b"/>
            <a:pathLst>
              <a:path w="150" h="168">
                <a:moveTo>
                  <a:pt x="96" y="0"/>
                </a:moveTo>
                <a:lnTo>
                  <a:pt x="0" y="96"/>
                </a:lnTo>
                <a:lnTo>
                  <a:pt x="66" y="168"/>
                </a:lnTo>
                <a:lnTo>
                  <a:pt x="150" y="144"/>
                </a:lnTo>
                <a:lnTo>
                  <a:pt x="132" y="60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33720" y="4924440"/>
            <a:ext cx="276480" cy="257040"/>
          </a:xfrm>
          <a:custGeom>
            <a:avLst/>
            <a:gdLst/>
            <a:ahLst/>
            <a:rect l="l" t="t" r="r" b="b"/>
            <a:pathLst>
              <a:path w="174" h="162">
                <a:moveTo>
                  <a:pt x="174" y="90"/>
                </a:moveTo>
                <a:lnTo>
                  <a:pt x="114" y="162"/>
                </a:lnTo>
                <a:lnTo>
                  <a:pt x="0" y="42"/>
                </a:lnTo>
                <a:lnTo>
                  <a:pt x="84" y="0"/>
                </a:lnTo>
                <a:lnTo>
                  <a:pt x="174" y="9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05120" y="4762440"/>
            <a:ext cx="333360" cy="228600"/>
          </a:xfrm>
          <a:custGeom>
            <a:avLst/>
            <a:gdLst/>
            <a:ahLst/>
            <a:rect l="l" t="t" r="r" b="b"/>
            <a:pathLst>
              <a:path w="210" h="144">
                <a:moveTo>
                  <a:pt x="0" y="66"/>
                </a:moveTo>
                <a:lnTo>
                  <a:pt x="84" y="144"/>
                </a:lnTo>
                <a:lnTo>
                  <a:pt x="210" y="84"/>
                </a:lnTo>
                <a:lnTo>
                  <a:pt x="150" y="0"/>
                </a:lnTo>
                <a:lnTo>
                  <a:pt x="0" y="0"/>
                </a:lnTo>
                <a:lnTo>
                  <a:pt x="0" y="6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71760" y="4734000"/>
            <a:ext cx="304920" cy="162000"/>
          </a:xfrm>
          <a:custGeom>
            <a:avLst/>
            <a:gdLst/>
            <a:ahLst/>
            <a:rect l="l" t="t" r="r" b="b"/>
            <a:pathLst>
              <a:path w="192" h="102">
                <a:moveTo>
                  <a:pt x="0" y="0"/>
                </a:moveTo>
                <a:lnTo>
                  <a:pt x="126" y="102"/>
                </a:lnTo>
                <a:lnTo>
                  <a:pt x="186" y="6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4038480"/>
            <a:ext cx="304560" cy="352440"/>
          </a:xfrm>
          <a:custGeom>
            <a:avLst/>
            <a:gdLst/>
            <a:ahLst/>
            <a:rect l="l" t="t" r="r" b="b"/>
            <a:pathLst>
              <a:path w="192" h="222">
                <a:moveTo>
                  <a:pt x="48" y="0"/>
                </a:moveTo>
                <a:lnTo>
                  <a:pt x="0" y="48"/>
                </a:lnTo>
                <a:lnTo>
                  <a:pt x="48" y="222"/>
                </a:lnTo>
                <a:lnTo>
                  <a:pt x="156" y="162"/>
                </a:lnTo>
                <a:lnTo>
                  <a:pt x="192" y="48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4343400"/>
            <a:ext cx="343080" cy="228600"/>
          </a:xfrm>
          <a:custGeom>
            <a:avLst/>
            <a:gdLst/>
            <a:ahLst/>
            <a:rect l="l" t="t" r="r" b="b"/>
            <a:pathLst>
              <a:path w="216" h="144">
                <a:moveTo>
                  <a:pt x="0" y="54"/>
                </a:moveTo>
                <a:lnTo>
                  <a:pt x="120" y="0"/>
                </a:lnTo>
                <a:lnTo>
                  <a:pt x="216" y="48"/>
                </a:lnTo>
                <a:lnTo>
                  <a:pt x="216" y="144"/>
                </a:lnTo>
                <a:lnTo>
                  <a:pt x="24" y="144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4133880"/>
            <a:ext cx="533520" cy="26676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42" y="0"/>
                </a:moveTo>
                <a:lnTo>
                  <a:pt x="0" y="84"/>
                </a:lnTo>
                <a:lnTo>
                  <a:pt x="90" y="144"/>
                </a:lnTo>
                <a:lnTo>
                  <a:pt x="240" y="132"/>
                </a:lnTo>
                <a:lnTo>
                  <a:pt x="318" y="168"/>
                </a:lnTo>
                <a:lnTo>
                  <a:pt x="336" y="84"/>
                </a:lnTo>
                <a:lnTo>
                  <a:pt x="42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4295880"/>
            <a:ext cx="152280" cy="276120"/>
          </a:xfrm>
          <a:custGeom>
            <a:avLst/>
            <a:gdLst/>
            <a:ahLst/>
            <a:rect l="l" t="t" r="r" b="b"/>
            <a:pathLst>
              <a:path w="96" h="174">
                <a:moveTo>
                  <a:pt x="96" y="174"/>
                </a:moveTo>
                <a:lnTo>
                  <a:pt x="96" y="30"/>
                </a:lnTo>
                <a:lnTo>
                  <a:pt x="24" y="0"/>
                </a:lnTo>
                <a:lnTo>
                  <a:pt x="0" y="78"/>
                </a:lnTo>
                <a:lnTo>
                  <a:pt x="0" y="174"/>
                </a:lnTo>
                <a:lnTo>
                  <a:pt x="96" y="174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4419720"/>
            <a:ext cx="38088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48" y="0"/>
                </a:moveTo>
                <a:lnTo>
                  <a:pt x="192" y="0"/>
                </a:lnTo>
                <a:lnTo>
                  <a:pt x="240" y="48"/>
                </a:lnTo>
                <a:lnTo>
                  <a:pt x="240" y="96"/>
                </a:lnTo>
                <a:lnTo>
                  <a:pt x="0" y="96"/>
                </a:lnTo>
                <a:lnTo>
                  <a:pt x="48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0560" y="5029200"/>
            <a:ext cx="399960" cy="266760"/>
          </a:xfrm>
          <a:custGeom>
            <a:avLst/>
            <a:gdLst/>
            <a:ahLst/>
            <a:rect l="l" t="t" r="r" b="b"/>
            <a:pathLst>
              <a:path w="252" h="168">
                <a:moveTo>
                  <a:pt x="0" y="144"/>
                </a:moveTo>
                <a:lnTo>
                  <a:pt x="60" y="168"/>
                </a:lnTo>
                <a:lnTo>
                  <a:pt x="174" y="144"/>
                </a:lnTo>
                <a:lnTo>
                  <a:pt x="252" y="66"/>
                </a:lnTo>
                <a:lnTo>
                  <a:pt x="126" y="0"/>
                </a:lnTo>
                <a:lnTo>
                  <a:pt x="30" y="0"/>
                </a:lnTo>
                <a:lnTo>
                  <a:pt x="0" y="144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4695840"/>
            <a:ext cx="314280" cy="295200"/>
          </a:xfrm>
          <a:custGeom>
            <a:avLst/>
            <a:gdLst/>
            <a:ahLst/>
            <a:rect l="l" t="t" r="r" b="b"/>
            <a:pathLst>
              <a:path w="198" h="186">
                <a:moveTo>
                  <a:pt x="0" y="186"/>
                </a:moveTo>
                <a:lnTo>
                  <a:pt x="84" y="186"/>
                </a:lnTo>
                <a:lnTo>
                  <a:pt x="198" y="66"/>
                </a:lnTo>
                <a:lnTo>
                  <a:pt x="144" y="0"/>
                </a:lnTo>
                <a:lnTo>
                  <a:pt x="6" y="114"/>
                </a:lnTo>
                <a:lnTo>
                  <a:pt x="0" y="18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85760" y="4533840"/>
            <a:ext cx="285840" cy="295200"/>
          </a:xfrm>
          <a:custGeom>
            <a:avLst/>
            <a:gdLst/>
            <a:ahLst/>
            <a:rect l="l" t="t" r="r" b="b"/>
            <a:pathLst>
              <a:path w="180" h="186">
                <a:moveTo>
                  <a:pt x="150" y="186"/>
                </a:moveTo>
                <a:lnTo>
                  <a:pt x="180" y="24"/>
                </a:lnTo>
                <a:lnTo>
                  <a:pt x="108" y="0"/>
                </a:lnTo>
                <a:lnTo>
                  <a:pt x="0" y="102"/>
                </a:lnTo>
                <a:lnTo>
                  <a:pt x="66" y="168"/>
                </a:lnTo>
                <a:lnTo>
                  <a:pt x="150" y="18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4829040"/>
            <a:ext cx="304560" cy="276480"/>
          </a:xfrm>
          <a:custGeom>
            <a:avLst/>
            <a:gdLst/>
            <a:ahLst/>
            <a:rect l="l" t="t" r="r" b="b"/>
            <a:pathLst>
              <a:path w="192" h="174">
                <a:moveTo>
                  <a:pt x="126" y="0"/>
                </a:moveTo>
                <a:lnTo>
                  <a:pt x="0" y="102"/>
                </a:lnTo>
                <a:lnTo>
                  <a:pt x="144" y="174"/>
                </a:lnTo>
                <a:lnTo>
                  <a:pt x="192" y="30"/>
                </a:lnTo>
                <a:lnTo>
                  <a:pt x="126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19600" y="6591240"/>
            <a:ext cx="276480" cy="200160"/>
          </a:xfrm>
          <a:custGeom>
            <a:avLst/>
            <a:gdLst/>
            <a:ahLst/>
            <a:rect l="l" t="t" r="r" b="b"/>
            <a:pathLst>
              <a:path w="174" h="126">
                <a:moveTo>
                  <a:pt x="0" y="0"/>
                </a:moveTo>
                <a:lnTo>
                  <a:pt x="12" y="120"/>
                </a:lnTo>
                <a:lnTo>
                  <a:pt x="84" y="126"/>
                </a:lnTo>
                <a:lnTo>
                  <a:pt x="174" y="84"/>
                </a:lnTo>
                <a:lnTo>
                  <a:pt x="108" y="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00760" y="6896160"/>
            <a:ext cx="523800" cy="371520"/>
          </a:xfrm>
          <a:custGeom>
            <a:avLst/>
            <a:gdLst/>
            <a:ahLst/>
            <a:rect l="l" t="t" r="r" b="b"/>
            <a:pathLst>
              <a:path w="330" h="234">
                <a:moveTo>
                  <a:pt x="0" y="72"/>
                </a:moveTo>
                <a:lnTo>
                  <a:pt x="264" y="0"/>
                </a:lnTo>
                <a:lnTo>
                  <a:pt x="330" y="168"/>
                </a:lnTo>
                <a:lnTo>
                  <a:pt x="84" y="234"/>
                </a:lnTo>
                <a:lnTo>
                  <a:pt x="0" y="7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29040" y="6696000"/>
            <a:ext cx="266760" cy="276480"/>
          </a:xfrm>
          <a:custGeom>
            <a:avLst/>
            <a:gdLst/>
            <a:ahLst/>
            <a:rect l="l" t="t" r="r" b="b"/>
            <a:pathLst>
              <a:path w="168" h="174">
                <a:moveTo>
                  <a:pt x="0" y="18"/>
                </a:moveTo>
                <a:lnTo>
                  <a:pt x="144" y="0"/>
                </a:lnTo>
                <a:lnTo>
                  <a:pt x="168" y="156"/>
                </a:lnTo>
                <a:lnTo>
                  <a:pt x="90" y="174"/>
                </a:lnTo>
                <a:lnTo>
                  <a:pt x="0" y="126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66960" y="6848640"/>
            <a:ext cx="400320" cy="419040"/>
          </a:xfrm>
          <a:custGeom>
            <a:avLst/>
            <a:gdLst/>
            <a:ahLst/>
            <a:rect l="l" t="t" r="r" b="b"/>
            <a:pathLst>
              <a:path w="252" h="264">
                <a:moveTo>
                  <a:pt x="0" y="24"/>
                </a:moveTo>
                <a:lnTo>
                  <a:pt x="24" y="144"/>
                </a:lnTo>
                <a:lnTo>
                  <a:pt x="162" y="156"/>
                </a:lnTo>
                <a:lnTo>
                  <a:pt x="180" y="264"/>
                </a:lnTo>
                <a:lnTo>
                  <a:pt x="222" y="246"/>
                </a:lnTo>
                <a:lnTo>
                  <a:pt x="252" y="18"/>
                </a:lnTo>
                <a:lnTo>
                  <a:pt x="168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7010280"/>
            <a:ext cx="228600" cy="324000"/>
          </a:xfrm>
          <a:custGeom>
            <a:avLst/>
            <a:gdLst/>
            <a:ahLst/>
            <a:rect l="l" t="t" r="r" b="b"/>
            <a:pathLst>
              <a:path w="144" h="204">
                <a:moveTo>
                  <a:pt x="144" y="144"/>
                </a:moveTo>
                <a:lnTo>
                  <a:pt x="144" y="0"/>
                </a:lnTo>
                <a:lnTo>
                  <a:pt x="48" y="0"/>
                </a:lnTo>
                <a:lnTo>
                  <a:pt x="0" y="192"/>
                </a:lnTo>
                <a:lnTo>
                  <a:pt x="132" y="204"/>
                </a:lnTo>
                <a:lnTo>
                  <a:pt x="126" y="162"/>
                </a:lnTo>
                <a:lnTo>
                  <a:pt x="144" y="1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76400" y="7391520"/>
            <a:ext cx="552600" cy="571320"/>
          </a:xfrm>
          <a:custGeom>
            <a:avLst/>
            <a:gdLst/>
            <a:ahLst/>
            <a:rect l="l" t="t" r="r" b="b"/>
            <a:pathLst>
              <a:path w="348" h="360">
                <a:moveTo>
                  <a:pt x="162" y="192"/>
                </a:moveTo>
                <a:lnTo>
                  <a:pt x="0" y="174"/>
                </a:lnTo>
                <a:lnTo>
                  <a:pt x="12" y="0"/>
                </a:lnTo>
                <a:lnTo>
                  <a:pt x="156" y="0"/>
                </a:lnTo>
                <a:lnTo>
                  <a:pt x="198" y="72"/>
                </a:lnTo>
                <a:lnTo>
                  <a:pt x="348" y="54"/>
                </a:lnTo>
                <a:lnTo>
                  <a:pt x="312" y="360"/>
                </a:lnTo>
                <a:lnTo>
                  <a:pt x="144" y="342"/>
                </a:lnTo>
                <a:lnTo>
                  <a:pt x="162" y="192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76520" y="7372440"/>
            <a:ext cx="552600" cy="333360"/>
          </a:xfrm>
          <a:custGeom>
            <a:avLst/>
            <a:gdLst/>
            <a:ahLst/>
            <a:rect l="l" t="t" r="r" b="b"/>
            <a:pathLst>
              <a:path w="348" h="210">
                <a:moveTo>
                  <a:pt x="144" y="42"/>
                </a:moveTo>
                <a:lnTo>
                  <a:pt x="330" y="0"/>
                </a:lnTo>
                <a:lnTo>
                  <a:pt x="348" y="42"/>
                </a:lnTo>
                <a:lnTo>
                  <a:pt x="288" y="210"/>
                </a:lnTo>
                <a:lnTo>
                  <a:pt x="162" y="204"/>
                </a:lnTo>
                <a:lnTo>
                  <a:pt x="0" y="186"/>
                </a:lnTo>
                <a:lnTo>
                  <a:pt x="18" y="60"/>
                </a:lnTo>
                <a:lnTo>
                  <a:pt x="144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7391520"/>
            <a:ext cx="609480" cy="53316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96" y="0"/>
                </a:moveTo>
                <a:lnTo>
                  <a:pt x="360" y="12"/>
                </a:lnTo>
                <a:lnTo>
                  <a:pt x="360" y="132"/>
                </a:lnTo>
                <a:lnTo>
                  <a:pt x="384" y="144"/>
                </a:lnTo>
                <a:lnTo>
                  <a:pt x="384" y="288"/>
                </a:lnTo>
                <a:lnTo>
                  <a:pt x="48" y="336"/>
                </a:lnTo>
                <a:lnTo>
                  <a:pt x="0" y="192"/>
                </a:lnTo>
                <a:lnTo>
                  <a:pt x="48" y="48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6943680"/>
            <a:ext cx="380880" cy="295200"/>
          </a:xfrm>
          <a:custGeom>
            <a:avLst/>
            <a:gdLst/>
            <a:ahLst/>
            <a:rect l="l" t="t" r="r" b="b"/>
            <a:pathLst>
              <a:path w="240" h="186">
                <a:moveTo>
                  <a:pt x="18" y="0"/>
                </a:moveTo>
                <a:lnTo>
                  <a:pt x="18" y="162"/>
                </a:lnTo>
                <a:lnTo>
                  <a:pt x="0" y="186"/>
                </a:lnTo>
                <a:lnTo>
                  <a:pt x="240" y="138"/>
                </a:lnTo>
                <a:lnTo>
                  <a:pt x="192" y="42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62640" y="7201080"/>
            <a:ext cx="466560" cy="399960"/>
          </a:xfrm>
          <a:custGeom>
            <a:avLst/>
            <a:gdLst/>
            <a:ahLst/>
            <a:rect l="l" t="t" r="r" b="b"/>
            <a:pathLst>
              <a:path w="294" h="252">
                <a:moveTo>
                  <a:pt x="294" y="72"/>
                </a:moveTo>
                <a:lnTo>
                  <a:pt x="24" y="252"/>
                </a:lnTo>
                <a:lnTo>
                  <a:pt x="0" y="192"/>
                </a:lnTo>
                <a:lnTo>
                  <a:pt x="6" y="42"/>
                </a:lnTo>
                <a:lnTo>
                  <a:pt x="234" y="0"/>
                </a:lnTo>
                <a:lnTo>
                  <a:pt x="294" y="7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7567800">
            <a:off x="2894760" y="5533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6229440"/>
            <a:ext cx="381240" cy="476280"/>
          </a:xfrm>
          <a:custGeom>
            <a:avLst/>
            <a:gdLst/>
            <a:ahLst/>
            <a:rect l="l" t="t" r="r" b="b"/>
            <a:pathLst>
              <a:path w="240" h="300">
                <a:moveTo>
                  <a:pt x="162" y="0"/>
                </a:moveTo>
                <a:lnTo>
                  <a:pt x="240" y="60"/>
                </a:lnTo>
                <a:lnTo>
                  <a:pt x="144" y="300"/>
                </a:lnTo>
                <a:lnTo>
                  <a:pt x="0" y="300"/>
                </a:lnTo>
                <a:lnTo>
                  <a:pt x="0" y="252"/>
                </a:lnTo>
                <a:lnTo>
                  <a:pt x="78" y="90"/>
                </a:lnTo>
                <a:lnTo>
                  <a:pt x="16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05080" y="5010120"/>
            <a:ext cx="295200" cy="380880"/>
          </a:xfrm>
          <a:custGeom>
            <a:avLst/>
            <a:gdLst/>
            <a:ahLst/>
            <a:rect l="l" t="t" r="r" b="b"/>
            <a:pathLst>
              <a:path w="186" h="240">
                <a:moveTo>
                  <a:pt x="96" y="0"/>
                </a:moveTo>
                <a:lnTo>
                  <a:pt x="186" y="42"/>
                </a:lnTo>
                <a:lnTo>
                  <a:pt x="96" y="192"/>
                </a:lnTo>
                <a:lnTo>
                  <a:pt x="0" y="240"/>
                </a:lnTo>
                <a:lnTo>
                  <a:pt x="0" y="96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5362560"/>
            <a:ext cx="333360" cy="276120"/>
          </a:xfrm>
          <a:custGeom>
            <a:avLst/>
            <a:gdLst/>
            <a:ahLst/>
            <a:rect l="l" t="t" r="r" b="b"/>
            <a:pathLst>
              <a:path w="210" h="174">
                <a:moveTo>
                  <a:pt x="126" y="0"/>
                </a:moveTo>
                <a:lnTo>
                  <a:pt x="210" y="90"/>
                </a:lnTo>
                <a:lnTo>
                  <a:pt x="168" y="174"/>
                </a:lnTo>
                <a:lnTo>
                  <a:pt x="0" y="174"/>
                </a:lnTo>
                <a:lnTo>
                  <a:pt x="0" y="30"/>
                </a:lnTo>
                <a:lnTo>
                  <a:pt x="24" y="48"/>
                </a:lnTo>
                <a:lnTo>
                  <a:pt x="12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5667480"/>
            <a:ext cx="361800" cy="228600"/>
          </a:xfrm>
          <a:custGeom>
            <a:avLst/>
            <a:gdLst/>
            <a:ahLst/>
            <a:rect l="l" t="t" r="r" b="b"/>
            <a:pathLst>
              <a:path w="228" h="144">
                <a:moveTo>
                  <a:pt x="0" y="78"/>
                </a:moveTo>
                <a:lnTo>
                  <a:pt x="168" y="144"/>
                </a:lnTo>
                <a:lnTo>
                  <a:pt x="228" y="108"/>
                </a:lnTo>
                <a:lnTo>
                  <a:pt x="144" y="84"/>
                </a:lnTo>
                <a:lnTo>
                  <a:pt x="144" y="0"/>
                </a:lnTo>
                <a:lnTo>
                  <a:pt x="18" y="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0320" y="6048360"/>
            <a:ext cx="361800" cy="399960"/>
          </a:xfrm>
          <a:custGeom>
            <a:avLst/>
            <a:gdLst/>
            <a:ahLst/>
            <a:rect l="l" t="t" r="r" b="b"/>
            <a:pathLst>
              <a:path w="228" h="252">
                <a:moveTo>
                  <a:pt x="0" y="126"/>
                </a:moveTo>
                <a:lnTo>
                  <a:pt x="18" y="0"/>
                </a:lnTo>
                <a:lnTo>
                  <a:pt x="144" y="54"/>
                </a:lnTo>
                <a:lnTo>
                  <a:pt x="228" y="78"/>
                </a:lnTo>
                <a:lnTo>
                  <a:pt x="210" y="252"/>
                </a:lnTo>
                <a:lnTo>
                  <a:pt x="0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71840" y="6134040"/>
            <a:ext cx="237960" cy="362160"/>
          </a:xfrm>
          <a:custGeom>
            <a:avLst/>
            <a:gdLst/>
            <a:ahLst/>
            <a:rect l="l" t="t" r="r" b="b"/>
            <a:pathLst>
              <a:path w="150" h="228">
                <a:moveTo>
                  <a:pt x="126" y="0"/>
                </a:moveTo>
                <a:lnTo>
                  <a:pt x="84" y="42"/>
                </a:lnTo>
                <a:lnTo>
                  <a:pt x="12" y="24"/>
                </a:lnTo>
                <a:lnTo>
                  <a:pt x="0" y="192"/>
                </a:lnTo>
                <a:lnTo>
                  <a:pt x="84" y="228"/>
                </a:lnTo>
                <a:lnTo>
                  <a:pt x="150" y="18"/>
                </a:lnTo>
                <a:lnTo>
                  <a:pt x="12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81200" y="6620040"/>
            <a:ext cx="505080" cy="237960"/>
          </a:xfrm>
          <a:custGeom>
            <a:avLst/>
            <a:gdLst/>
            <a:ahLst/>
            <a:rect l="l" t="t" r="r" b="b"/>
            <a:pathLst>
              <a:path w="318" h="150">
                <a:moveTo>
                  <a:pt x="18" y="18"/>
                </a:moveTo>
                <a:lnTo>
                  <a:pt x="126" y="0"/>
                </a:lnTo>
                <a:lnTo>
                  <a:pt x="318" y="102"/>
                </a:lnTo>
                <a:lnTo>
                  <a:pt x="276" y="150"/>
                </a:lnTo>
                <a:lnTo>
                  <a:pt x="84" y="144"/>
                </a:lnTo>
                <a:lnTo>
                  <a:pt x="0" y="114"/>
                </a:lnTo>
                <a:lnTo>
                  <a:pt x="18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70200" y="8140680"/>
            <a:ext cx="800280" cy="136440"/>
          </a:xfrm>
          <a:custGeom>
            <a:avLst/>
            <a:gdLst/>
            <a:ahLst/>
            <a:rect l="l" t="t" r="r" b="b"/>
            <a:pathLst>
              <a:path w="504" h="86">
                <a:moveTo>
                  <a:pt x="40" y="56"/>
                </a:moveTo>
                <a:cubicBezTo>
                  <a:pt x="68" y="43"/>
                  <a:pt x="160" y="16"/>
                  <a:pt x="232" y="8"/>
                </a:cubicBezTo>
                <a:cubicBezTo>
                  <a:pt x="304" y="0"/>
                  <a:pt x="440" y="0"/>
                  <a:pt x="472" y="8"/>
                </a:cubicBezTo>
                <a:cubicBezTo>
                  <a:pt x="504" y="16"/>
                  <a:pt x="492" y="43"/>
                  <a:pt x="424" y="56"/>
                </a:cubicBezTo>
                <a:cubicBezTo>
                  <a:pt x="356" y="69"/>
                  <a:pt x="128" y="86"/>
                  <a:pt x="64" y="86"/>
                </a:cubicBezTo>
                <a:cubicBezTo>
                  <a:pt x="0" y="86"/>
                  <a:pt x="45" y="62"/>
                  <a:pt x="40" y="56"/>
                </a:cubicBezTo>
                <a:close/>
              </a:path>
            </a:pathLst>
          </a:custGeom>
          <a:solidFill>
            <a:srgbClr val="f3f2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09960" y="6343560"/>
            <a:ext cx="361800" cy="362160"/>
          </a:xfrm>
          <a:custGeom>
            <a:avLst/>
            <a:gdLst/>
            <a:ahLst/>
            <a:rect l="l" t="t" r="r" b="b"/>
            <a:pathLst>
              <a:path w="228" h="228">
                <a:moveTo>
                  <a:pt x="72" y="228"/>
                </a:moveTo>
                <a:lnTo>
                  <a:pt x="168" y="228"/>
                </a:lnTo>
                <a:lnTo>
                  <a:pt x="228" y="60"/>
                </a:lnTo>
                <a:lnTo>
                  <a:pt x="84" y="0"/>
                </a:lnTo>
                <a:lnTo>
                  <a:pt x="0" y="186"/>
                </a:lnTo>
                <a:lnTo>
                  <a:pt x="72" y="2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05160" y="6505560"/>
            <a:ext cx="266760" cy="20016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42"/>
                </a:moveTo>
                <a:lnTo>
                  <a:pt x="168" y="126"/>
                </a:lnTo>
                <a:lnTo>
                  <a:pt x="0" y="126"/>
                </a:lnTo>
                <a:lnTo>
                  <a:pt x="42" y="0"/>
                </a:lnTo>
                <a:lnTo>
                  <a:pt x="168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38800"/>
            <a:ext cx="479520" cy="1127160"/>
          </a:xfrm>
          <a:custGeom>
            <a:avLst/>
            <a:gdLst/>
            <a:ahLst/>
            <a:rect l="l" t="t" r="r" b="b"/>
            <a:pathLst>
              <a:path w="302" h="710">
                <a:moveTo>
                  <a:pt x="66" y="0"/>
                </a:moveTo>
                <a:cubicBezTo>
                  <a:pt x="50" y="8"/>
                  <a:pt x="59" y="221"/>
                  <a:pt x="48" y="294"/>
                </a:cubicBezTo>
                <a:cubicBezTo>
                  <a:pt x="37" y="367"/>
                  <a:pt x="0" y="390"/>
                  <a:pt x="0" y="438"/>
                </a:cubicBezTo>
                <a:cubicBezTo>
                  <a:pt x="0" y="486"/>
                  <a:pt x="30" y="550"/>
                  <a:pt x="48" y="582"/>
                </a:cubicBezTo>
                <a:cubicBezTo>
                  <a:pt x="66" y="614"/>
                  <a:pt x="84" y="629"/>
                  <a:pt x="108" y="630"/>
                </a:cubicBezTo>
                <a:cubicBezTo>
                  <a:pt x="132" y="631"/>
                  <a:pt x="161" y="584"/>
                  <a:pt x="192" y="588"/>
                </a:cubicBezTo>
                <a:cubicBezTo>
                  <a:pt x="216" y="596"/>
                  <a:pt x="302" y="710"/>
                  <a:pt x="294" y="654"/>
                </a:cubicBezTo>
                <a:lnTo>
                  <a:pt x="144" y="246"/>
                </a:lnTo>
                <a:lnTo>
                  <a:pt x="66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7480" y="7772400"/>
            <a:ext cx="161640" cy="466560"/>
          </a:xfrm>
          <a:custGeom>
            <a:avLst/>
            <a:gdLst/>
            <a:ahLst/>
            <a:rect l="l" t="t" r="r" b="b"/>
            <a:pathLst>
              <a:path w="102" h="294">
                <a:moveTo>
                  <a:pt x="60" y="0"/>
                </a:moveTo>
                <a:lnTo>
                  <a:pt x="102" y="294"/>
                </a:lnTo>
                <a:lnTo>
                  <a:pt x="0" y="210"/>
                </a:lnTo>
                <a:lnTo>
                  <a:pt x="60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7143840"/>
            <a:ext cx="392040" cy="1390680"/>
          </a:xfrm>
          <a:custGeom>
            <a:avLst/>
            <a:gdLst/>
            <a:ahLst/>
            <a:rect l="l" t="t" r="r" b="b"/>
            <a:pathLst>
              <a:path w="247" h="876">
                <a:moveTo>
                  <a:pt x="186" y="0"/>
                </a:moveTo>
                <a:cubicBezTo>
                  <a:pt x="192" y="42"/>
                  <a:pt x="247" y="186"/>
                  <a:pt x="240" y="252"/>
                </a:cubicBezTo>
                <a:cubicBezTo>
                  <a:pt x="233" y="318"/>
                  <a:pt x="168" y="332"/>
                  <a:pt x="144" y="396"/>
                </a:cubicBezTo>
                <a:cubicBezTo>
                  <a:pt x="120" y="460"/>
                  <a:pt x="104" y="572"/>
                  <a:pt x="96" y="636"/>
                </a:cubicBezTo>
                <a:cubicBezTo>
                  <a:pt x="88" y="700"/>
                  <a:pt x="112" y="740"/>
                  <a:pt x="96" y="780"/>
                </a:cubicBezTo>
                <a:cubicBezTo>
                  <a:pt x="80" y="820"/>
                  <a:pt x="16" y="860"/>
                  <a:pt x="0" y="876"/>
                </a:cubicBezTo>
              </a:path>
            </a:pathLst>
          </a:custGeom>
          <a:noFill/>
          <a:ln w="2844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62200" y="646740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126" y="0"/>
                </a:moveTo>
                <a:lnTo>
                  <a:pt x="144" y="42"/>
                </a:lnTo>
                <a:lnTo>
                  <a:pt x="138" y="102"/>
                </a:lnTo>
                <a:lnTo>
                  <a:pt x="234" y="198"/>
                </a:lnTo>
                <a:lnTo>
                  <a:pt x="144" y="318"/>
                </a:lnTo>
                <a:lnTo>
                  <a:pt x="42" y="246"/>
                </a:lnTo>
                <a:lnTo>
                  <a:pt x="0" y="84"/>
                </a:lnTo>
                <a:lnTo>
                  <a:pt x="0" y="42"/>
                </a:lnTo>
                <a:lnTo>
                  <a:pt x="12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19120" y="6600960"/>
            <a:ext cx="371520" cy="333360"/>
          </a:xfrm>
          <a:custGeom>
            <a:avLst/>
            <a:gdLst/>
            <a:ahLst/>
            <a:rect l="l" t="t" r="r" b="b"/>
            <a:pathLst>
              <a:path w="234" h="210">
                <a:moveTo>
                  <a:pt x="0" y="72"/>
                </a:moveTo>
                <a:lnTo>
                  <a:pt x="48" y="210"/>
                </a:lnTo>
                <a:lnTo>
                  <a:pt x="234" y="150"/>
                </a:lnTo>
                <a:lnTo>
                  <a:pt x="192" y="0"/>
                </a:lnTo>
                <a:lnTo>
                  <a:pt x="0" y="7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57280" y="6867360"/>
            <a:ext cx="333360" cy="276480"/>
          </a:xfrm>
          <a:custGeom>
            <a:avLst/>
            <a:gdLst/>
            <a:ahLst/>
            <a:rect l="l" t="t" r="r" b="b"/>
            <a:pathLst>
              <a:path w="210" h="174">
                <a:moveTo>
                  <a:pt x="210" y="0"/>
                </a:moveTo>
                <a:lnTo>
                  <a:pt x="144" y="108"/>
                </a:lnTo>
                <a:lnTo>
                  <a:pt x="18" y="174"/>
                </a:lnTo>
                <a:lnTo>
                  <a:pt x="0" y="72"/>
                </a:lnTo>
                <a:lnTo>
                  <a:pt x="21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7105680"/>
            <a:ext cx="266760" cy="438120"/>
          </a:xfrm>
          <a:custGeom>
            <a:avLst/>
            <a:gdLst/>
            <a:ahLst/>
            <a:rect l="l" t="t" r="r" b="b"/>
            <a:pathLst>
              <a:path w="168" h="276">
                <a:moveTo>
                  <a:pt x="168" y="60"/>
                </a:moveTo>
                <a:lnTo>
                  <a:pt x="96" y="180"/>
                </a:lnTo>
                <a:lnTo>
                  <a:pt x="144" y="228"/>
                </a:lnTo>
                <a:lnTo>
                  <a:pt x="96" y="276"/>
                </a:lnTo>
                <a:lnTo>
                  <a:pt x="48" y="228"/>
                </a:lnTo>
                <a:lnTo>
                  <a:pt x="0" y="36"/>
                </a:lnTo>
                <a:lnTo>
                  <a:pt x="102" y="0"/>
                </a:lnTo>
                <a:lnTo>
                  <a:pt x="168" y="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24040" y="7372440"/>
            <a:ext cx="609480" cy="361800"/>
          </a:xfrm>
          <a:custGeom>
            <a:avLst/>
            <a:gdLst/>
            <a:ahLst/>
            <a:rect l="l" t="t" r="r" b="b"/>
            <a:pathLst>
              <a:path w="384" h="228">
                <a:moveTo>
                  <a:pt x="270" y="186"/>
                </a:moveTo>
                <a:lnTo>
                  <a:pt x="384" y="102"/>
                </a:lnTo>
                <a:lnTo>
                  <a:pt x="234" y="0"/>
                </a:lnTo>
                <a:lnTo>
                  <a:pt x="114" y="108"/>
                </a:lnTo>
                <a:lnTo>
                  <a:pt x="42" y="78"/>
                </a:lnTo>
                <a:lnTo>
                  <a:pt x="0" y="144"/>
                </a:lnTo>
                <a:lnTo>
                  <a:pt x="126" y="228"/>
                </a:lnTo>
                <a:lnTo>
                  <a:pt x="270" y="18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7543800"/>
            <a:ext cx="380880" cy="200160"/>
          </a:xfrm>
          <a:custGeom>
            <a:avLst/>
            <a:gdLst/>
            <a:ahLst/>
            <a:rect l="l" t="t" r="r" b="b"/>
            <a:pathLst>
              <a:path w="240" h="126">
                <a:moveTo>
                  <a:pt x="240" y="96"/>
                </a:moveTo>
                <a:lnTo>
                  <a:pt x="144" y="0"/>
                </a:lnTo>
                <a:lnTo>
                  <a:pt x="0" y="96"/>
                </a:lnTo>
                <a:lnTo>
                  <a:pt x="60" y="126"/>
                </a:lnTo>
                <a:lnTo>
                  <a:pt x="240" y="9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48000" y="7020000"/>
            <a:ext cx="38088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96" y="0"/>
                </a:moveTo>
                <a:lnTo>
                  <a:pt x="240" y="0"/>
                </a:lnTo>
                <a:lnTo>
                  <a:pt x="192" y="288"/>
                </a:lnTo>
                <a:lnTo>
                  <a:pt x="0" y="144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410080"/>
            <a:ext cx="22860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48" y="0"/>
                </a:moveTo>
                <a:lnTo>
                  <a:pt x="144" y="48"/>
                </a:lnTo>
                <a:lnTo>
                  <a:pt x="96" y="288"/>
                </a:lnTo>
                <a:lnTo>
                  <a:pt x="0" y="240"/>
                </a:lnTo>
                <a:lnTo>
                  <a:pt x="0" y="48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14360" y="6267600"/>
            <a:ext cx="371520" cy="371160"/>
          </a:xfrm>
          <a:custGeom>
            <a:avLst/>
            <a:gdLst/>
            <a:ahLst/>
            <a:rect l="l" t="t" r="r" b="b"/>
            <a:pathLst>
              <a:path w="234" h="234">
                <a:moveTo>
                  <a:pt x="48" y="234"/>
                </a:moveTo>
                <a:lnTo>
                  <a:pt x="0" y="144"/>
                </a:lnTo>
                <a:lnTo>
                  <a:pt x="0" y="0"/>
                </a:lnTo>
                <a:lnTo>
                  <a:pt x="126" y="0"/>
                </a:lnTo>
                <a:lnTo>
                  <a:pt x="174" y="36"/>
                </a:lnTo>
                <a:lnTo>
                  <a:pt x="234" y="168"/>
                </a:lnTo>
                <a:lnTo>
                  <a:pt x="48" y="2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52680" y="6029280"/>
            <a:ext cx="352440" cy="438120"/>
          </a:xfrm>
          <a:custGeom>
            <a:avLst/>
            <a:gdLst/>
            <a:ahLst/>
            <a:rect l="l" t="t" r="r" b="b"/>
            <a:pathLst>
              <a:path w="222" h="276">
                <a:moveTo>
                  <a:pt x="0" y="0"/>
                </a:moveTo>
                <a:lnTo>
                  <a:pt x="126" y="6"/>
                </a:lnTo>
                <a:lnTo>
                  <a:pt x="132" y="66"/>
                </a:lnTo>
                <a:lnTo>
                  <a:pt x="222" y="234"/>
                </a:lnTo>
                <a:lnTo>
                  <a:pt x="108" y="276"/>
                </a:lnTo>
                <a:lnTo>
                  <a:pt x="0" y="1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890200">
            <a:off x="4041360" y="8194680"/>
            <a:ext cx="8568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4105440" y="7924320"/>
            <a:ext cx="9360" cy="30492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38480" y="8305920"/>
            <a:ext cx="47880" cy="45720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876312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96" y="0"/>
                </a:moveTo>
                <a:lnTo>
                  <a:pt x="240" y="0"/>
                </a:lnTo>
                <a:lnTo>
                  <a:pt x="288" y="96"/>
                </a:lnTo>
                <a:lnTo>
                  <a:pt x="288" y="240"/>
                </a:lnTo>
                <a:lnTo>
                  <a:pt x="240" y="240"/>
                </a:lnTo>
                <a:lnTo>
                  <a:pt x="0" y="192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57440" y="8810640"/>
            <a:ext cx="40032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252" y="48"/>
                </a:moveTo>
                <a:lnTo>
                  <a:pt x="168" y="192"/>
                </a:lnTo>
                <a:lnTo>
                  <a:pt x="0" y="114"/>
                </a:lnTo>
                <a:lnTo>
                  <a:pt x="24" y="0"/>
                </a:lnTo>
                <a:lnTo>
                  <a:pt x="210" y="6"/>
                </a:lnTo>
                <a:lnTo>
                  <a:pt x="252" y="48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34040" y="8753400"/>
            <a:ext cx="799920" cy="238320"/>
          </a:xfrm>
          <a:custGeom>
            <a:avLst/>
            <a:gdLst/>
            <a:ahLst/>
            <a:rect l="l" t="t" r="r" b="b"/>
            <a:pathLst>
              <a:path w="504" h="150">
                <a:moveTo>
                  <a:pt x="44" y="42"/>
                </a:moveTo>
                <a:lnTo>
                  <a:pt x="0" y="74"/>
                </a:lnTo>
                <a:lnTo>
                  <a:pt x="0" y="131"/>
                </a:lnTo>
                <a:lnTo>
                  <a:pt x="185" y="150"/>
                </a:lnTo>
                <a:lnTo>
                  <a:pt x="504" y="66"/>
                </a:lnTo>
                <a:lnTo>
                  <a:pt x="462" y="0"/>
                </a:lnTo>
                <a:lnTo>
                  <a:pt x="44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4038480"/>
            <a:ext cx="3429000" cy="2286000"/>
          </a:xfrm>
          <a:custGeom>
            <a:avLst/>
            <a:gdLst/>
            <a:ahLst/>
            <a:rect l="l" t="t" r="r" b="b"/>
            <a:pathLst>
              <a:path w="2160" h="1440">
                <a:moveTo>
                  <a:pt x="0" y="48"/>
                </a:moveTo>
                <a:lnTo>
                  <a:pt x="192" y="0"/>
                </a:lnTo>
                <a:lnTo>
                  <a:pt x="672" y="144"/>
                </a:lnTo>
                <a:lnTo>
                  <a:pt x="768" y="192"/>
                </a:lnTo>
                <a:lnTo>
                  <a:pt x="1200" y="432"/>
                </a:lnTo>
                <a:lnTo>
                  <a:pt x="1680" y="960"/>
                </a:lnTo>
                <a:lnTo>
                  <a:pt x="1680" y="1008"/>
                </a:lnTo>
                <a:lnTo>
                  <a:pt x="1968" y="1200"/>
                </a:lnTo>
                <a:lnTo>
                  <a:pt x="2052" y="1242"/>
                </a:lnTo>
                <a:lnTo>
                  <a:pt x="2160" y="14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4191120"/>
            <a:ext cx="761760" cy="1295280"/>
          </a:xfrm>
          <a:custGeom>
            <a:avLst/>
            <a:gdLst/>
            <a:ahLst/>
            <a:rect l="l" t="t" r="r" b="b"/>
            <a:pathLst>
              <a:path w="480" h="816">
                <a:moveTo>
                  <a:pt x="480" y="0"/>
                </a:moveTo>
                <a:lnTo>
                  <a:pt x="432" y="48"/>
                </a:lnTo>
                <a:lnTo>
                  <a:pt x="240" y="192"/>
                </a:lnTo>
                <a:lnTo>
                  <a:pt x="240" y="336"/>
                </a:lnTo>
                <a:lnTo>
                  <a:pt x="144" y="576"/>
                </a:lnTo>
                <a:lnTo>
                  <a:pt x="48" y="768"/>
                </a:lnTo>
                <a:lnTo>
                  <a:pt x="0" y="8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647712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0"/>
                </a:moveTo>
                <a:lnTo>
                  <a:pt x="144" y="144"/>
                </a:lnTo>
                <a:lnTo>
                  <a:pt x="288" y="4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419720"/>
            <a:ext cx="419040" cy="304560"/>
          </a:xfrm>
          <a:custGeom>
            <a:avLst/>
            <a:gdLst/>
            <a:ahLst/>
            <a:rect l="l" t="t" r="r" b="b"/>
            <a:pathLst>
              <a:path w="264" h="192">
                <a:moveTo>
                  <a:pt x="0" y="144"/>
                </a:moveTo>
                <a:lnTo>
                  <a:pt x="258" y="192"/>
                </a:lnTo>
                <a:lnTo>
                  <a:pt x="264" y="108"/>
                </a:lnTo>
                <a:lnTo>
                  <a:pt x="240" y="0"/>
                </a:lnTo>
                <a:lnTo>
                  <a:pt x="0" y="48"/>
                </a:lnTo>
                <a:lnTo>
                  <a:pt x="0" y="1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4200">
            <a:off x="4833720" y="7481880"/>
            <a:ext cx="85680" cy="228600"/>
          </a:xfrm>
          <a:custGeom>
            <a:avLst/>
            <a:gdLst/>
            <a:ahLst/>
            <a:rect l="l" t="t" r="r" b="b"/>
            <a:pathLst>
              <a:path w="256" h="594">
                <a:moveTo>
                  <a:pt x="133" y="0"/>
                </a:moveTo>
                <a:cubicBezTo>
                  <a:pt x="165" y="1"/>
                  <a:pt x="209" y="159"/>
                  <a:pt x="224" y="258"/>
                </a:cubicBezTo>
                <a:cubicBezTo>
                  <a:pt x="239" y="357"/>
                  <a:pt x="256" y="538"/>
                  <a:pt x="224" y="594"/>
                </a:cubicBezTo>
                <a:lnTo>
                  <a:pt x="32" y="594"/>
                </a:lnTo>
                <a:cubicBezTo>
                  <a:pt x="0" y="537"/>
                  <a:pt x="15" y="351"/>
                  <a:pt x="32" y="252"/>
                </a:cubicBezTo>
                <a:cubicBezTo>
                  <a:pt x="49" y="153"/>
                  <a:pt x="112" y="52"/>
                  <a:pt x="133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3793800">
            <a:off x="3576240" y="7691400"/>
            <a:ext cx="85680" cy="228600"/>
          </a:xfrm>
          <a:custGeom>
            <a:avLst/>
            <a:gdLst/>
            <a:ahLst/>
            <a:rect l="l" t="t" r="r" b="b"/>
            <a:pathLst>
              <a:path w="256" h="594">
                <a:moveTo>
                  <a:pt x="133" y="0"/>
                </a:moveTo>
                <a:cubicBezTo>
                  <a:pt x="165" y="1"/>
                  <a:pt x="209" y="159"/>
                  <a:pt x="224" y="258"/>
                </a:cubicBezTo>
                <a:cubicBezTo>
                  <a:pt x="239" y="357"/>
                  <a:pt x="256" y="538"/>
                  <a:pt x="224" y="594"/>
                </a:cubicBezTo>
                <a:lnTo>
                  <a:pt x="32" y="594"/>
                </a:lnTo>
                <a:cubicBezTo>
                  <a:pt x="0" y="537"/>
                  <a:pt x="15" y="351"/>
                  <a:pt x="32" y="252"/>
                </a:cubicBezTo>
                <a:cubicBezTo>
                  <a:pt x="49" y="153"/>
                  <a:pt x="112" y="52"/>
                  <a:pt x="133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141800">
            <a:off x="4986000" y="7443720"/>
            <a:ext cx="85680" cy="228600"/>
          </a:xfrm>
          <a:custGeom>
            <a:avLst/>
            <a:gdLst/>
            <a:ahLst/>
            <a:rect l="l" t="t" r="r" b="b"/>
            <a:pathLst>
              <a:path w="256" h="594">
                <a:moveTo>
                  <a:pt x="133" y="0"/>
                </a:moveTo>
                <a:cubicBezTo>
                  <a:pt x="165" y="1"/>
                  <a:pt x="209" y="159"/>
                  <a:pt x="224" y="258"/>
                </a:cubicBezTo>
                <a:cubicBezTo>
                  <a:pt x="239" y="357"/>
                  <a:pt x="256" y="538"/>
                  <a:pt x="224" y="594"/>
                </a:cubicBezTo>
                <a:lnTo>
                  <a:pt x="32" y="594"/>
                </a:lnTo>
                <a:cubicBezTo>
                  <a:pt x="0" y="537"/>
                  <a:pt x="15" y="351"/>
                  <a:pt x="32" y="252"/>
                </a:cubicBezTo>
                <a:cubicBezTo>
                  <a:pt x="49" y="153"/>
                  <a:pt x="112" y="52"/>
                  <a:pt x="133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1877600">
            <a:off x="4376520" y="8557560"/>
            <a:ext cx="85680" cy="228600"/>
          </a:xfrm>
          <a:custGeom>
            <a:avLst/>
            <a:gdLst/>
            <a:ahLst/>
            <a:rect l="l" t="t" r="r" b="b"/>
            <a:pathLst>
              <a:path w="256" h="594">
                <a:moveTo>
                  <a:pt x="133" y="0"/>
                </a:moveTo>
                <a:cubicBezTo>
                  <a:pt x="165" y="1"/>
                  <a:pt x="209" y="159"/>
                  <a:pt x="224" y="258"/>
                </a:cubicBezTo>
                <a:cubicBezTo>
                  <a:pt x="239" y="357"/>
                  <a:pt x="256" y="538"/>
                  <a:pt x="224" y="594"/>
                </a:cubicBezTo>
                <a:lnTo>
                  <a:pt x="32" y="594"/>
                </a:lnTo>
                <a:cubicBezTo>
                  <a:pt x="0" y="537"/>
                  <a:pt x="15" y="351"/>
                  <a:pt x="32" y="252"/>
                </a:cubicBezTo>
                <a:cubicBezTo>
                  <a:pt x="49" y="153"/>
                  <a:pt x="112" y="52"/>
                  <a:pt x="133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3925800"/>
            <a:ext cx="1947960" cy="341280"/>
          </a:xfrm>
          <a:custGeom>
            <a:avLst/>
            <a:gdLst/>
            <a:ahLst/>
            <a:rect l="l" t="t" r="r" b="b"/>
            <a:pathLst>
              <a:path w="1227" h="215">
                <a:moveTo>
                  <a:pt x="0" y="119"/>
                </a:moveTo>
                <a:cubicBezTo>
                  <a:pt x="79" y="119"/>
                  <a:pt x="347" y="138"/>
                  <a:pt x="472" y="119"/>
                </a:cubicBezTo>
                <a:cubicBezTo>
                  <a:pt x="597" y="100"/>
                  <a:pt x="641" y="14"/>
                  <a:pt x="752" y="7"/>
                </a:cubicBezTo>
                <a:cubicBezTo>
                  <a:pt x="863" y="0"/>
                  <a:pt x="1057" y="43"/>
                  <a:pt x="1136" y="78"/>
                </a:cubicBezTo>
                <a:cubicBezTo>
                  <a:pt x="1227" y="151"/>
                  <a:pt x="1208" y="187"/>
                  <a:pt x="1227" y="215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70640" y="6032520"/>
            <a:ext cx="1058760" cy="411120"/>
          </a:xfrm>
          <a:custGeom>
            <a:avLst/>
            <a:gdLst/>
            <a:ahLst/>
            <a:rect l="l" t="t" r="r" b="b"/>
            <a:pathLst>
              <a:path w="667" h="259">
                <a:moveTo>
                  <a:pt x="0" y="259"/>
                </a:moveTo>
                <a:cubicBezTo>
                  <a:pt x="55" y="235"/>
                  <a:pt x="220" y="197"/>
                  <a:pt x="331" y="154"/>
                </a:cubicBezTo>
                <a:cubicBezTo>
                  <a:pt x="442" y="111"/>
                  <a:pt x="597" y="32"/>
                  <a:pt x="667" y="0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9144000"/>
            <a:ext cx="1371600" cy="228600"/>
          </a:xfrm>
          <a:custGeom>
            <a:avLst/>
            <a:gdLst/>
            <a:ahLst/>
            <a:rect l="l" t="t" r="r" b="b"/>
            <a:pathLst>
              <a:path w="864" h="144">
                <a:moveTo>
                  <a:pt x="864" y="0"/>
                </a:moveTo>
                <a:cubicBezTo>
                  <a:pt x="836" y="9"/>
                  <a:pt x="785" y="47"/>
                  <a:pt x="697" y="55"/>
                </a:cubicBezTo>
                <a:cubicBezTo>
                  <a:pt x="609" y="63"/>
                  <a:pt x="472" y="40"/>
                  <a:pt x="336" y="48"/>
                </a:cubicBezTo>
                <a:cubicBezTo>
                  <a:pt x="200" y="56"/>
                  <a:pt x="70" y="124"/>
                  <a:pt x="0" y="144"/>
                </a:cubicBez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54040" y="8670960"/>
            <a:ext cx="1924200" cy="525600"/>
          </a:xfrm>
          <a:custGeom>
            <a:avLst/>
            <a:gdLst/>
            <a:ahLst/>
            <a:rect l="l" t="t" r="r" b="b"/>
            <a:pathLst>
              <a:path w="1212" h="331">
                <a:moveTo>
                  <a:pt x="33" y="261"/>
                </a:moveTo>
                <a:cubicBezTo>
                  <a:pt x="48" y="299"/>
                  <a:pt x="300" y="331"/>
                  <a:pt x="417" y="325"/>
                </a:cubicBezTo>
                <a:cubicBezTo>
                  <a:pt x="534" y="319"/>
                  <a:pt x="605" y="268"/>
                  <a:pt x="737" y="225"/>
                </a:cubicBezTo>
                <a:cubicBezTo>
                  <a:pt x="869" y="182"/>
                  <a:pt x="1212" y="106"/>
                  <a:pt x="1212" y="69"/>
                </a:cubicBezTo>
                <a:cubicBezTo>
                  <a:pt x="1212" y="32"/>
                  <a:pt x="885" y="0"/>
                  <a:pt x="737" y="5"/>
                </a:cubicBezTo>
                <a:cubicBezTo>
                  <a:pt x="589" y="10"/>
                  <a:pt x="442" y="54"/>
                  <a:pt x="325" y="97"/>
                </a:cubicBezTo>
                <a:cubicBezTo>
                  <a:pt x="208" y="140"/>
                  <a:pt x="0" y="212"/>
                  <a:pt x="33" y="261"/>
                </a:cubicBez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3720" y="7345440"/>
            <a:ext cx="609480" cy="968400"/>
          </a:xfrm>
          <a:custGeom>
            <a:avLst/>
            <a:gdLst/>
            <a:ahLst/>
            <a:rect l="l" t="t" r="r" b="b"/>
            <a:pathLst>
              <a:path w="384" h="610">
                <a:moveTo>
                  <a:pt x="384" y="392"/>
                </a:moveTo>
                <a:cubicBezTo>
                  <a:pt x="320" y="484"/>
                  <a:pt x="226" y="558"/>
                  <a:pt x="164" y="584"/>
                </a:cubicBezTo>
                <a:cubicBezTo>
                  <a:pt x="102" y="610"/>
                  <a:pt x="15" y="603"/>
                  <a:pt x="14" y="550"/>
                </a:cubicBezTo>
                <a:cubicBezTo>
                  <a:pt x="0" y="365"/>
                  <a:pt x="125" y="348"/>
                  <a:pt x="155" y="264"/>
                </a:cubicBezTo>
                <a:cubicBezTo>
                  <a:pt x="185" y="180"/>
                  <a:pt x="164" y="62"/>
                  <a:pt x="192" y="45"/>
                </a:cubicBezTo>
                <a:cubicBezTo>
                  <a:pt x="234" y="39"/>
                  <a:pt x="256" y="0"/>
                  <a:pt x="320" y="164"/>
                </a:cubicBezTo>
                <a:cubicBezTo>
                  <a:pt x="384" y="328"/>
                  <a:pt x="383" y="230"/>
                  <a:pt x="384" y="392"/>
                </a:cubicBez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7480" y="3936960"/>
            <a:ext cx="10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ボーマン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7800" y="5942160"/>
            <a:ext cx="336600" cy="1054080"/>
          </a:xfrm>
          <a:custGeom>
            <a:avLst/>
            <a:gdLst/>
            <a:ahLst/>
            <a:rect l="l" t="t" r="r" b="b"/>
            <a:pathLst>
              <a:path w="212" h="664">
                <a:moveTo>
                  <a:pt x="195" y="664"/>
                </a:moveTo>
                <a:cubicBezTo>
                  <a:pt x="212" y="664"/>
                  <a:pt x="207" y="561"/>
                  <a:pt x="195" y="508"/>
                </a:cubicBezTo>
                <a:cubicBezTo>
                  <a:pt x="183" y="455"/>
                  <a:pt x="143" y="408"/>
                  <a:pt x="122" y="344"/>
                </a:cubicBezTo>
                <a:cubicBezTo>
                  <a:pt x="101" y="280"/>
                  <a:pt x="83" y="181"/>
                  <a:pt x="71" y="125"/>
                </a:cubicBezTo>
                <a:cubicBezTo>
                  <a:pt x="59" y="69"/>
                  <a:pt x="61" y="10"/>
                  <a:pt x="50" y="5"/>
                </a:cubicBezTo>
                <a:cubicBezTo>
                  <a:pt x="39" y="0"/>
                  <a:pt x="6" y="45"/>
                  <a:pt x="3" y="97"/>
                </a:cubicBezTo>
                <a:cubicBezTo>
                  <a:pt x="0" y="149"/>
                  <a:pt x="16" y="248"/>
                  <a:pt x="31" y="316"/>
                </a:cubicBezTo>
                <a:cubicBezTo>
                  <a:pt x="46" y="384"/>
                  <a:pt x="68" y="450"/>
                  <a:pt x="95" y="508"/>
                </a:cubicBezTo>
                <a:cubicBezTo>
                  <a:pt x="122" y="566"/>
                  <a:pt x="169" y="659"/>
                  <a:pt x="195" y="664"/>
                </a:cubicBez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3301800">
            <a:off x="5689800" y="6457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3301800">
            <a:off x="5505120" y="627336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3748800">
            <a:off x="1929960" y="417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3748800">
            <a:off x="2120760" y="407016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3754800">
            <a:off x="5292720" y="4689360"/>
            <a:ext cx="393840" cy="393840"/>
          </a:xfrm>
          <a:custGeom>
            <a:avLst/>
            <a:gdLst/>
            <a:ahLst/>
            <a:rect l="l" t="t" r="r" b="b"/>
            <a:pathLst>
              <a:path w="268" h="228">
                <a:moveTo>
                  <a:pt x="28" y="195"/>
                </a:moveTo>
                <a:cubicBezTo>
                  <a:pt x="44" y="208"/>
                  <a:pt x="72" y="228"/>
                  <a:pt x="108" y="202"/>
                </a:cubicBezTo>
                <a:cubicBezTo>
                  <a:pt x="144" y="176"/>
                  <a:pt x="124" y="163"/>
                  <a:pt x="148" y="156"/>
                </a:cubicBezTo>
                <a:cubicBezTo>
                  <a:pt x="220" y="156"/>
                  <a:pt x="268" y="156"/>
                  <a:pt x="268" y="156"/>
                </a:cubicBezTo>
                <a:lnTo>
                  <a:pt x="268" y="0"/>
                </a:lnTo>
                <a:cubicBezTo>
                  <a:pt x="268" y="0"/>
                  <a:pt x="172" y="0"/>
                  <a:pt x="76" y="0"/>
                </a:cubicBezTo>
                <a:cubicBezTo>
                  <a:pt x="72" y="42"/>
                  <a:pt x="80" y="101"/>
                  <a:pt x="80" y="101"/>
                </a:cubicBezTo>
                <a:cubicBezTo>
                  <a:pt x="80" y="101"/>
                  <a:pt x="32" y="84"/>
                  <a:pt x="16" y="128"/>
                </a:cubicBezTo>
                <a:cubicBezTo>
                  <a:pt x="0" y="172"/>
                  <a:pt x="12" y="182"/>
                  <a:pt x="28" y="19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54480" y="4579920"/>
            <a:ext cx="609840" cy="577800"/>
          </a:xfrm>
          <a:custGeom>
            <a:avLst/>
            <a:gdLst/>
            <a:ahLst/>
            <a:rect l="l" t="t" r="r" b="b"/>
            <a:pathLst>
              <a:path w="384" h="364">
                <a:moveTo>
                  <a:pt x="12" y="196"/>
                </a:moveTo>
                <a:lnTo>
                  <a:pt x="0" y="152"/>
                </a:lnTo>
                <a:lnTo>
                  <a:pt x="68" y="56"/>
                </a:lnTo>
                <a:lnTo>
                  <a:pt x="236" y="0"/>
                </a:lnTo>
                <a:lnTo>
                  <a:pt x="384" y="248"/>
                </a:lnTo>
                <a:lnTo>
                  <a:pt x="140" y="364"/>
                </a:lnTo>
                <a:lnTo>
                  <a:pt x="40" y="2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34000" y="4911840"/>
            <a:ext cx="596880" cy="672840"/>
          </a:xfrm>
          <a:custGeom>
            <a:avLst/>
            <a:gdLst/>
            <a:ahLst/>
            <a:rect l="l" t="t" r="r" b="b"/>
            <a:pathLst>
              <a:path w="416" h="500">
                <a:moveTo>
                  <a:pt x="0" y="500"/>
                </a:moveTo>
                <a:lnTo>
                  <a:pt x="416" y="0"/>
                </a:lnTo>
              </a:path>
            </a:pathLst>
          </a:cu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541008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領主の館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4572000"/>
            <a:ext cx="457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北広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6095880"/>
            <a:ext cx="28440" cy="2286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388620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宿と酒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「かがり火と煙」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590920" y="6781320"/>
            <a:ext cx="152280" cy="1143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7696080"/>
            <a:ext cx="457200" cy="152640"/>
          </a:xfrm>
          <a:custGeom>
            <a:avLst/>
            <a:gdLst/>
            <a:ahLst/>
            <a:rect l="l" t="t" r="r" b="b"/>
            <a:pathLst>
              <a:path w="288" h="96">
                <a:moveTo>
                  <a:pt x="288" y="96"/>
                </a:moveTo>
                <a:lnTo>
                  <a:pt x="96" y="0"/>
                </a:lnTo>
                <a:lnTo>
                  <a:pt x="0" y="48"/>
                </a:lnTo>
              </a:path>
            </a:pathLst>
          </a:custGeom>
          <a:noFill/>
          <a:ln w="9360">
            <a:solidFill>
              <a:srgbClr val="00008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00160" y="782964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雑貨店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「ペリカン屋」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38480" y="6124680"/>
            <a:ext cx="5335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レイフー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商工組合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7960" y="473076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アイウー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駐留軍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778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ファラングンの廟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(</a:t>
            </a: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宿を兼ねる</a:t>
            </a: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47600" y="597204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墓地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742840" y="4114800"/>
            <a:ext cx="304920" cy="6858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0240" y="62676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アイウーズ神殿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43280" y="6620040"/>
            <a:ext cx="457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東広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33640" y="58770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魔術師ギル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6934320"/>
            <a:ext cx="533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警備兵の詰め所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3200400"/>
            <a:ext cx="152640" cy="228600"/>
          </a:xfrm>
          <a:custGeom>
            <a:avLst/>
            <a:gdLst/>
            <a:ahLst/>
            <a:rect l="l" t="t" r="r" b="b"/>
            <a:pathLst>
              <a:path w="96" h="144">
                <a:moveTo>
                  <a:pt x="0" y="144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0800000">
            <a:off x="6553080" y="9143640"/>
            <a:ext cx="152640" cy="228600"/>
          </a:xfrm>
          <a:custGeom>
            <a:avLst/>
            <a:gdLst/>
            <a:ahLst/>
            <a:rect l="l" t="t" r="r" b="b"/>
            <a:pathLst>
              <a:path w="96" h="144">
                <a:moveTo>
                  <a:pt x="0" y="144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04880" y="3214800"/>
            <a:ext cx="123840" cy="10944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7520" y="3403440"/>
            <a:ext cx="787320" cy="641520"/>
          </a:xfrm>
          <a:custGeom>
            <a:avLst/>
            <a:gdLst/>
            <a:ahLst/>
            <a:rect l="l" t="t" r="r" b="b"/>
            <a:pathLst>
              <a:path w="496" h="404">
                <a:moveTo>
                  <a:pt x="496" y="312"/>
                </a:moveTo>
                <a:cubicBezTo>
                  <a:pt x="432" y="404"/>
                  <a:pt x="443" y="364"/>
                  <a:pt x="360" y="336"/>
                </a:cubicBezTo>
                <a:cubicBezTo>
                  <a:pt x="277" y="308"/>
                  <a:pt x="28" y="185"/>
                  <a:pt x="0" y="144"/>
                </a:cubicBezTo>
                <a:cubicBezTo>
                  <a:pt x="104" y="0"/>
                  <a:pt x="141" y="103"/>
                  <a:pt x="192" y="88"/>
                </a:cubicBezTo>
                <a:cubicBezTo>
                  <a:pt x="243" y="73"/>
                  <a:pt x="268" y="41"/>
                  <a:pt x="304" y="56"/>
                </a:cubicBezTo>
                <a:cubicBezTo>
                  <a:pt x="346" y="50"/>
                  <a:pt x="344" y="16"/>
                  <a:pt x="408" y="180"/>
                </a:cubicBezTo>
                <a:cubicBezTo>
                  <a:pt x="472" y="344"/>
                  <a:pt x="495" y="150"/>
                  <a:pt x="496" y="312"/>
                </a:cubicBez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3343320"/>
            <a:ext cx="166680" cy="156960"/>
          </a:xfrm>
          <a:custGeom>
            <a:avLst/>
            <a:gdLst/>
            <a:ahLst/>
            <a:rect l="l" t="t" r="r" b="b"/>
            <a:pathLst>
              <a:path w="105" h="99">
                <a:moveTo>
                  <a:pt x="0" y="57"/>
                </a:moveTo>
                <a:lnTo>
                  <a:pt x="54" y="0"/>
                </a:lnTo>
                <a:lnTo>
                  <a:pt x="105" y="57"/>
                </a:lnTo>
                <a:lnTo>
                  <a:pt x="42" y="99"/>
                </a:lnTo>
                <a:lnTo>
                  <a:pt x="0" y="5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3457440"/>
            <a:ext cx="533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水車小屋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06728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北門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620064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東門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794376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宿と酒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「歌う杯」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76520" y="6781320"/>
            <a:ext cx="380880" cy="1219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4800600"/>
            <a:ext cx="115920" cy="1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41911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1.1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人狩り中の悪魔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4343400"/>
            <a:ext cx="9144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32040" y="4675320"/>
            <a:ext cx="115920" cy="1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81280" y="3886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1.1.2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女からの依頼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2.5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敵密偵との遭遇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2.6]PC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への夢魔の夜襲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819520" y="4114800"/>
            <a:ext cx="83808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95800" y="5380200"/>
            <a:ext cx="115560" cy="115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91120" y="457200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2.4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依頼人への夢魔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　の襲撃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382920" y="4724280"/>
            <a:ext cx="884160" cy="704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52800" y="7666200"/>
            <a:ext cx="115560" cy="115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2200" y="833436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2.7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夢魔の隠れ家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952640" y="7724880"/>
            <a:ext cx="258840" cy="66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5486400"/>
            <a:ext cx="115920" cy="1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0160" y="530532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2.3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ハデスからの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　逃亡者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5486400"/>
            <a:ext cx="457200" cy="87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1066680"/>
            <a:ext cx="221004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60200" y="1146960"/>
            <a:ext cx="747360" cy="185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[1.1]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狩り中の悪魔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60640" y="1451880"/>
            <a:ext cx="610200" cy="185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[1.1.2]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依頼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25720" y="1756440"/>
            <a:ext cx="610200" cy="185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[2.1]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情報収集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80600" y="2019960"/>
            <a:ext cx="655920" cy="185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[2.3]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ザムザ捕獲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5" idx="3"/>
            <a:endCxn id="266" idx="0"/>
          </p:cNvCxnSpPr>
          <p:nvPr/>
        </p:nvCxnSpPr>
        <p:spPr>
          <a:xfrm>
            <a:off x="5335920" y="1849320"/>
            <a:ext cx="873000" cy="171000"/>
          </a:xfrm>
          <a:prstGeom prst="bentConnector4">
            <a:avLst>
              <a:gd name="adj1" fmla="val 31229"/>
              <a:gd name="adj2" fmla="val -35864"/>
            </a:avLst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68" name=""/>
          <p:cNvCxnSpPr>
            <a:stCxn id="263" idx="2"/>
            <a:endCxn id="264" idx="0"/>
          </p:cNvCxnSpPr>
          <p:nvPr/>
        </p:nvCxnSpPr>
        <p:spPr>
          <a:xfrm flipH="1" rot="16200000">
            <a:off x="4989960" y="1375920"/>
            <a:ext cx="119880" cy="3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69" name=""/>
          <p:cNvCxnSpPr>
            <a:stCxn id="264" idx="2"/>
            <a:endCxn id="265" idx="0"/>
          </p:cNvCxnSpPr>
          <p:nvPr/>
        </p:nvCxnSpPr>
        <p:spPr>
          <a:xfrm rot="5400000">
            <a:off x="4988520" y="1679400"/>
            <a:ext cx="119520" cy="35280"/>
          </a:xfrm>
          <a:prstGeom prst="bentConnector3">
            <a:avLst>
              <a:gd name="adj1" fmla="val 49848"/>
            </a:avLst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70" name=""/>
          <p:cNvSpPr/>
          <p:nvPr/>
        </p:nvSpPr>
        <p:spPr>
          <a:xfrm>
            <a:off x="4699440" y="2172600"/>
            <a:ext cx="655920" cy="185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[2.4]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領主の屋敷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36200" y="2407320"/>
            <a:ext cx="655920" cy="185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[2.5]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密偵と遭遇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19640" y="2677320"/>
            <a:ext cx="701640" cy="185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[2.7]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廃屋への襲撃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65" idx="2"/>
            <a:endCxn id="270" idx="0"/>
          </p:cNvCxnSpPr>
          <p:nvPr/>
        </p:nvCxnSpPr>
        <p:spPr>
          <a:xfrm rot="5400000">
            <a:off x="4913640" y="2055240"/>
            <a:ext cx="231120" cy="396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74" name=""/>
          <p:cNvCxnSpPr>
            <a:stCxn id="265" idx="2"/>
            <a:endCxn id="271" idx="0"/>
          </p:cNvCxnSpPr>
          <p:nvPr/>
        </p:nvCxnSpPr>
        <p:spPr>
          <a:xfrm flipH="1" rot="16200000">
            <a:off x="5064840" y="1907640"/>
            <a:ext cx="465840" cy="53352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75" name=""/>
          <p:cNvCxnSpPr>
            <a:stCxn id="271" idx="2"/>
            <a:endCxn id="272" idx="0"/>
          </p:cNvCxnSpPr>
          <p:nvPr/>
        </p:nvCxnSpPr>
        <p:spPr>
          <a:xfrm flipH="1" rot="16200000">
            <a:off x="5525280" y="2631600"/>
            <a:ext cx="84960" cy="6840"/>
          </a:xfrm>
          <a:prstGeom prst="bentConnector3">
            <a:avLst>
              <a:gd name="adj1" fmla="val 49787"/>
            </a:avLst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76" name=""/>
          <p:cNvSpPr/>
          <p:nvPr/>
        </p:nvSpPr>
        <p:spPr>
          <a:xfrm>
            <a:off x="4676760" y="3010680"/>
            <a:ext cx="701640" cy="185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[3]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ストラル界経由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42440" y="3010680"/>
            <a:ext cx="655920" cy="185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[4]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直通次元門経由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1520" y="3356640"/>
            <a:ext cx="838800" cy="185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[5]“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実の死”で情報収集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0120" y="3620160"/>
            <a:ext cx="838800" cy="185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[6-8]“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魂の回廊”の探索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94400" y="3890160"/>
            <a:ext cx="473040" cy="185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[9]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後日談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0" idx="2"/>
            <a:endCxn id="276" idx="0"/>
          </p:cNvCxnSpPr>
          <p:nvPr/>
        </p:nvCxnSpPr>
        <p:spPr>
          <a:xfrm flipH="1" rot="16200000">
            <a:off x="4701240" y="2683800"/>
            <a:ext cx="653040" cy="72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82" name=""/>
          <p:cNvCxnSpPr>
            <a:stCxn id="266" idx="2"/>
            <a:endCxn id="277" idx="0"/>
          </p:cNvCxnSpPr>
          <p:nvPr/>
        </p:nvCxnSpPr>
        <p:spPr>
          <a:xfrm rot="5400000">
            <a:off x="5786640" y="2588760"/>
            <a:ext cx="805680" cy="38520"/>
          </a:xfrm>
          <a:prstGeom prst="bentConnector3">
            <a:avLst>
              <a:gd name="adj1" fmla="val 49977"/>
            </a:avLst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83" name=""/>
          <p:cNvCxnSpPr>
            <a:stCxn id="277" idx="2"/>
            <a:endCxn id="278" idx="0"/>
          </p:cNvCxnSpPr>
          <p:nvPr/>
        </p:nvCxnSpPr>
        <p:spPr>
          <a:xfrm rot="5400000">
            <a:off x="5920200" y="3106800"/>
            <a:ext cx="160920" cy="339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84" name=""/>
          <p:cNvCxnSpPr>
            <a:stCxn id="276" idx="2"/>
            <a:endCxn id="278" idx="0"/>
          </p:cNvCxnSpPr>
          <p:nvPr/>
        </p:nvCxnSpPr>
        <p:spPr>
          <a:xfrm flipH="1" rot="16200000">
            <a:off x="5348880" y="2874600"/>
            <a:ext cx="160920" cy="803520"/>
          </a:xfrm>
          <a:prstGeom prst="bentConnector5">
            <a:avLst>
              <a:gd name="adj1" fmla="val 144170"/>
              <a:gd name="adj2" fmla="val -72568"/>
              <a:gd name="adj3" fmla="val -259865"/>
            </a:avLst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85" name=""/>
          <p:cNvCxnSpPr>
            <a:stCxn id="278" idx="2"/>
            <a:endCxn id="279" idx="0"/>
          </p:cNvCxnSpPr>
          <p:nvPr/>
        </p:nvCxnSpPr>
        <p:spPr>
          <a:xfrm rot="5400000">
            <a:off x="5770800" y="3560400"/>
            <a:ext cx="78480" cy="41760"/>
          </a:xfrm>
          <a:prstGeom prst="bentConnector3">
            <a:avLst>
              <a:gd name="adj1" fmla="val 49769"/>
            </a:avLst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86" name=""/>
          <p:cNvCxnSpPr>
            <a:stCxn id="279" idx="2"/>
            <a:endCxn id="280" idx="0"/>
          </p:cNvCxnSpPr>
          <p:nvPr/>
        </p:nvCxnSpPr>
        <p:spPr>
          <a:xfrm flipH="1" rot="16200000">
            <a:off x="5767920" y="3826800"/>
            <a:ext cx="84960" cy="41760"/>
          </a:xfrm>
          <a:prstGeom prst="bentConnector3">
            <a:avLst>
              <a:gd name="adj1" fmla="val 49787"/>
            </a:avLst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87" name=""/>
          <p:cNvSpPr/>
          <p:nvPr/>
        </p:nvSpPr>
        <p:spPr>
          <a:xfrm>
            <a:off x="4572000" y="411480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シナリオのフローチャー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72" idx="2"/>
            <a:endCxn id="276" idx="0"/>
          </p:cNvCxnSpPr>
          <p:nvPr/>
        </p:nvCxnSpPr>
        <p:spPr>
          <a:xfrm rot="5400000">
            <a:off x="5225040" y="2665080"/>
            <a:ext cx="148320" cy="54324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0" name="12x16" descr=""/>
          <p:cNvPicPr/>
          <p:nvPr/>
        </p:nvPicPr>
        <p:blipFill>
          <a:blip r:embed="rId1"/>
          <a:stretch/>
        </p:blipFill>
        <p:spPr>
          <a:xfrm>
            <a:off x="430200" y="304920"/>
            <a:ext cx="6113520" cy="9144000"/>
          </a:xfrm>
          <a:prstGeom prst="rect">
            <a:avLst/>
          </a:prstGeom>
          <a:ln w="0">
            <a:noFill/>
          </a:ln>
        </p:spPr>
      </p:pic>
      <p:sp>
        <p:nvSpPr>
          <p:cNvPr id="2471" name=""/>
          <p:cNvSpPr/>
          <p:nvPr/>
        </p:nvSpPr>
        <p:spPr>
          <a:xfrm>
            <a:off x="990720" y="4876920"/>
            <a:ext cx="99036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2" name="4x2_Stairs.a.0" descr=""/>
          <p:cNvPicPr/>
          <p:nvPr/>
        </p:nvPicPr>
        <p:blipFill>
          <a:blip r:embed="rId3"/>
          <a:srcRect l="35016" t="0" r="0" b="0"/>
          <a:stretch/>
        </p:blipFill>
        <p:spPr>
          <a:xfrm>
            <a:off x="5524560" y="661032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04920" y="944892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9 ([2.4], 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57200" y="838080"/>
            <a:ext cx="533520" cy="5867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457200" y="304920"/>
            <a:ext cx="4114800" cy="533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209680" y="5943600"/>
            <a:ext cx="762120" cy="571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066760" y="5943600"/>
            <a:ext cx="190800" cy="5716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 flipH="1">
            <a:off x="838080" y="685800"/>
            <a:ext cx="3733920" cy="17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H="1" rot="133200">
            <a:off x="3504240" y="6705720"/>
            <a:ext cx="914400" cy="380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 flipH="1">
            <a:off x="838080" y="762120"/>
            <a:ext cx="152640" cy="396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838080" y="4740120"/>
            <a:ext cx="3733920" cy="174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 flipH="1">
            <a:off x="800280" y="3124080"/>
            <a:ext cx="171360" cy="1143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 flipH="1" rot="21255600">
            <a:off x="2494440" y="6762600"/>
            <a:ext cx="914400" cy="3812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 flipH="1">
            <a:off x="4419000" y="304920"/>
            <a:ext cx="16020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5485680" y="1828800"/>
            <a:ext cx="152280" cy="472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 flipH="1">
            <a:off x="6628680" y="7238880"/>
            <a:ext cx="304920" cy="30492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5485680" y="6477120"/>
            <a:ext cx="10666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 flipH="1">
            <a:off x="4494960" y="1822320"/>
            <a:ext cx="2057400" cy="158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1828080" y="4800600"/>
            <a:ext cx="15228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457200" y="6553080"/>
            <a:ext cx="40384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 flipH="1">
            <a:off x="1789920" y="5448240"/>
            <a:ext cx="195480" cy="5619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 flipH="1">
            <a:off x="2514600" y="628560"/>
            <a:ext cx="914400" cy="200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 rot="21114000">
            <a:off x="2285640" y="7695720"/>
            <a:ext cx="569880" cy="106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 rot="10800000">
            <a:off x="456840" y="5334120"/>
            <a:ext cx="1066680" cy="838080"/>
          </a:xfrm>
          <a:prstGeom prst="cloudCallout">
            <a:avLst>
              <a:gd name="adj1" fmla="val 6995"/>
              <a:gd name="adj2" fmla="val -15152"/>
            </a:avLst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rot="10800000">
            <a:off x="1066680" y="56386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6" name="2x1_DoubleDoors.a.270" descr=""/>
          <p:cNvPicPr/>
          <p:nvPr/>
        </p:nvPicPr>
        <p:blipFill>
          <a:blip r:embed="rId16"/>
          <a:stretch/>
        </p:blipFill>
        <p:spPr>
          <a:xfrm>
            <a:off x="4286160" y="5410080"/>
            <a:ext cx="590760" cy="685800"/>
          </a:xfrm>
          <a:prstGeom prst="rect">
            <a:avLst/>
          </a:prstGeom>
          <a:ln w="0">
            <a:noFill/>
          </a:ln>
        </p:spPr>
      </p:pic>
      <p:pic>
        <p:nvPicPr>
          <p:cNvPr id="2497" name="2x1_DoubleDoors.a.270" descr=""/>
          <p:cNvPicPr/>
          <p:nvPr/>
        </p:nvPicPr>
        <p:blipFill>
          <a:blip r:embed="rId17"/>
          <a:stretch/>
        </p:blipFill>
        <p:spPr>
          <a:xfrm>
            <a:off x="4267080" y="2590920"/>
            <a:ext cx="685800" cy="1143000"/>
          </a:xfrm>
          <a:prstGeom prst="rect">
            <a:avLst/>
          </a:prstGeom>
          <a:ln w="0">
            <a:noFill/>
          </a:ln>
        </p:spPr>
      </p:pic>
      <p:pic>
        <p:nvPicPr>
          <p:cNvPr id="2498" name="2x1_DoubleDoors.a.270" descr=""/>
          <p:cNvPicPr/>
          <p:nvPr/>
        </p:nvPicPr>
        <p:blipFill>
          <a:blip r:embed="rId18"/>
          <a:stretch/>
        </p:blipFill>
        <p:spPr>
          <a:xfrm>
            <a:off x="4267080" y="8267760"/>
            <a:ext cx="685800" cy="1143000"/>
          </a:xfrm>
          <a:prstGeom prst="rect">
            <a:avLst/>
          </a:prstGeom>
          <a:ln w="0">
            <a:noFill/>
          </a:ln>
        </p:spPr>
      </p:pic>
      <p:pic>
        <p:nvPicPr>
          <p:cNvPr id="2499" name="3x3_Flo_dr" descr=""/>
          <p:cNvPicPr/>
          <p:nvPr/>
        </p:nvPicPr>
        <p:blipFill>
          <a:blip r:embed="rId19"/>
          <a:srcRect l="0" t="0" r="33825" b="0"/>
          <a:stretch/>
        </p:blipFill>
        <p:spPr>
          <a:xfrm>
            <a:off x="5543640" y="7753320"/>
            <a:ext cx="1009440" cy="1676520"/>
          </a:xfrm>
          <a:prstGeom prst="rect">
            <a:avLst/>
          </a:prstGeom>
          <a:ln w="0">
            <a:noFill/>
          </a:ln>
        </p:spPr>
      </p:pic>
      <p:sp>
        <p:nvSpPr>
          <p:cNvPr id="2500" name=""/>
          <p:cNvSpPr/>
          <p:nvPr/>
        </p:nvSpPr>
        <p:spPr>
          <a:xfrm flipH="1">
            <a:off x="5562000" y="7639200"/>
            <a:ext cx="928440" cy="1522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 flipH="1" rot="16200000">
            <a:off x="4622040" y="8489160"/>
            <a:ext cx="1766880" cy="152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2" name="2x1_DoubleDoors.a.0" descr=""/>
          <p:cNvPicPr/>
          <p:nvPr/>
        </p:nvPicPr>
        <p:blipFill>
          <a:blip r:embed="rId22"/>
          <a:stretch/>
        </p:blipFill>
        <p:spPr>
          <a:xfrm>
            <a:off x="5029200" y="163836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2503" name="2x1_DoubleDoors.a.270" descr=""/>
          <p:cNvPicPr/>
          <p:nvPr/>
        </p:nvPicPr>
        <p:blipFill>
          <a:blip r:embed="rId23"/>
          <a:stretch/>
        </p:blipFill>
        <p:spPr>
          <a:xfrm>
            <a:off x="5334120" y="4267080"/>
            <a:ext cx="685800" cy="1143000"/>
          </a:xfrm>
          <a:prstGeom prst="rect">
            <a:avLst/>
          </a:prstGeom>
          <a:ln w="0">
            <a:noFill/>
          </a:ln>
        </p:spPr>
      </p:pic>
      <p:sp>
        <p:nvSpPr>
          <p:cNvPr id="2504" name=""/>
          <p:cNvSpPr/>
          <p:nvPr/>
        </p:nvSpPr>
        <p:spPr>
          <a:xfrm>
            <a:off x="2209680" y="4952880"/>
            <a:ext cx="762120" cy="5716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066760" y="4952880"/>
            <a:ext cx="190800" cy="5716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3276720" y="6019920"/>
            <a:ext cx="304560" cy="30456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 rot="21114000">
            <a:off x="3428640" y="5006880"/>
            <a:ext cx="609480" cy="6314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8" name=""/>
          <p:cNvGrpSpPr/>
          <p:nvPr/>
        </p:nvGrpSpPr>
        <p:grpSpPr>
          <a:xfrm>
            <a:off x="1066320" y="914400"/>
            <a:ext cx="1600200" cy="685800"/>
            <a:chOff x="1066320" y="914400"/>
            <a:chExt cx="1600200" cy="685800"/>
          </a:xfrm>
        </p:grpSpPr>
        <p:sp>
          <p:nvSpPr>
            <p:cNvPr id="2509" name=""/>
            <p:cNvSpPr/>
            <p:nvPr/>
          </p:nvSpPr>
          <p:spPr>
            <a:xfrm flipH="1">
              <a:off x="1142280" y="914400"/>
              <a:ext cx="1523880" cy="6858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>
              <a:off x="1065960" y="914400"/>
              <a:ext cx="228600" cy="6858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1" name=""/>
          <p:cNvSpPr/>
          <p:nvPr/>
        </p:nvSpPr>
        <p:spPr>
          <a:xfrm flipH="1">
            <a:off x="1523160" y="7924680"/>
            <a:ext cx="304920" cy="30492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 flipH="1">
            <a:off x="2513880" y="8763120"/>
            <a:ext cx="304920" cy="30456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flipH="1">
            <a:off x="2285280" y="7315200"/>
            <a:ext cx="304920" cy="30492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 flipH="1">
            <a:off x="3123360" y="8229600"/>
            <a:ext cx="304920" cy="30492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990720" y="2514600"/>
            <a:ext cx="2361960" cy="152280"/>
          </a:xfrm>
          <a:custGeom>
            <a:avLst/>
            <a:gdLst>
              <a:gd name="textAreaLeft" fmla="*/ 0 w 2361960"/>
              <a:gd name="textAreaRight" fmla="*/ 2362320 w 2361960"/>
              <a:gd name="textAreaTop" fmla="*/ 19440 h 152280"/>
              <a:gd name="textAreaBottom" fmla="*/ 1328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 rot="16200000">
            <a:off x="2666880" y="1676160"/>
            <a:ext cx="1676520" cy="152280"/>
          </a:xfrm>
          <a:custGeom>
            <a:avLst/>
            <a:gdLst>
              <a:gd name="textAreaLeft" fmla="*/ 0 w 1676520"/>
              <a:gd name="textAreaRight" fmla="*/ 1676880 w 1676520"/>
              <a:gd name="textAreaTop" fmla="*/ 19440 h 152280"/>
              <a:gd name="textAreaBottom" fmla="*/ 1328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 rot="16411800">
            <a:off x="3207600" y="2963880"/>
            <a:ext cx="1525320" cy="77796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 rot="21343200">
            <a:off x="3276360" y="7848360"/>
            <a:ext cx="1066680" cy="152388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 flipH="1">
            <a:off x="1751760" y="3809880"/>
            <a:ext cx="304920" cy="30492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 flipH="1">
            <a:off x="3048120" y="4343400"/>
            <a:ext cx="304560" cy="30492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H="1">
            <a:off x="2285280" y="3429000"/>
            <a:ext cx="304920" cy="30492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 flipH="1">
            <a:off x="3123360" y="3352680"/>
            <a:ext cx="304920" cy="30492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H="1" rot="4914000">
            <a:off x="2226240" y="3411720"/>
            <a:ext cx="569880" cy="106056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4" name=""/>
          <p:cNvGrpSpPr/>
          <p:nvPr/>
        </p:nvGrpSpPr>
        <p:grpSpPr>
          <a:xfrm>
            <a:off x="76320" y="66600"/>
            <a:ext cx="7315200" cy="9435600"/>
            <a:chOff x="76320" y="66600"/>
            <a:chExt cx="7315200" cy="9435600"/>
          </a:xfrm>
        </p:grpSpPr>
        <p:sp>
          <p:nvSpPr>
            <p:cNvPr id="2525" name=""/>
            <p:cNvSpPr/>
            <p:nvPr/>
          </p:nvSpPr>
          <p:spPr>
            <a:xfrm>
              <a:off x="7086600" y="21888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6320" y="44748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0984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8" name=""/>
            <p:cNvGrpSpPr/>
            <p:nvPr/>
          </p:nvGrpSpPr>
          <p:grpSpPr>
            <a:xfrm>
              <a:off x="457200" y="295200"/>
              <a:ext cx="6095880" cy="9153000"/>
              <a:chOff x="457200" y="295200"/>
              <a:chExt cx="6095880" cy="9153000"/>
            </a:xfrm>
          </p:grpSpPr>
          <p:grpSp>
            <p:nvGrpSpPr>
              <p:cNvPr id="2529" name=""/>
              <p:cNvGrpSpPr/>
              <p:nvPr/>
            </p:nvGrpSpPr>
            <p:grpSpPr>
              <a:xfrm>
                <a:off x="5014800" y="299520"/>
                <a:ext cx="1524240" cy="9148680"/>
                <a:chOff x="5014800" y="299520"/>
                <a:chExt cx="1524240" cy="9148680"/>
              </a:xfrm>
            </p:grpSpPr>
            <p:sp>
              <p:nvSpPr>
                <p:cNvPr id="2530" name=""/>
                <p:cNvSpPr/>
                <p:nvPr/>
              </p:nvSpPr>
              <p:spPr>
                <a:xfrm>
                  <a:off x="603396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55198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653904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50148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4" name=""/>
              <p:cNvGrpSpPr/>
              <p:nvPr/>
            </p:nvGrpSpPr>
            <p:grpSpPr>
              <a:xfrm>
                <a:off x="2986200" y="299520"/>
                <a:ext cx="1523880" cy="9148680"/>
                <a:chOff x="2986200" y="299520"/>
                <a:chExt cx="1523880" cy="9148680"/>
              </a:xfrm>
            </p:grpSpPr>
            <p:sp>
              <p:nvSpPr>
                <p:cNvPr id="2535" name=""/>
                <p:cNvSpPr/>
                <p:nvPr/>
              </p:nvSpPr>
              <p:spPr>
                <a:xfrm>
                  <a:off x="400500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34909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45100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29862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9" name=""/>
              <p:cNvGrpSpPr/>
              <p:nvPr/>
            </p:nvGrpSpPr>
            <p:grpSpPr>
              <a:xfrm>
                <a:off x="976320" y="295200"/>
                <a:ext cx="1523880" cy="9147960"/>
                <a:chOff x="976320" y="295200"/>
                <a:chExt cx="1523880" cy="9147960"/>
              </a:xfrm>
            </p:grpSpPr>
            <p:sp>
              <p:nvSpPr>
                <p:cNvPr id="2540" name=""/>
                <p:cNvSpPr/>
                <p:nvPr/>
              </p:nvSpPr>
              <p:spPr>
                <a:xfrm>
                  <a:off x="1995120" y="2995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148104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250020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97632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4" name=""/>
              <p:cNvSpPr/>
              <p:nvPr/>
            </p:nvSpPr>
            <p:spPr>
              <a:xfrm>
                <a:off x="457200" y="29952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457200" y="9443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457200" y="7719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457200" y="8286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457200" y="886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457200" y="715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457200" y="5433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457200" y="6000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457200" y="658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457200" y="487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457200" y="3147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457200" y="3714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457200" y="429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457200" y="258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457200" y="861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457200" y="1428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457200" y="200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457200" y="29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2" name="8x2_Couches.b.0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457200" y="304920"/>
            <a:ext cx="6095880" cy="1523880"/>
          </a:xfrm>
          <a:prstGeom prst="rect">
            <a:avLst/>
          </a:prstGeom>
          <a:ln w="0">
            <a:noFill/>
          </a:ln>
        </p:spPr>
      </p:pic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2286000" y="94489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0 [2.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5791320" y="285840"/>
            <a:ext cx="76176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57200" y="8629560"/>
            <a:ext cx="548640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6" name="4x2_Stairs.a.0" descr=""/>
          <p:cNvPicPr/>
          <p:nvPr/>
        </p:nvPicPr>
        <p:blipFill>
          <a:blip r:embed="rId4">
            <a:lum bright="-10000"/>
          </a:blip>
          <a:srcRect l="0" t="0" r="23029" b="0"/>
          <a:stretch/>
        </p:blipFill>
        <p:spPr>
          <a:xfrm>
            <a:off x="1219320" y="457200"/>
            <a:ext cx="2286000" cy="1371600"/>
          </a:xfrm>
          <a:prstGeom prst="rect">
            <a:avLst/>
          </a:prstGeom>
          <a:ln w="0">
            <a:noFill/>
          </a:ln>
        </p:spPr>
      </p:pic>
      <p:sp>
        <p:nvSpPr>
          <p:cNvPr id="2567" name=""/>
          <p:cNvSpPr/>
          <p:nvPr/>
        </p:nvSpPr>
        <p:spPr>
          <a:xfrm>
            <a:off x="457200" y="457200"/>
            <a:ext cx="762120" cy="2133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457200" y="1828800"/>
            <a:ext cx="4572000" cy="6934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 flipH="1">
            <a:off x="457200" y="2743200"/>
            <a:ext cx="76320" cy="6019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143000" y="1828800"/>
            <a:ext cx="15228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1219320" y="1828800"/>
            <a:ext cx="3809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5029200" y="304920"/>
            <a:ext cx="914400" cy="8458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952880" y="304920"/>
            <a:ext cx="152640" cy="8458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36680" y="304920"/>
            <a:ext cx="4668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457200" y="8610480"/>
            <a:ext cx="46483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5715000" y="8534520"/>
            <a:ext cx="304920" cy="3045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5791320" y="304920"/>
            <a:ext cx="304560" cy="30456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219320" y="3962520"/>
            <a:ext cx="3809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1295280" y="6324480"/>
            <a:ext cx="38102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143000" y="6324480"/>
            <a:ext cx="15228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3505320" y="4114800"/>
            <a:ext cx="1522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1905120" y="4800600"/>
            <a:ext cx="15228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1905120" y="4800600"/>
            <a:ext cx="17524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23920" y="7048440"/>
            <a:ext cx="152280" cy="9144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14400"/>
              <a:gd name="textAreaBottom" fmla="*/ 907200 h 914400"/>
            </a:gdLst>
            <a:ahLst/>
            <a:rect l="textAreaLeft" t="textAreaTop" r="textAreaRight" b="textAreaBottom"/>
            <a:pathLst>
              <a:path w="21600" h="129447">
                <a:moveTo>
                  <a:pt x="3600" y="0"/>
                </a:moveTo>
                <a:arcTo wR="3600" hR="3600" stAng="16200000" swAng="-5400000"/>
                <a:lnTo>
                  <a:pt x="0" y="125847"/>
                </a:lnTo>
                <a:arcTo wR="3600" hR="3600" stAng="10800000" swAng="-5400000"/>
                <a:lnTo>
                  <a:pt x="18000" y="1294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123920" y="2533680"/>
            <a:ext cx="152280" cy="9144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14400"/>
              <a:gd name="textAreaBottom" fmla="*/ 907200 h 914400"/>
            </a:gdLst>
            <a:ahLst/>
            <a:rect l="textAreaLeft" t="textAreaTop" r="textAreaRight" b="textAreaBottom"/>
            <a:pathLst>
              <a:path w="21600" h="129447">
                <a:moveTo>
                  <a:pt x="3600" y="0"/>
                </a:moveTo>
                <a:arcTo wR="3600" hR="3600" stAng="16200000" swAng="-5400000"/>
                <a:lnTo>
                  <a:pt x="0" y="125847"/>
                </a:lnTo>
                <a:arcTo wR="3600" hR="3600" stAng="10800000" swAng="-5400000"/>
                <a:lnTo>
                  <a:pt x="18000" y="1294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666880" y="1828800"/>
            <a:ext cx="15264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2095560" y="4762440"/>
            <a:ext cx="762120" cy="13356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2838600" y="3962520"/>
            <a:ext cx="609480" cy="15228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9" name=""/>
          <p:cNvGrpSpPr/>
          <p:nvPr/>
        </p:nvGrpSpPr>
        <p:grpSpPr>
          <a:xfrm>
            <a:off x="4094280" y="7381080"/>
            <a:ext cx="726480" cy="1240920"/>
            <a:chOff x="4094280" y="7381080"/>
            <a:chExt cx="726480" cy="1240920"/>
          </a:xfrm>
        </p:grpSpPr>
        <p:sp>
          <p:nvSpPr>
            <p:cNvPr id="2590" name=""/>
            <p:cNvSpPr/>
            <p:nvPr/>
          </p:nvSpPr>
          <p:spPr>
            <a:xfrm rot="16082400">
              <a:off x="3940920" y="7562520"/>
              <a:ext cx="1026000" cy="6854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rot="16082400">
              <a:off x="4345560" y="8139240"/>
              <a:ext cx="256320" cy="6854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2" name=""/>
          <p:cNvGrpSpPr/>
          <p:nvPr/>
        </p:nvGrpSpPr>
        <p:grpSpPr>
          <a:xfrm>
            <a:off x="2766240" y="7293240"/>
            <a:ext cx="791640" cy="1263960"/>
            <a:chOff x="2766240" y="7293240"/>
            <a:chExt cx="791640" cy="1263960"/>
          </a:xfrm>
        </p:grpSpPr>
        <p:sp>
          <p:nvSpPr>
            <p:cNvPr id="2593" name=""/>
            <p:cNvSpPr/>
            <p:nvPr/>
          </p:nvSpPr>
          <p:spPr>
            <a:xfrm rot="16481400">
              <a:off x="2659680" y="7482240"/>
              <a:ext cx="1019880" cy="69516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rot="16481400">
              <a:off x="2995560" y="8053920"/>
              <a:ext cx="254880" cy="69516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5" name=""/>
          <p:cNvGrpSpPr/>
          <p:nvPr/>
        </p:nvGrpSpPr>
        <p:grpSpPr>
          <a:xfrm>
            <a:off x="1953720" y="7305120"/>
            <a:ext cx="740520" cy="1240560"/>
            <a:chOff x="1953720" y="7305120"/>
            <a:chExt cx="740520" cy="1240560"/>
          </a:xfrm>
        </p:grpSpPr>
        <p:sp>
          <p:nvSpPr>
            <p:cNvPr id="2596" name=""/>
            <p:cNvSpPr/>
            <p:nvPr/>
          </p:nvSpPr>
          <p:spPr>
            <a:xfrm rot="16340400">
              <a:off x="1816920" y="7484040"/>
              <a:ext cx="1022040" cy="69156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rot="16340400">
              <a:off x="2176560" y="8058240"/>
              <a:ext cx="255240" cy="69156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8" name=""/>
          <p:cNvGrpSpPr/>
          <p:nvPr/>
        </p:nvGrpSpPr>
        <p:grpSpPr>
          <a:xfrm>
            <a:off x="4087800" y="4139640"/>
            <a:ext cx="892080" cy="1321200"/>
            <a:chOff x="4087800" y="4139640"/>
            <a:chExt cx="892080" cy="1321200"/>
          </a:xfrm>
        </p:grpSpPr>
        <p:sp>
          <p:nvSpPr>
            <p:cNvPr id="2599" name=""/>
            <p:cNvSpPr/>
            <p:nvPr/>
          </p:nvSpPr>
          <p:spPr>
            <a:xfrm rot="4782000">
              <a:off x="4037760" y="4551840"/>
              <a:ext cx="1026000" cy="68544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rot="4782000">
              <a:off x="4319280" y="3984120"/>
              <a:ext cx="256320" cy="68544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1" name=""/>
          <p:cNvGrpSpPr/>
          <p:nvPr/>
        </p:nvGrpSpPr>
        <p:grpSpPr>
          <a:xfrm>
            <a:off x="3627720" y="5506560"/>
            <a:ext cx="1278720" cy="797760"/>
            <a:chOff x="3627720" y="5506560"/>
            <a:chExt cx="1278720" cy="797760"/>
          </a:xfrm>
        </p:grpSpPr>
        <p:sp>
          <p:nvSpPr>
            <p:cNvPr id="2602" name=""/>
            <p:cNvSpPr/>
            <p:nvPr/>
          </p:nvSpPr>
          <p:spPr>
            <a:xfrm rot="10472400">
              <a:off x="3657600" y="5571360"/>
              <a:ext cx="1026360" cy="68544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rot="10472400">
              <a:off x="4618080" y="5517000"/>
              <a:ext cx="256320" cy="68544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4" name=""/>
          <p:cNvGrpSpPr/>
          <p:nvPr/>
        </p:nvGrpSpPr>
        <p:grpSpPr>
          <a:xfrm>
            <a:off x="1448640" y="1981080"/>
            <a:ext cx="1218240" cy="685440"/>
            <a:chOff x="1448640" y="1981080"/>
            <a:chExt cx="1218240" cy="685440"/>
          </a:xfrm>
        </p:grpSpPr>
        <p:sp>
          <p:nvSpPr>
            <p:cNvPr id="2605" name=""/>
            <p:cNvSpPr/>
            <p:nvPr/>
          </p:nvSpPr>
          <p:spPr>
            <a:xfrm rot="10800000">
              <a:off x="1448640" y="1981080"/>
              <a:ext cx="1026000" cy="68544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rot="10800000">
              <a:off x="2410560" y="1981080"/>
              <a:ext cx="256320" cy="68544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7" name=""/>
          <p:cNvGrpSpPr/>
          <p:nvPr/>
        </p:nvGrpSpPr>
        <p:grpSpPr>
          <a:xfrm>
            <a:off x="1448640" y="3200400"/>
            <a:ext cx="1218240" cy="685440"/>
            <a:chOff x="1448640" y="3200400"/>
            <a:chExt cx="1218240" cy="685440"/>
          </a:xfrm>
        </p:grpSpPr>
        <p:sp>
          <p:nvSpPr>
            <p:cNvPr id="2608" name=""/>
            <p:cNvSpPr/>
            <p:nvPr/>
          </p:nvSpPr>
          <p:spPr>
            <a:xfrm rot="10800000">
              <a:off x="1448640" y="3200400"/>
              <a:ext cx="1026000" cy="6854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rot="10800000">
              <a:off x="2410560" y="3200400"/>
              <a:ext cx="256320" cy="68544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0" name=""/>
          <p:cNvGrpSpPr/>
          <p:nvPr/>
        </p:nvGrpSpPr>
        <p:grpSpPr>
          <a:xfrm>
            <a:off x="4253400" y="2049840"/>
            <a:ext cx="712800" cy="1234080"/>
            <a:chOff x="4253400" y="2049840"/>
            <a:chExt cx="712800" cy="1234080"/>
          </a:xfrm>
        </p:grpSpPr>
        <p:sp>
          <p:nvSpPr>
            <p:cNvPr id="2611" name=""/>
            <p:cNvSpPr/>
            <p:nvPr/>
          </p:nvSpPr>
          <p:spPr>
            <a:xfrm rot="5478000">
              <a:off x="4094280" y="2420280"/>
              <a:ext cx="1026360" cy="68544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rot="5478000">
              <a:off x="4492440" y="1842840"/>
              <a:ext cx="256320" cy="68544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3" name=""/>
          <p:cNvGrpSpPr/>
          <p:nvPr/>
        </p:nvGrpSpPr>
        <p:grpSpPr>
          <a:xfrm>
            <a:off x="2836080" y="2026080"/>
            <a:ext cx="804600" cy="1281600"/>
            <a:chOff x="2836080" y="2026080"/>
            <a:chExt cx="804600" cy="1281600"/>
          </a:xfrm>
        </p:grpSpPr>
        <p:sp>
          <p:nvSpPr>
            <p:cNvPr id="2614" name=""/>
            <p:cNvSpPr/>
            <p:nvPr/>
          </p:nvSpPr>
          <p:spPr>
            <a:xfrm rot="5053800">
              <a:off x="2734560" y="2419920"/>
              <a:ext cx="1026360" cy="68544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rot="5053800">
              <a:off x="3061440" y="1845360"/>
              <a:ext cx="256320" cy="68544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6" name=""/>
          <p:cNvSpPr/>
          <p:nvPr/>
        </p:nvSpPr>
        <p:spPr>
          <a:xfrm>
            <a:off x="1371600" y="4419720"/>
            <a:ext cx="304920" cy="30456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685800" y="4781520"/>
            <a:ext cx="304920" cy="30492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1066680" y="5181480"/>
            <a:ext cx="304920" cy="30492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 rot="226200">
            <a:off x="914040" y="4629240"/>
            <a:ext cx="838080" cy="6858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5715000" y="3962520"/>
            <a:ext cx="304920" cy="30456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1" name=""/>
          <p:cNvGrpSpPr/>
          <p:nvPr/>
        </p:nvGrpSpPr>
        <p:grpSpPr>
          <a:xfrm>
            <a:off x="2115360" y="5528880"/>
            <a:ext cx="1254960" cy="753480"/>
            <a:chOff x="2115360" y="5528880"/>
            <a:chExt cx="1254960" cy="753480"/>
          </a:xfrm>
        </p:grpSpPr>
        <p:sp>
          <p:nvSpPr>
            <p:cNvPr id="2622" name=""/>
            <p:cNvSpPr/>
            <p:nvPr/>
          </p:nvSpPr>
          <p:spPr>
            <a:xfrm rot="195000">
              <a:off x="2325600" y="5568120"/>
              <a:ext cx="1026000" cy="68544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rot="195000">
              <a:off x="2134440" y="5535360"/>
              <a:ext cx="256320" cy="68544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4" name=""/>
          <p:cNvSpPr/>
          <p:nvPr/>
        </p:nvSpPr>
        <p:spPr>
          <a:xfrm>
            <a:off x="4991040" y="2514600"/>
            <a:ext cx="152640" cy="137160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1371600"/>
              <a:gd name="textAreaBottom" fmla="*/ 1364400 h 1371600"/>
            </a:gdLst>
            <a:ahLst/>
            <a:rect l="textAreaLeft" t="textAreaTop" r="textAreaRight" b="textAreaBottom"/>
            <a:pathLst>
              <a:path w="21600" h="193688">
                <a:moveTo>
                  <a:pt x="3600" y="0"/>
                </a:moveTo>
                <a:arcTo wR="3600" hR="3600" stAng="16200000" swAng="-5400000"/>
                <a:lnTo>
                  <a:pt x="0" y="190088"/>
                </a:lnTo>
                <a:arcTo wR="3600" hR="3600" stAng="10800000" swAng="-5400000"/>
                <a:lnTo>
                  <a:pt x="18000" y="1936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5029200" y="4800600"/>
            <a:ext cx="152280" cy="13716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1371600"/>
              <a:gd name="textAreaBottom" fmla="*/ 1364400 h 1371600"/>
            </a:gdLst>
            <a:ahLst/>
            <a:rect l="textAreaLeft" t="textAreaTop" r="textAreaRight" b="textAreaBottom"/>
            <a:pathLst>
              <a:path w="21600" h="194145">
                <a:moveTo>
                  <a:pt x="3600" y="0"/>
                </a:moveTo>
                <a:arcTo wR="3600" hR="3600" stAng="16200000" swAng="-5400000"/>
                <a:lnTo>
                  <a:pt x="0" y="190545"/>
                </a:lnTo>
                <a:arcTo wR="3600" hR="3600" stAng="10800000" swAng="-5400000"/>
                <a:lnTo>
                  <a:pt x="18000" y="1941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4991040" y="6553080"/>
            <a:ext cx="152640" cy="137160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1371600"/>
              <a:gd name="textAreaBottom" fmla="*/ 1364400 h 1371600"/>
            </a:gdLst>
            <a:ahLst/>
            <a:rect l="textAreaLeft" t="textAreaTop" r="textAreaRight" b="textAreaBottom"/>
            <a:pathLst>
              <a:path w="21600" h="193688">
                <a:moveTo>
                  <a:pt x="3600" y="0"/>
                </a:moveTo>
                <a:arcTo wR="3600" hR="3600" stAng="16200000" swAng="-5400000"/>
                <a:lnTo>
                  <a:pt x="0" y="190088"/>
                </a:lnTo>
                <a:arcTo wR="3600" hR="3600" stAng="10800000" swAng="-5400000"/>
                <a:lnTo>
                  <a:pt x="18000" y="1936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7" name=""/>
          <p:cNvGrpSpPr/>
          <p:nvPr/>
        </p:nvGrpSpPr>
        <p:grpSpPr>
          <a:xfrm>
            <a:off x="-171360" y="28440"/>
            <a:ext cx="7467480" cy="10131480"/>
            <a:chOff x="-171360" y="28440"/>
            <a:chExt cx="7467480" cy="10131480"/>
          </a:xfrm>
        </p:grpSpPr>
        <p:grpSp>
          <p:nvGrpSpPr>
            <p:cNvPr id="2628" name=""/>
            <p:cNvGrpSpPr/>
            <p:nvPr/>
          </p:nvGrpSpPr>
          <p:grpSpPr>
            <a:xfrm>
              <a:off x="433440" y="285480"/>
              <a:ext cx="6176880" cy="9134640"/>
              <a:chOff x="433440" y="285480"/>
              <a:chExt cx="6176880" cy="9134640"/>
            </a:xfrm>
          </p:grpSpPr>
          <p:sp>
            <p:nvSpPr>
              <p:cNvPr id="2629" name=""/>
              <p:cNvSpPr/>
              <p:nvPr/>
            </p:nvSpPr>
            <p:spPr>
              <a:xfrm>
                <a:off x="439560" y="2854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120168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196380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725560" y="2854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48768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424980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5011560" y="2854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577368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53580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433440" y="2980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433440" y="10602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H="1">
                <a:off x="433440" y="18223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H="1">
                <a:off x="433440" y="25840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>
                <a:off x="433440" y="33462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>
                <a:off x="433440" y="41083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433440" y="48718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H="1">
                <a:off x="433440" y="56336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 flipH="1">
                <a:off x="433440" y="63957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>
                <a:off x="433440" y="71578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H="1">
                <a:off x="433440" y="79196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433440" y="86832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H="1">
                <a:off x="433440" y="94136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1" name=""/>
            <p:cNvSpPr/>
            <p:nvPr/>
          </p:nvSpPr>
          <p:spPr>
            <a:xfrm>
              <a:off x="819000" y="619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-171360" y="284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067520" y="5950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4" name=""/>
          <p:cNvSpPr/>
          <p:nvPr/>
        </p:nvSpPr>
        <p:spPr>
          <a:xfrm>
            <a:off x="3886200" y="6553080"/>
            <a:ext cx="304920" cy="30492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5" name="12x16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430200" y="304920"/>
            <a:ext cx="6113520" cy="9144000"/>
          </a:xfrm>
          <a:prstGeom prst="rect">
            <a:avLst/>
          </a:prstGeom>
          <a:ln w="0">
            <a:noFill/>
          </a:ln>
        </p:spPr>
      </p:pic>
      <p:sp>
        <p:nvSpPr>
          <p:cNvPr id="2656" name=""/>
          <p:cNvSpPr/>
          <p:nvPr/>
        </p:nvSpPr>
        <p:spPr>
          <a:xfrm>
            <a:off x="5562720" y="304920"/>
            <a:ext cx="990360" cy="9144000"/>
          </a:xfrm>
          <a:custGeom>
            <a:avLst/>
            <a:gdLst/>
            <a:ahLst/>
            <a:rect l="l" t="t" r="r" b="b"/>
            <a:pathLst>
              <a:path w="624" h="5760">
                <a:moveTo>
                  <a:pt x="0" y="0"/>
                </a:moveTo>
                <a:lnTo>
                  <a:pt x="624" y="0"/>
                </a:lnTo>
                <a:lnTo>
                  <a:pt x="624" y="5760"/>
                </a:lnTo>
                <a:lnTo>
                  <a:pt x="0" y="5760"/>
                </a:lnTo>
                <a:lnTo>
                  <a:pt x="0" y="3216"/>
                </a:lnTo>
                <a:lnTo>
                  <a:pt x="0" y="7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cce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04920" y="944892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1 ([2.7], 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4000680" y="304920"/>
            <a:ext cx="2057400" cy="4038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990720" y="3124080"/>
            <a:ext cx="3504960" cy="1219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914400" y="304920"/>
            <a:ext cx="152280" cy="4038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3962520" y="304920"/>
            <a:ext cx="15228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990720" y="3048120"/>
            <a:ext cx="30477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914400" y="1419120"/>
            <a:ext cx="195120" cy="561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2552760" y="3048120"/>
            <a:ext cx="914400" cy="199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971800" y="343080"/>
            <a:ext cx="762120" cy="571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3733920" y="343080"/>
            <a:ext cx="190440" cy="571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6033960" y="7696080"/>
            <a:ext cx="76320" cy="1295640"/>
          </a:xfrm>
          <a:prstGeom prst="rect">
            <a:avLst/>
          </a:prstGeom>
          <a:gradFill rotWithShape="0">
            <a:gsLst>
              <a:gs pos="0">
                <a:srgbClr val="2f2d23"/>
              </a:gs>
              <a:gs pos="100000">
                <a:srgbClr val="6662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1295280" y="343080"/>
            <a:ext cx="762120" cy="571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1152360" y="343080"/>
            <a:ext cx="190800" cy="571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523880" y="2209680"/>
            <a:ext cx="304920" cy="30492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 rot="21343200">
            <a:off x="3352320" y="6858000"/>
            <a:ext cx="1067040" cy="1523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4495680" y="4338720"/>
            <a:ext cx="1557360" cy="5110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 rot="90000">
            <a:off x="5943240" y="907560"/>
            <a:ext cx="595440" cy="16002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 rot="21466800">
            <a:off x="4049280" y="4410000"/>
            <a:ext cx="457200" cy="9907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4495680" y="4419720"/>
            <a:ext cx="152640" cy="5029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457200" y="4267080"/>
            <a:ext cx="41911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1509840" y="4191120"/>
            <a:ext cx="928440" cy="1857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8" name="4x2_Stairs.a.0" descr=""/>
          <p:cNvPicPr/>
          <p:nvPr/>
        </p:nvPicPr>
        <p:blipFill>
          <a:blip r:embed="rId16"/>
          <a:stretch/>
        </p:blipFill>
        <p:spPr>
          <a:xfrm>
            <a:off x="990720" y="8305920"/>
            <a:ext cx="2057400" cy="1143000"/>
          </a:xfrm>
          <a:prstGeom prst="rect">
            <a:avLst/>
          </a:prstGeom>
          <a:ln w="0">
            <a:noFill/>
          </a:ln>
        </p:spPr>
      </p:pic>
      <p:sp>
        <p:nvSpPr>
          <p:cNvPr id="2679" name=""/>
          <p:cNvSpPr/>
          <p:nvPr/>
        </p:nvSpPr>
        <p:spPr>
          <a:xfrm>
            <a:off x="914400" y="8229600"/>
            <a:ext cx="1066680" cy="1094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0" name="2x1_SingleDoor.b.90" descr=""/>
          <p:cNvPicPr/>
          <p:nvPr/>
        </p:nvPicPr>
        <p:blipFill>
          <a:blip r:embed="rId18">
            <a:lum bright="10000"/>
          </a:blip>
          <a:stretch/>
        </p:blipFill>
        <p:spPr>
          <a:xfrm>
            <a:off x="457200" y="5962680"/>
            <a:ext cx="533520" cy="1219320"/>
          </a:xfrm>
          <a:prstGeom prst="rect">
            <a:avLst/>
          </a:prstGeom>
          <a:ln w="0">
            <a:noFill/>
          </a:ln>
        </p:spPr>
      </p:pic>
      <p:pic>
        <p:nvPicPr>
          <p:cNvPr id="2681" name="2x1_SingleDoor.b.90" descr=""/>
          <p:cNvPicPr/>
          <p:nvPr/>
        </p:nvPicPr>
        <p:blipFill>
          <a:blip r:embed="rId19">
            <a:lum bright="10000"/>
          </a:blip>
          <a:stretch/>
        </p:blipFill>
        <p:spPr>
          <a:xfrm>
            <a:off x="457200" y="7162920"/>
            <a:ext cx="533520" cy="1218960"/>
          </a:xfrm>
          <a:prstGeom prst="rect">
            <a:avLst/>
          </a:prstGeom>
          <a:ln w="0">
            <a:noFill/>
          </a:ln>
        </p:spPr>
      </p:pic>
      <p:pic>
        <p:nvPicPr>
          <p:cNvPr id="2682" name="2x1_SingleDoor.b.90" descr=""/>
          <p:cNvPicPr/>
          <p:nvPr/>
        </p:nvPicPr>
        <p:blipFill>
          <a:blip r:embed="rId20">
            <a:lum bright="10000"/>
          </a:blip>
          <a:stretch/>
        </p:blipFill>
        <p:spPr>
          <a:xfrm>
            <a:off x="457200" y="8229600"/>
            <a:ext cx="533520" cy="1219320"/>
          </a:xfrm>
          <a:prstGeom prst="rect">
            <a:avLst/>
          </a:prstGeom>
          <a:ln w="0">
            <a:noFill/>
          </a:ln>
        </p:spPr>
      </p:pic>
      <p:sp>
        <p:nvSpPr>
          <p:cNvPr id="2683" name=""/>
          <p:cNvSpPr/>
          <p:nvPr/>
        </p:nvSpPr>
        <p:spPr>
          <a:xfrm>
            <a:off x="533520" y="5943600"/>
            <a:ext cx="457200" cy="763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914400" y="5943600"/>
            <a:ext cx="76320" cy="239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457200" y="4343400"/>
            <a:ext cx="7632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380880" y="9372600"/>
            <a:ext cx="42674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4572000" y="7162920"/>
            <a:ext cx="152280" cy="12189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1981080" y="1676520"/>
            <a:ext cx="304920" cy="30456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 rot="486000">
            <a:off x="1904760" y="1981080"/>
            <a:ext cx="609480" cy="6318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3657600" y="1600200"/>
            <a:ext cx="304920" cy="30492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 rot="21411000">
            <a:off x="5971680" y="6551280"/>
            <a:ext cx="609840" cy="167652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2" name=""/>
          <p:cNvGrpSpPr/>
          <p:nvPr/>
        </p:nvGrpSpPr>
        <p:grpSpPr>
          <a:xfrm>
            <a:off x="47520" y="66600"/>
            <a:ext cx="7315200" cy="9435960"/>
            <a:chOff x="47520" y="66600"/>
            <a:chExt cx="7315200" cy="9435960"/>
          </a:xfrm>
        </p:grpSpPr>
        <p:grpSp>
          <p:nvGrpSpPr>
            <p:cNvPr id="2693" name=""/>
            <p:cNvGrpSpPr/>
            <p:nvPr/>
          </p:nvGrpSpPr>
          <p:grpSpPr>
            <a:xfrm>
              <a:off x="428760" y="295200"/>
              <a:ext cx="6095880" cy="9153360"/>
              <a:chOff x="428760" y="295200"/>
              <a:chExt cx="6095880" cy="9153360"/>
            </a:xfrm>
          </p:grpSpPr>
          <p:grpSp>
            <p:nvGrpSpPr>
              <p:cNvPr id="2694" name=""/>
              <p:cNvGrpSpPr/>
              <p:nvPr/>
            </p:nvGrpSpPr>
            <p:grpSpPr>
              <a:xfrm>
                <a:off x="4986360" y="299880"/>
                <a:ext cx="1524240" cy="9148680"/>
                <a:chOff x="4986360" y="299880"/>
                <a:chExt cx="1524240" cy="9148680"/>
              </a:xfrm>
            </p:grpSpPr>
            <p:sp>
              <p:nvSpPr>
                <p:cNvPr id="2695" name=""/>
                <p:cNvSpPr/>
                <p:nvPr/>
              </p:nvSpPr>
              <p:spPr>
                <a:xfrm>
                  <a:off x="6005520" y="30456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5491440" y="29988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6510600" y="29988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4986360" y="29988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2957760" y="299880"/>
                <a:ext cx="1523880" cy="9148680"/>
                <a:chOff x="2957760" y="299880"/>
                <a:chExt cx="1523880" cy="914868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3976560" y="30456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3462480" y="29988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4481640" y="29988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2957760" y="29988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4" name=""/>
              <p:cNvGrpSpPr/>
              <p:nvPr/>
            </p:nvGrpSpPr>
            <p:grpSpPr>
              <a:xfrm>
                <a:off x="947880" y="295200"/>
                <a:ext cx="1523880" cy="9148680"/>
                <a:chOff x="947880" y="295200"/>
                <a:chExt cx="1523880" cy="9148680"/>
              </a:xfrm>
            </p:grpSpPr>
            <p:sp>
              <p:nvSpPr>
                <p:cNvPr id="2705" name=""/>
                <p:cNvSpPr/>
                <p:nvPr/>
              </p:nvSpPr>
              <p:spPr>
                <a:xfrm>
                  <a:off x="1966680" y="29988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1452600" y="295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2471760" y="295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947880" y="295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9" name=""/>
              <p:cNvSpPr/>
              <p:nvPr/>
            </p:nvSpPr>
            <p:spPr>
              <a:xfrm>
                <a:off x="428760" y="299880"/>
                <a:ext cx="0" cy="914400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428760" y="9443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428760" y="771984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428760" y="828684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428760" y="8867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428760" y="7157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428760" y="543384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428760" y="600084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428760" y="6581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28760" y="4871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428760" y="314784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428760" y="371484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28760" y="4295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428760" y="2585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428760" y="86184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428760" y="142884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428760" y="2009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428760" y="299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7" name=""/>
            <p:cNvSpPr/>
            <p:nvPr/>
          </p:nvSpPr>
          <p:spPr>
            <a:xfrm>
              <a:off x="7058160" y="219240"/>
              <a:ext cx="30456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7520" y="44784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8104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"/>
          <p:cNvSpPr/>
          <p:nvPr/>
        </p:nvSpPr>
        <p:spPr>
          <a:xfrm>
            <a:off x="457200" y="304920"/>
            <a:ext cx="6095880" cy="9144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304920" y="940608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2 [3.2](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2" name=""/>
          <p:cNvGrpSpPr/>
          <p:nvPr/>
        </p:nvGrpSpPr>
        <p:grpSpPr>
          <a:xfrm>
            <a:off x="3962520" y="4343400"/>
            <a:ext cx="1257120" cy="1219320"/>
            <a:chOff x="3962520" y="4343400"/>
            <a:chExt cx="1257120" cy="1219320"/>
          </a:xfrm>
        </p:grpSpPr>
        <p:sp>
          <p:nvSpPr>
            <p:cNvPr id="2733" name=""/>
            <p:cNvSpPr/>
            <p:nvPr/>
          </p:nvSpPr>
          <p:spPr>
            <a:xfrm rot="5400000">
              <a:off x="4010040" y="4353120"/>
              <a:ext cx="1162080" cy="1257120"/>
            </a:xfrm>
            <a:custGeom>
              <a:avLst/>
              <a:gdLst/>
              <a:ahLst/>
              <a:rect l="l" t="t" r="r" b="b"/>
              <a:pathLst>
                <a:path w="732" h="792">
                  <a:moveTo>
                    <a:pt x="48" y="84"/>
                  </a:moveTo>
                  <a:lnTo>
                    <a:pt x="422" y="0"/>
                  </a:lnTo>
                  <a:lnTo>
                    <a:pt x="732" y="94"/>
                  </a:lnTo>
                  <a:lnTo>
                    <a:pt x="732" y="282"/>
                  </a:lnTo>
                  <a:lnTo>
                    <a:pt x="546" y="477"/>
                  </a:lnTo>
                  <a:lnTo>
                    <a:pt x="422" y="792"/>
                  </a:lnTo>
                  <a:lnTo>
                    <a:pt x="125" y="752"/>
                  </a:lnTo>
                  <a:lnTo>
                    <a:pt x="0" y="300"/>
                  </a:lnTo>
                  <a:lnTo>
                    <a:pt x="4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 rot="5400000">
              <a:off x="4018680" y="4324680"/>
              <a:ext cx="1086120" cy="1123560"/>
            </a:xfrm>
            <a:custGeom>
              <a:avLst/>
              <a:gdLst/>
              <a:ahLst/>
              <a:rect l="l" t="t" r="r" b="b"/>
              <a:pathLst>
                <a:path w="684" h="708">
                  <a:moveTo>
                    <a:pt x="72" y="60"/>
                  </a:moveTo>
                  <a:lnTo>
                    <a:pt x="384" y="0"/>
                  </a:lnTo>
                  <a:lnTo>
                    <a:pt x="684" y="84"/>
                  </a:lnTo>
                  <a:lnTo>
                    <a:pt x="684" y="252"/>
                  </a:lnTo>
                  <a:lnTo>
                    <a:pt x="504" y="426"/>
                  </a:lnTo>
                  <a:lnTo>
                    <a:pt x="384" y="708"/>
                  </a:lnTo>
                  <a:lnTo>
                    <a:pt x="96" y="672"/>
                  </a:lnTo>
                  <a:lnTo>
                    <a:pt x="0" y="264"/>
                  </a:lnTo>
                  <a:lnTo>
                    <a:pt x="72" y="6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5" name=""/>
          <p:cNvSpPr/>
          <p:nvPr/>
        </p:nvSpPr>
        <p:spPr>
          <a:xfrm>
            <a:off x="380880" y="7010280"/>
            <a:ext cx="6248520" cy="381240"/>
          </a:xfrm>
          <a:custGeom>
            <a:avLst/>
            <a:gdLst>
              <a:gd name="textAreaLeft" fmla="*/ 0 w 6248520"/>
              <a:gd name="textAreaRight" fmla="*/ 6248880 w 624852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990720" y="2495520"/>
            <a:ext cx="1549440" cy="2619360"/>
          </a:xfrm>
          <a:custGeom>
            <a:avLst/>
            <a:gdLst/>
            <a:ahLst/>
            <a:rect l="l" t="t" r="r" b="b"/>
            <a:pathLst>
              <a:path w="976" h="1650">
                <a:moveTo>
                  <a:pt x="168" y="18"/>
                </a:moveTo>
                <a:cubicBezTo>
                  <a:pt x="420" y="0"/>
                  <a:pt x="672" y="0"/>
                  <a:pt x="876" y="0"/>
                </a:cubicBezTo>
                <a:cubicBezTo>
                  <a:pt x="971" y="150"/>
                  <a:pt x="976" y="427"/>
                  <a:pt x="935" y="594"/>
                </a:cubicBezTo>
                <a:cubicBezTo>
                  <a:pt x="894" y="761"/>
                  <a:pt x="737" y="828"/>
                  <a:pt x="632" y="1002"/>
                </a:cubicBezTo>
                <a:cubicBezTo>
                  <a:pt x="528" y="1176"/>
                  <a:pt x="406" y="1650"/>
                  <a:pt x="305" y="1638"/>
                </a:cubicBezTo>
                <a:cubicBezTo>
                  <a:pt x="203" y="1626"/>
                  <a:pt x="46" y="1200"/>
                  <a:pt x="23" y="930"/>
                </a:cubicBezTo>
                <a:cubicBezTo>
                  <a:pt x="0" y="660"/>
                  <a:pt x="96" y="242"/>
                  <a:pt x="168" y="18"/>
                </a:cubicBezTo>
                <a:close/>
              </a:path>
            </a:pathLst>
          </a:custGeom>
          <a:gradFill rotWithShape="0">
            <a:gsLst>
              <a:gs pos="0">
                <a:srgbClr val="96ab94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380880" y="2362320"/>
            <a:ext cx="6248520" cy="380880"/>
          </a:xfrm>
          <a:custGeom>
            <a:avLst/>
            <a:gdLst>
              <a:gd name="textAreaLeft" fmla="*/ 0 w 6248520"/>
              <a:gd name="textAreaRight" fmla="*/ 6248880 w 6248520"/>
              <a:gd name="textAreaTop" fmla="*/ 78480 h 380880"/>
              <a:gd name="textAreaBottom" fmla="*/ 302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8" name=""/>
          <p:cNvGrpSpPr/>
          <p:nvPr/>
        </p:nvGrpSpPr>
        <p:grpSpPr>
          <a:xfrm>
            <a:off x="76320" y="66600"/>
            <a:ext cx="7315200" cy="9435600"/>
            <a:chOff x="76320" y="66600"/>
            <a:chExt cx="7315200" cy="9435600"/>
          </a:xfrm>
        </p:grpSpPr>
        <p:sp>
          <p:nvSpPr>
            <p:cNvPr id="2739" name=""/>
            <p:cNvSpPr/>
            <p:nvPr/>
          </p:nvSpPr>
          <p:spPr>
            <a:xfrm>
              <a:off x="7086600" y="21888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6320" y="44748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0984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2" name=""/>
            <p:cNvGrpSpPr/>
            <p:nvPr/>
          </p:nvGrpSpPr>
          <p:grpSpPr>
            <a:xfrm>
              <a:off x="457200" y="295200"/>
              <a:ext cx="6095880" cy="9153000"/>
              <a:chOff x="457200" y="295200"/>
              <a:chExt cx="6095880" cy="9153000"/>
            </a:xfrm>
          </p:grpSpPr>
          <p:grpSp>
            <p:nvGrpSpPr>
              <p:cNvPr id="2743" name=""/>
              <p:cNvGrpSpPr/>
              <p:nvPr/>
            </p:nvGrpSpPr>
            <p:grpSpPr>
              <a:xfrm>
                <a:off x="5014800" y="299520"/>
                <a:ext cx="1524240" cy="9148680"/>
                <a:chOff x="5014800" y="299520"/>
                <a:chExt cx="1524240" cy="9148680"/>
              </a:xfrm>
            </p:grpSpPr>
            <p:sp>
              <p:nvSpPr>
                <p:cNvPr id="2744" name=""/>
                <p:cNvSpPr/>
                <p:nvPr/>
              </p:nvSpPr>
              <p:spPr>
                <a:xfrm>
                  <a:off x="603396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55198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653904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50148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8" name=""/>
              <p:cNvGrpSpPr/>
              <p:nvPr/>
            </p:nvGrpSpPr>
            <p:grpSpPr>
              <a:xfrm>
                <a:off x="2986200" y="299520"/>
                <a:ext cx="1523880" cy="9148680"/>
                <a:chOff x="2986200" y="299520"/>
                <a:chExt cx="1523880" cy="9148680"/>
              </a:xfrm>
            </p:grpSpPr>
            <p:sp>
              <p:nvSpPr>
                <p:cNvPr id="2749" name=""/>
                <p:cNvSpPr/>
                <p:nvPr/>
              </p:nvSpPr>
              <p:spPr>
                <a:xfrm>
                  <a:off x="400500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34909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45100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29862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3" name=""/>
              <p:cNvGrpSpPr/>
              <p:nvPr/>
            </p:nvGrpSpPr>
            <p:grpSpPr>
              <a:xfrm>
                <a:off x="976320" y="295200"/>
                <a:ext cx="1523880" cy="9147960"/>
                <a:chOff x="976320" y="295200"/>
                <a:chExt cx="1523880" cy="9147960"/>
              </a:xfrm>
            </p:grpSpPr>
            <p:sp>
              <p:nvSpPr>
                <p:cNvPr id="2754" name=""/>
                <p:cNvSpPr/>
                <p:nvPr/>
              </p:nvSpPr>
              <p:spPr>
                <a:xfrm>
                  <a:off x="1995120" y="2995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148104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250020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97632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8" name=""/>
              <p:cNvSpPr/>
              <p:nvPr/>
            </p:nvSpPr>
            <p:spPr>
              <a:xfrm>
                <a:off x="457200" y="29952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57200" y="9443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457200" y="7719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457200" y="8286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457200" y="886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57200" y="715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57200" y="5433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57200" y="6000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457200" y="658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57200" y="487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57200" y="3147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57200" y="3714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457200" y="429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57200" y="258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57200" y="861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57200" y="1428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57200" y="200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57200" y="29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6" name=""/>
          <p:cNvSpPr/>
          <p:nvPr/>
        </p:nvSpPr>
        <p:spPr>
          <a:xfrm>
            <a:off x="5791320" y="2362320"/>
            <a:ext cx="9144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791320" y="2685960"/>
            <a:ext cx="9144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6629400" y="2286000"/>
            <a:ext cx="0" cy="4572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5962680" y="2335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150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886360" y="7029360"/>
            <a:ext cx="9144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886360" y="7353360"/>
            <a:ext cx="9144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6724800" y="6953400"/>
            <a:ext cx="0" cy="4572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5962680" y="70977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150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304920" y="940608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3 [3.3]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野外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457200" y="304920"/>
            <a:ext cx="6095880" cy="914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 rot="19876200">
            <a:off x="2743200" y="3352680"/>
            <a:ext cx="1371600" cy="6858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5486400" y="5334120"/>
            <a:ext cx="533520" cy="1371600"/>
          </a:xfrm>
          <a:prstGeom prst="cloudCallout">
            <a:avLst>
              <a:gd name="adj1" fmla="val -36013"/>
              <a:gd name="adj2" fmla="val -14814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 rot="10800000">
            <a:off x="4114800" y="8305560"/>
            <a:ext cx="990720" cy="1066680"/>
          </a:xfrm>
          <a:prstGeom prst="cloudCallout">
            <a:avLst>
              <a:gd name="adj1" fmla="val 34453"/>
              <a:gd name="adj2" fmla="val -18902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457200" y="2057400"/>
            <a:ext cx="533520" cy="1371600"/>
          </a:xfrm>
          <a:prstGeom prst="cloudCallout">
            <a:avLst>
              <a:gd name="adj1" fmla="val -36013"/>
              <a:gd name="adj2" fmla="val -14814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 rot="5400000">
            <a:off x="5429160" y="1238040"/>
            <a:ext cx="647640" cy="990720"/>
          </a:xfrm>
          <a:prstGeom prst="cloudCallout">
            <a:avLst>
              <a:gd name="adj1" fmla="val 12819"/>
              <a:gd name="adj2" fmla="val 54407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 rot="10800000">
            <a:off x="3429000" y="7162560"/>
            <a:ext cx="990720" cy="1066680"/>
          </a:xfrm>
          <a:prstGeom prst="cloudCallout">
            <a:avLst>
              <a:gd name="adj1" fmla="val 34453"/>
              <a:gd name="adj2" fmla="val -18902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371600" y="4952880"/>
            <a:ext cx="1066680" cy="1752840"/>
          </a:xfrm>
          <a:prstGeom prst="cloudCallout">
            <a:avLst>
              <a:gd name="adj1" fmla="val -21578"/>
              <a:gd name="adj2" fmla="val -9421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 rot="5400000">
            <a:off x="4952880" y="3066840"/>
            <a:ext cx="1066680" cy="1067040"/>
          </a:xfrm>
          <a:prstGeom prst="cloudCallout">
            <a:avLst>
              <a:gd name="adj1" fmla="val -12949"/>
              <a:gd name="adj2" fmla="val 43449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 rot="10800000">
            <a:off x="533160" y="2666880"/>
            <a:ext cx="990360" cy="1067040"/>
          </a:xfrm>
          <a:prstGeom prst="cloudCallout">
            <a:avLst>
              <a:gd name="adj1" fmla="val 34453"/>
              <a:gd name="adj2" fmla="val -18902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rot="5400000">
            <a:off x="4590360" y="1809720"/>
            <a:ext cx="648000" cy="990360"/>
          </a:xfrm>
          <a:prstGeom prst="cloudCallout">
            <a:avLst>
              <a:gd name="adj1" fmla="val 12819"/>
              <a:gd name="adj2" fmla="val 54407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 rot="10800000">
            <a:off x="1752480" y="8381880"/>
            <a:ext cx="990720" cy="1067040"/>
          </a:xfrm>
          <a:prstGeom prst="cloudCallout">
            <a:avLst>
              <a:gd name="adj1" fmla="val 34453"/>
              <a:gd name="adj2" fmla="val -18902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5486400" y="7162920"/>
            <a:ext cx="1066680" cy="1752480"/>
          </a:xfrm>
          <a:prstGeom prst="cloudCallout">
            <a:avLst>
              <a:gd name="adj1" fmla="val -21578"/>
              <a:gd name="adj2" fmla="val -9421"/>
            </a:avLst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 rot="10800000">
            <a:off x="1676160" y="617184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 rot="10800000">
            <a:off x="3657240" y="784836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 rot="10800000">
            <a:off x="2209680" y="899136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 rot="10800000">
            <a:off x="2209680" y="853416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 rot="10800000">
            <a:off x="1142640" y="327636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 rot="10800000">
            <a:off x="609480" y="281916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 rot="10800000">
            <a:off x="5181480" y="342864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 rot="10800000">
            <a:off x="5714640" y="38098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 rot="10800000">
            <a:off x="4952880" y="22096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 rot="10800000">
            <a:off x="5790960" y="163800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 rot="10800000">
            <a:off x="5638680" y="617184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 rot="10800000">
            <a:off x="6171840" y="7924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 rot="10800000">
            <a:off x="5790960" y="83818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 rot="10800000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 rot="10800000">
            <a:off x="4647960" y="853416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2" name=""/>
          <p:cNvGrpSpPr/>
          <p:nvPr/>
        </p:nvGrpSpPr>
        <p:grpSpPr>
          <a:xfrm>
            <a:off x="1905120" y="1523880"/>
            <a:ext cx="1752480" cy="1066680"/>
            <a:chOff x="1905120" y="1523880"/>
            <a:chExt cx="1752480" cy="1066680"/>
          </a:xfrm>
        </p:grpSpPr>
        <p:sp>
          <p:nvSpPr>
            <p:cNvPr id="2813" name=""/>
            <p:cNvSpPr/>
            <p:nvPr/>
          </p:nvSpPr>
          <p:spPr>
            <a:xfrm rot="5400000">
              <a:off x="2247840" y="1180800"/>
              <a:ext cx="1066680" cy="1752480"/>
            </a:xfrm>
            <a:prstGeom prst="cloudCallout">
              <a:avLst>
                <a:gd name="adj1" fmla="val -21578"/>
                <a:gd name="adj2" fmla="val -9421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rot="16200000">
              <a:off x="3200400" y="2207880"/>
              <a:ext cx="152640" cy="152640"/>
            </a:xfrm>
            <a:custGeom>
              <a:avLst/>
              <a:gdLst>
                <a:gd name="textAreaLeft" fmla="*/ 34920 w 152640"/>
                <a:gd name="textAreaRight" fmla="*/ 117720 w 15264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rot="16200000">
              <a:off x="2362320" y="175212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6" name=""/>
          <p:cNvSpPr/>
          <p:nvPr/>
        </p:nvSpPr>
        <p:spPr>
          <a:xfrm rot="5400000">
            <a:off x="2247480" y="4800240"/>
            <a:ext cx="838080" cy="1752840"/>
          </a:xfrm>
          <a:prstGeom prst="cloudCallout">
            <a:avLst>
              <a:gd name="adj1" fmla="val 541"/>
              <a:gd name="adj2" fmla="val 20263"/>
            </a:avLst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rot="10800000">
            <a:off x="3124080" y="571464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 rot="10800000">
            <a:off x="1752480" y="518148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rot="10800000">
            <a:off x="2209680" y="571464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0" name=""/>
          <p:cNvGrpSpPr/>
          <p:nvPr/>
        </p:nvGrpSpPr>
        <p:grpSpPr>
          <a:xfrm>
            <a:off x="76320" y="66600"/>
            <a:ext cx="7315200" cy="9435600"/>
            <a:chOff x="76320" y="66600"/>
            <a:chExt cx="7315200" cy="9435600"/>
          </a:xfrm>
        </p:grpSpPr>
        <p:sp>
          <p:nvSpPr>
            <p:cNvPr id="2821" name=""/>
            <p:cNvSpPr/>
            <p:nvPr/>
          </p:nvSpPr>
          <p:spPr>
            <a:xfrm>
              <a:off x="7086600" y="21888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6320" y="44748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60984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4" name=""/>
            <p:cNvGrpSpPr/>
            <p:nvPr/>
          </p:nvGrpSpPr>
          <p:grpSpPr>
            <a:xfrm>
              <a:off x="457200" y="295200"/>
              <a:ext cx="6095880" cy="9153000"/>
              <a:chOff x="457200" y="295200"/>
              <a:chExt cx="6095880" cy="9153000"/>
            </a:xfrm>
          </p:grpSpPr>
          <p:grpSp>
            <p:nvGrpSpPr>
              <p:cNvPr id="2825" name=""/>
              <p:cNvGrpSpPr/>
              <p:nvPr/>
            </p:nvGrpSpPr>
            <p:grpSpPr>
              <a:xfrm>
                <a:off x="5014800" y="299520"/>
                <a:ext cx="1524240" cy="9148680"/>
                <a:chOff x="5014800" y="299520"/>
                <a:chExt cx="1524240" cy="9148680"/>
              </a:xfrm>
            </p:grpSpPr>
            <p:sp>
              <p:nvSpPr>
                <p:cNvPr id="2826" name=""/>
                <p:cNvSpPr/>
                <p:nvPr/>
              </p:nvSpPr>
              <p:spPr>
                <a:xfrm>
                  <a:off x="603396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55198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653904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50148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0" name=""/>
              <p:cNvGrpSpPr/>
              <p:nvPr/>
            </p:nvGrpSpPr>
            <p:grpSpPr>
              <a:xfrm>
                <a:off x="2986200" y="299520"/>
                <a:ext cx="1523880" cy="9148680"/>
                <a:chOff x="2986200" y="299520"/>
                <a:chExt cx="1523880" cy="9148680"/>
              </a:xfrm>
            </p:grpSpPr>
            <p:sp>
              <p:nvSpPr>
                <p:cNvPr id="2831" name=""/>
                <p:cNvSpPr/>
                <p:nvPr/>
              </p:nvSpPr>
              <p:spPr>
                <a:xfrm>
                  <a:off x="400500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34909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45100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29862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5" name=""/>
              <p:cNvGrpSpPr/>
              <p:nvPr/>
            </p:nvGrpSpPr>
            <p:grpSpPr>
              <a:xfrm>
                <a:off x="976320" y="295200"/>
                <a:ext cx="1523880" cy="9147960"/>
                <a:chOff x="976320" y="295200"/>
                <a:chExt cx="1523880" cy="9147960"/>
              </a:xfrm>
            </p:grpSpPr>
            <p:sp>
              <p:nvSpPr>
                <p:cNvPr id="2836" name=""/>
                <p:cNvSpPr/>
                <p:nvPr/>
              </p:nvSpPr>
              <p:spPr>
                <a:xfrm>
                  <a:off x="1995120" y="2995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148104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250020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97632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0" name=""/>
              <p:cNvSpPr/>
              <p:nvPr/>
            </p:nvSpPr>
            <p:spPr>
              <a:xfrm>
                <a:off x="457200" y="29952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57200" y="9443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57200" y="7719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57200" y="8286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57200" y="886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57200" y="715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57200" y="5433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57200" y="6000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57200" y="658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57200" y="487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57200" y="3147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57200" y="3714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57200" y="429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57200" y="258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457200" y="861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457200" y="1428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457200" y="200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57200" y="29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8" name=""/>
          <p:cNvGrpSpPr/>
          <p:nvPr/>
        </p:nvGrpSpPr>
        <p:grpSpPr>
          <a:xfrm>
            <a:off x="609480" y="533520"/>
            <a:ext cx="1143000" cy="554400"/>
            <a:chOff x="609480" y="533520"/>
            <a:chExt cx="1143000" cy="554400"/>
          </a:xfrm>
        </p:grpSpPr>
        <p:sp>
          <p:nvSpPr>
            <p:cNvPr id="2859" name=""/>
            <p:cNvSpPr/>
            <p:nvPr/>
          </p:nvSpPr>
          <p:spPr>
            <a:xfrm>
              <a:off x="609480" y="533520"/>
              <a:ext cx="1143000" cy="5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下生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85800" y="552240"/>
              <a:ext cx="228600" cy="2282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5800" y="838080"/>
              <a:ext cx="228600" cy="2282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"/>
          <p:cNvSpPr/>
          <p:nvPr/>
        </p:nvSpPr>
        <p:spPr>
          <a:xfrm>
            <a:off x="457200" y="304920"/>
            <a:ext cx="6095880" cy="914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304920" y="940608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4 [4.2](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4952880" y="4933800"/>
            <a:ext cx="1600200" cy="4534200"/>
          </a:xfrm>
          <a:custGeom>
            <a:avLst/>
            <a:gdLst/>
            <a:ahLst/>
            <a:rect l="l" t="t" r="r" b="b"/>
            <a:pathLst>
              <a:path w="1008" h="2856">
                <a:moveTo>
                  <a:pt x="1008" y="0"/>
                </a:moveTo>
                <a:lnTo>
                  <a:pt x="420" y="444"/>
                </a:lnTo>
                <a:lnTo>
                  <a:pt x="336" y="888"/>
                </a:lnTo>
                <a:lnTo>
                  <a:pt x="48" y="1140"/>
                </a:lnTo>
                <a:lnTo>
                  <a:pt x="0" y="1476"/>
                </a:lnTo>
                <a:lnTo>
                  <a:pt x="300" y="1932"/>
                </a:lnTo>
                <a:lnTo>
                  <a:pt x="468" y="2100"/>
                </a:lnTo>
                <a:lnTo>
                  <a:pt x="384" y="2448"/>
                </a:lnTo>
                <a:lnTo>
                  <a:pt x="384" y="2856"/>
                </a:lnTo>
                <a:lnTo>
                  <a:pt x="972" y="2856"/>
                </a:lnTo>
                <a:lnTo>
                  <a:pt x="1008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 flipV="1">
            <a:off x="914400" y="285480"/>
            <a:ext cx="3095640" cy="9182160"/>
          </a:xfrm>
          <a:custGeom>
            <a:avLst/>
            <a:gdLst/>
            <a:ahLst/>
            <a:rect l="l" t="t" r="r" b="b"/>
            <a:pathLst>
              <a:path w="1950" h="5784">
                <a:moveTo>
                  <a:pt x="1920" y="36"/>
                </a:moveTo>
                <a:cubicBezTo>
                  <a:pt x="1848" y="576"/>
                  <a:pt x="1950" y="1204"/>
                  <a:pt x="1920" y="1656"/>
                </a:cubicBezTo>
                <a:cubicBezTo>
                  <a:pt x="1890" y="2108"/>
                  <a:pt x="1784" y="2474"/>
                  <a:pt x="1740" y="2748"/>
                </a:cubicBezTo>
                <a:cubicBezTo>
                  <a:pt x="1696" y="3022"/>
                  <a:pt x="1740" y="3062"/>
                  <a:pt x="1656" y="3300"/>
                </a:cubicBezTo>
                <a:cubicBezTo>
                  <a:pt x="1572" y="3538"/>
                  <a:pt x="1328" y="3946"/>
                  <a:pt x="1236" y="4176"/>
                </a:cubicBezTo>
                <a:cubicBezTo>
                  <a:pt x="1144" y="4406"/>
                  <a:pt x="1148" y="4418"/>
                  <a:pt x="1104" y="4680"/>
                </a:cubicBezTo>
                <a:cubicBezTo>
                  <a:pt x="1060" y="4942"/>
                  <a:pt x="1000" y="5570"/>
                  <a:pt x="972" y="5748"/>
                </a:cubicBezTo>
                <a:cubicBezTo>
                  <a:pt x="768" y="5748"/>
                  <a:pt x="1096" y="5742"/>
                  <a:pt x="936" y="5748"/>
                </a:cubicBezTo>
                <a:cubicBezTo>
                  <a:pt x="776" y="5754"/>
                  <a:pt x="348" y="5748"/>
                  <a:pt x="12" y="5784"/>
                </a:cubicBezTo>
                <a:cubicBezTo>
                  <a:pt x="0" y="5624"/>
                  <a:pt x="97" y="5257"/>
                  <a:pt x="120" y="5052"/>
                </a:cubicBezTo>
                <a:cubicBezTo>
                  <a:pt x="143" y="4847"/>
                  <a:pt x="46" y="4910"/>
                  <a:pt x="148" y="4554"/>
                </a:cubicBezTo>
                <a:cubicBezTo>
                  <a:pt x="250" y="4198"/>
                  <a:pt x="599" y="3393"/>
                  <a:pt x="732" y="2916"/>
                </a:cubicBezTo>
                <a:cubicBezTo>
                  <a:pt x="865" y="2439"/>
                  <a:pt x="910" y="2172"/>
                  <a:pt x="948" y="1692"/>
                </a:cubicBezTo>
                <a:cubicBezTo>
                  <a:pt x="986" y="1212"/>
                  <a:pt x="798" y="312"/>
                  <a:pt x="960" y="36"/>
                </a:cubicBezTo>
                <a:cubicBezTo>
                  <a:pt x="1380" y="24"/>
                  <a:pt x="1596" y="0"/>
                  <a:pt x="1920" y="36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 rot="5907600">
            <a:off x="2337120" y="238680"/>
            <a:ext cx="1271520" cy="1400040"/>
          </a:xfrm>
          <a:prstGeom prst="cloudCallout">
            <a:avLst>
              <a:gd name="adj1" fmla="val -12953"/>
              <a:gd name="adj2" fmla="val -518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1447920" y="5410080"/>
            <a:ext cx="914400" cy="914400"/>
          </a:xfrm>
          <a:prstGeom prst="cloudCallout">
            <a:avLst>
              <a:gd name="adj1" fmla="val 16495"/>
              <a:gd name="adj2" fmla="val -43055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5334120" y="4191120"/>
            <a:ext cx="761760" cy="1218960"/>
          </a:xfrm>
          <a:prstGeom prst="cloudCallout">
            <a:avLst>
              <a:gd name="adj1" fmla="val 49791"/>
              <a:gd name="adj2" fmla="val -13541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1943280" y="561960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 rot="5400000">
            <a:off x="456480" y="7696080"/>
            <a:ext cx="1143000" cy="1143000"/>
          </a:xfrm>
          <a:prstGeom prst="cloudCallout">
            <a:avLst>
              <a:gd name="adj1" fmla="val -143"/>
              <a:gd name="adj2" fmla="val -10277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 rot="5400000">
            <a:off x="4467240" y="866520"/>
            <a:ext cx="1162080" cy="1257120"/>
          </a:xfrm>
          <a:custGeom>
            <a:avLst/>
            <a:gdLst/>
            <a:ahLst/>
            <a:rect l="l" t="t" r="r" b="b"/>
            <a:pathLst>
              <a:path w="732" h="792">
                <a:moveTo>
                  <a:pt x="48" y="84"/>
                </a:moveTo>
                <a:lnTo>
                  <a:pt x="422" y="0"/>
                </a:lnTo>
                <a:lnTo>
                  <a:pt x="732" y="94"/>
                </a:lnTo>
                <a:lnTo>
                  <a:pt x="732" y="282"/>
                </a:lnTo>
                <a:lnTo>
                  <a:pt x="546" y="477"/>
                </a:lnTo>
                <a:lnTo>
                  <a:pt x="422" y="792"/>
                </a:lnTo>
                <a:lnTo>
                  <a:pt x="125" y="752"/>
                </a:lnTo>
                <a:lnTo>
                  <a:pt x="0" y="300"/>
                </a:lnTo>
                <a:lnTo>
                  <a:pt x="48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 rot="5400000">
            <a:off x="4514400" y="819000"/>
            <a:ext cx="1086120" cy="1123920"/>
          </a:xfrm>
          <a:custGeom>
            <a:avLst/>
            <a:gdLst/>
            <a:ahLst/>
            <a:rect l="l" t="t" r="r" b="b"/>
            <a:pathLst>
              <a:path w="684" h="708">
                <a:moveTo>
                  <a:pt x="72" y="60"/>
                </a:moveTo>
                <a:lnTo>
                  <a:pt x="384" y="0"/>
                </a:lnTo>
                <a:lnTo>
                  <a:pt x="684" y="84"/>
                </a:lnTo>
                <a:lnTo>
                  <a:pt x="684" y="252"/>
                </a:lnTo>
                <a:lnTo>
                  <a:pt x="504" y="426"/>
                </a:lnTo>
                <a:lnTo>
                  <a:pt x="384" y="708"/>
                </a:lnTo>
                <a:lnTo>
                  <a:pt x="96" y="672"/>
                </a:lnTo>
                <a:lnTo>
                  <a:pt x="0" y="264"/>
                </a:lnTo>
                <a:lnTo>
                  <a:pt x="72" y="6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715000" y="4495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4" name=""/>
          <p:cNvGrpSpPr/>
          <p:nvPr/>
        </p:nvGrpSpPr>
        <p:grpSpPr>
          <a:xfrm>
            <a:off x="76320" y="66600"/>
            <a:ext cx="7315200" cy="9435600"/>
            <a:chOff x="76320" y="66600"/>
            <a:chExt cx="7315200" cy="9435600"/>
          </a:xfrm>
        </p:grpSpPr>
        <p:sp>
          <p:nvSpPr>
            <p:cNvPr id="2875" name=""/>
            <p:cNvSpPr/>
            <p:nvPr/>
          </p:nvSpPr>
          <p:spPr>
            <a:xfrm>
              <a:off x="7086600" y="21888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6320" y="44748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0984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8" name=""/>
            <p:cNvGrpSpPr/>
            <p:nvPr/>
          </p:nvGrpSpPr>
          <p:grpSpPr>
            <a:xfrm>
              <a:off x="457200" y="295200"/>
              <a:ext cx="6095880" cy="9153000"/>
              <a:chOff x="457200" y="295200"/>
              <a:chExt cx="6095880" cy="9153000"/>
            </a:xfrm>
          </p:grpSpPr>
          <p:grpSp>
            <p:nvGrpSpPr>
              <p:cNvPr id="2879" name=""/>
              <p:cNvGrpSpPr/>
              <p:nvPr/>
            </p:nvGrpSpPr>
            <p:grpSpPr>
              <a:xfrm>
                <a:off x="5014800" y="299520"/>
                <a:ext cx="1524240" cy="9148680"/>
                <a:chOff x="5014800" y="299520"/>
                <a:chExt cx="1524240" cy="9148680"/>
              </a:xfrm>
            </p:grpSpPr>
            <p:sp>
              <p:nvSpPr>
                <p:cNvPr id="2880" name=""/>
                <p:cNvSpPr/>
                <p:nvPr/>
              </p:nvSpPr>
              <p:spPr>
                <a:xfrm>
                  <a:off x="603396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55198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653904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50148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4" name=""/>
              <p:cNvGrpSpPr/>
              <p:nvPr/>
            </p:nvGrpSpPr>
            <p:grpSpPr>
              <a:xfrm>
                <a:off x="2986200" y="299520"/>
                <a:ext cx="1523880" cy="9148680"/>
                <a:chOff x="2986200" y="299520"/>
                <a:chExt cx="1523880" cy="9148680"/>
              </a:xfrm>
            </p:grpSpPr>
            <p:sp>
              <p:nvSpPr>
                <p:cNvPr id="2885" name=""/>
                <p:cNvSpPr/>
                <p:nvPr/>
              </p:nvSpPr>
              <p:spPr>
                <a:xfrm>
                  <a:off x="400500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34909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45100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29862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9" name=""/>
              <p:cNvGrpSpPr/>
              <p:nvPr/>
            </p:nvGrpSpPr>
            <p:grpSpPr>
              <a:xfrm>
                <a:off x="976320" y="295200"/>
                <a:ext cx="1523880" cy="9147960"/>
                <a:chOff x="976320" y="295200"/>
                <a:chExt cx="1523880" cy="9147960"/>
              </a:xfrm>
            </p:grpSpPr>
            <p:sp>
              <p:nvSpPr>
                <p:cNvPr id="2890" name=""/>
                <p:cNvSpPr/>
                <p:nvPr/>
              </p:nvSpPr>
              <p:spPr>
                <a:xfrm>
                  <a:off x="1995120" y="2995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148104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250020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97632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4" name=""/>
              <p:cNvSpPr/>
              <p:nvPr/>
            </p:nvSpPr>
            <p:spPr>
              <a:xfrm>
                <a:off x="457200" y="29952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57200" y="9443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57200" y="7719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57200" y="8286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57200" y="886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57200" y="715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57200" y="5433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57200" y="6000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57200" y="658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57200" y="487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57200" y="3147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57200" y="3714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57200" y="429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57200" y="258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57200" y="861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57200" y="1428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57200" y="200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57200" y="29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2" name=""/>
          <p:cNvGrpSpPr/>
          <p:nvPr/>
        </p:nvGrpSpPr>
        <p:grpSpPr>
          <a:xfrm>
            <a:off x="533520" y="533520"/>
            <a:ext cx="1143000" cy="554400"/>
            <a:chOff x="533520" y="533520"/>
            <a:chExt cx="1143000" cy="554400"/>
          </a:xfrm>
        </p:grpSpPr>
        <p:sp>
          <p:nvSpPr>
            <p:cNvPr id="2913" name=""/>
            <p:cNvSpPr/>
            <p:nvPr/>
          </p:nvSpPr>
          <p:spPr>
            <a:xfrm>
              <a:off x="533520" y="533520"/>
              <a:ext cx="1143000" cy="5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下生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09840" y="552240"/>
              <a:ext cx="228600" cy="2282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09840" y="838080"/>
              <a:ext cx="228600" cy="228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/>
          <p:nvPr/>
        </p:nvSpPr>
        <p:spPr>
          <a:xfrm>
            <a:off x="457200" y="304920"/>
            <a:ext cx="6095880" cy="914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455760" y="237960"/>
            <a:ext cx="6105240" cy="4562640"/>
          </a:xfrm>
          <a:custGeom>
            <a:avLst/>
            <a:gdLst/>
            <a:ahLst/>
            <a:rect l="l" t="t" r="r" b="b"/>
            <a:pathLst>
              <a:path w="3846" h="2971">
                <a:moveTo>
                  <a:pt x="6" y="42"/>
                </a:moveTo>
                <a:cubicBezTo>
                  <a:pt x="642" y="0"/>
                  <a:pt x="2923" y="15"/>
                  <a:pt x="3846" y="42"/>
                </a:cubicBezTo>
                <a:cubicBezTo>
                  <a:pt x="3846" y="691"/>
                  <a:pt x="3830" y="2294"/>
                  <a:pt x="3827" y="2617"/>
                </a:cubicBezTo>
                <a:cubicBezTo>
                  <a:pt x="3608" y="2845"/>
                  <a:pt x="3252" y="2787"/>
                  <a:pt x="2892" y="2778"/>
                </a:cubicBezTo>
                <a:cubicBezTo>
                  <a:pt x="2532" y="2769"/>
                  <a:pt x="2148" y="2600"/>
                  <a:pt x="1668" y="2563"/>
                </a:cubicBezTo>
                <a:cubicBezTo>
                  <a:pt x="1188" y="2525"/>
                  <a:pt x="289" y="2971"/>
                  <a:pt x="12" y="2551"/>
                </a:cubicBezTo>
                <a:cubicBezTo>
                  <a:pt x="0" y="2131"/>
                  <a:pt x="6" y="222"/>
                  <a:pt x="6" y="42"/>
                </a:cubicBezTo>
                <a:close/>
              </a:path>
            </a:pathLst>
          </a:custGeom>
          <a:gradFill rotWithShape="0">
            <a:gsLst>
              <a:gs pos="0">
                <a:srgbClr val="1e1e1d"/>
              </a:gs>
              <a:gs pos="100000">
                <a:srgbClr val="4343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304920" y="940608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5 [4.3&amp;4.4](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379440" y="6703920"/>
            <a:ext cx="6165720" cy="2454480"/>
          </a:xfrm>
          <a:custGeom>
            <a:avLst/>
            <a:gdLst/>
            <a:ahLst/>
            <a:rect l="l" t="t" r="r" b="b"/>
            <a:pathLst>
              <a:path w="3884" h="1546">
                <a:moveTo>
                  <a:pt x="36" y="30"/>
                </a:moveTo>
                <a:cubicBezTo>
                  <a:pt x="576" y="102"/>
                  <a:pt x="1204" y="0"/>
                  <a:pt x="1656" y="30"/>
                </a:cubicBezTo>
                <a:cubicBezTo>
                  <a:pt x="2108" y="60"/>
                  <a:pt x="2474" y="166"/>
                  <a:pt x="2748" y="210"/>
                </a:cubicBezTo>
                <a:cubicBezTo>
                  <a:pt x="3022" y="254"/>
                  <a:pt x="3112" y="239"/>
                  <a:pt x="3300" y="294"/>
                </a:cubicBezTo>
                <a:cubicBezTo>
                  <a:pt x="3488" y="349"/>
                  <a:pt x="3592" y="513"/>
                  <a:pt x="3875" y="540"/>
                </a:cubicBezTo>
                <a:cubicBezTo>
                  <a:pt x="3867" y="861"/>
                  <a:pt x="3884" y="1363"/>
                  <a:pt x="3875" y="1546"/>
                </a:cubicBezTo>
                <a:cubicBezTo>
                  <a:pt x="3427" y="1446"/>
                  <a:pt x="3280" y="1309"/>
                  <a:pt x="2916" y="1218"/>
                </a:cubicBezTo>
                <a:cubicBezTo>
                  <a:pt x="2552" y="1127"/>
                  <a:pt x="2172" y="1040"/>
                  <a:pt x="1692" y="1002"/>
                </a:cubicBezTo>
                <a:cubicBezTo>
                  <a:pt x="1212" y="964"/>
                  <a:pt x="312" y="1152"/>
                  <a:pt x="36" y="990"/>
                </a:cubicBezTo>
                <a:cubicBezTo>
                  <a:pt x="24" y="570"/>
                  <a:pt x="0" y="354"/>
                  <a:pt x="36" y="3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0" name=""/>
          <p:cNvGrpSpPr/>
          <p:nvPr/>
        </p:nvGrpSpPr>
        <p:grpSpPr>
          <a:xfrm>
            <a:off x="76320" y="66600"/>
            <a:ext cx="7315200" cy="9435600"/>
            <a:chOff x="76320" y="66600"/>
            <a:chExt cx="7315200" cy="9435600"/>
          </a:xfrm>
        </p:grpSpPr>
        <p:sp>
          <p:nvSpPr>
            <p:cNvPr id="2921" name=""/>
            <p:cNvSpPr/>
            <p:nvPr/>
          </p:nvSpPr>
          <p:spPr>
            <a:xfrm>
              <a:off x="7086600" y="21888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6320" y="44748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0984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4" name=""/>
            <p:cNvGrpSpPr/>
            <p:nvPr/>
          </p:nvGrpSpPr>
          <p:grpSpPr>
            <a:xfrm>
              <a:off x="457200" y="295200"/>
              <a:ext cx="6095880" cy="9153000"/>
              <a:chOff x="457200" y="295200"/>
              <a:chExt cx="6095880" cy="9153000"/>
            </a:xfrm>
          </p:grpSpPr>
          <p:grpSp>
            <p:nvGrpSpPr>
              <p:cNvPr id="2925" name=""/>
              <p:cNvGrpSpPr/>
              <p:nvPr/>
            </p:nvGrpSpPr>
            <p:grpSpPr>
              <a:xfrm>
                <a:off x="5014800" y="299520"/>
                <a:ext cx="1524240" cy="9148680"/>
                <a:chOff x="5014800" y="299520"/>
                <a:chExt cx="1524240" cy="9148680"/>
              </a:xfrm>
            </p:grpSpPr>
            <p:sp>
              <p:nvSpPr>
                <p:cNvPr id="2926" name=""/>
                <p:cNvSpPr/>
                <p:nvPr/>
              </p:nvSpPr>
              <p:spPr>
                <a:xfrm>
                  <a:off x="603396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55198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653904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50148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0" name=""/>
              <p:cNvGrpSpPr/>
              <p:nvPr/>
            </p:nvGrpSpPr>
            <p:grpSpPr>
              <a:xfrm>
                <a:off x="2986200" y="299520"/>
                <a:ext cx="1523880" cy="9148680"/>
                <a:chOff x="2986200" y="299520"/>
                <a:chExt cx="1523880" cy="9148680"/>
              </a:xfrm>
            </p:grpSpPr>
            <p:sp>
              <p:nvSpPr>
                <p:cNvPr id="2931" name=""/>
                <p:cNvSpPr/>
                <p:nvPr/>
              </p:nvSpPr>
              <p:spPr>
                <a:xfrm>
                  <a:off x="400500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34909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45100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29862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5" name=""/>
              <p:cNvGrpSpPr/>
              <p:nvPr/>
            </p:nvGrpSpPr>
            <p:grpSpPr>
              <a:xfrm>
                <a:off x="976320" y="295200"/>
                <a:ext cx="1523880" cy="9147960"/>
                <a:chOff x="976320" y="295200"/>
                <a:chExt cx="1523880" cy="9147960"/>
              </a:xfrm>
            </p:grpSpPr>
            <p:sp>
              <p:nvSpPr>
                <p:cNvPr id="2936" name=""/>
                <p:cNvSpPr/>
                <p:nvPr/>
              </p:nvSpPr>
              <p:spPr>
                <a:xfrm>
                  <a:off x="1995120" y="2995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148104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250020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97632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0" name=""/>
              <p:cNvSpPr/>
              <p:nvPr/>
            </p:nvSpPr>
            <p:spPr>
              <a:xfrm>
                <a:off x="457200" y="29952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57200" y="9443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57200" y="7719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57200" y="8286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57200" y="886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57200" y="715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457200" y="5433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57200" y="6000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57200" y="658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57200" y="487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57200" y="3147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57200" y="3714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7200" y="429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57200" y="258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57200" y="861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57200" y="1428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57200" y="200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457200" y="29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"/>
          <p:cNvSpPr/>
          <p:nvPr/>
        </p:nvSpPr>
        <p:spPr>
          <a:xfrm>
            <a:off x="457200" y="304920"/>
            <a:ext cx="6095880" cy="914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 rot="16200000">
            <a:off x="5295960" y="1942920"/>
            <a:ext cx="609480" cy="1904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 rot="16200000">
            <a:off x="571320" y="1333440"/>
            <a:ext cx="1752480" cy="198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04920" y="940608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6 [5.1](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1905120" y="324000"/>
            <a:ext cx="2724120" cy="9163080"/>
          </a:xfrm>
          <a:custGeom>
            <a:avLst/>
            <a:gdLst/>
            <a:ahLst/>
            <a:rect l="l" t="t" r="r" b="b"/>
            <a:pathLst>
              <a:path w="1716" h="5772">
                <a:moveTo>
                  <a:pt x="1716" y="36"/>
                </a:moveTo>
                <a:cubicBezTo>
                  <a:pt x="1716" y="588"/>
                  <a:pt x="1666" y="1156"/>
                  <a:pt x="1632" y="1632"/>
                </a:cubicBezTo>
                <a:cubicBezTo>
                  <a:pt x="1598" y="2108"/>
                  <a:pt x="1554" y="2578"/>
                  <a:pt x="1512" y="2892"/>
                </a:cubicBezTo>
                <a:cubicBezTo>
                  <a:pt x="1470" y="3206"/>
                  <a:pt x="1408" y="3312"/>
                  <a:pt x="1380" y="3516"/>
                </a:cubicBezTo>
                <a:cubicBezTo>
                  <a:pt x="1352" y="3720"/>
                  <a:pt x="1370" y="3926"/>
                  <a:pt x="1344" y="4116"/>
                </a:cubicBezTo>
                <a:cubicBezTo>
                  <a:pt x="1318" y="4306"/>
                  <a:pt x="1230" y="4384"/>
                  <a:pt x="1224" y="4656"/>
                </a:cubicBezTo>
                <a:cubicBezTo>
                  <a:pt x="1218" y="4928"/>
                  <a:pt x="1260" y="5544"/>
                  <a:pt x="1308" y="5748"/>
                </a:cubicBezTo>
                <a:cubicBezTo>
                  <a:pt x="996" y="5772"/>
                  <a:pt x="396" y="5736"/>
                  <a:pt x="84" y="5748"/>
                </a:cubicBezTo>
                <a:cubicBezTo>
                  <a:pt x="72" y="5588"/>
                  <a:pt x="37" y="5159"/>
                  <a:pt x="0" y="4956"/>
                </a:cubicBezTo>
                <a:cubicBezTo>
                  <a:pt x="0" y="4662"/>
                  <a:pt x="28" y="4334"/>
                  <a:pt x="84" y="3984"/>
                </a:cubicBezTo>
                <a:cubicBezTo>
                  <a:pt x="140" y="3634"/>
                  <a:pt x="286" y="3234"/>
                  <a:pt x="336" y="2856"/>
                </a:cubicBezTo>
                <a:cubicBezTo>
                  <a:pt x="386" y="2478"/>
                  <a:pt x="376" y="2186"/>
                  <a:pt x="384" y="1716"/>
                </a:cubicBezTo>
                <a:cubicBezTo>
                  <a:pt x="392" y="1246"/>
                  <a:pt x="420" y="492"/>
                  <a:pt x="384" y="36"/>
                </a:cubicBezTo>
                <a:cubicBezTo>
                  <a:pt x="804" y="24"/>
                  <a:pt x="1392" y="0"/>
                  <a:pt x="1716" y="36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 rot="5907600">
            <a:off x="4407120" y="5445720"/>
            <a:ext cx="1271520" cy="1400040"/>
          </a:xfrm>
          <a:prstGeom prst="cloudCallout">
            <a:avLst>
              <a:gd name="adj1" fmla="val -12953"/>
              <a:gd name="adj2" fmla="val -518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609480" y="6019920"/>
            <a:ext cx="914400" cy="914400"/>
          </a:xfrm>
          <a:prstGeom prst="cloudCallout">
            <a:avLst>
              <a:gd name="adj1" fmla="val 16495"/>
              <a:gd name="adj2" fmla="val -43055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5410080" y="8229600"/>
            <a:ext cx="762120" cy="1219320"/>
          </a:xfrm>
          <a:prstGeom prst="cloudCallout">
            <a:avLst>
              <a:gd name="adj1" fmla="val 49791"/>
              <a:gd name="adj2" fmla="val -13541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104840" y="622944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 rot="5400000">
            <a:off x="1256760" y="4000320"/>
            <a:ext cx="457200" cy="1143000"/>
          </a:xfrm>
          <a:prstGeom prst="cloudCallout">
            <a:avLst>
              <a:gd name="adj1" fmla="val 34027"/>
              <a:gd name="adj2" fmla="val -14305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5791320" y="8534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 rot="16200000">
            <a:off x="914400" y="2743200"/>
            <a:ext cx="457200" cy="1371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 rot="16200000">
            <a:off x="5676840" y="2705040"/>
            <a:ext cx="380880" cy="1371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 rot="16200000">
            <a:off x="3352680" y="1981080"/>
            <a:ext cx="380880" cy="29718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 rot="16200000">
            <a:off x="1828800" y="2590560"/>
            <a:ext cx="228600" cy="9903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rot="16200000">
            <a:off x="4991040" y="2628360"/>
            <a:ext cx="228600" cy="9144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 rot="16200000">
            <a:off x="1866600" y="2400120"/>
            <a:ext cx="9144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5" name=""/>
          <p:cNvGrpSpPr/>
          <p:nvPr/>
        </p:nvGrpSpPr>
        <p:grpSpPr>
          <a:xfrm>
            <a:off x="1447920" y="838080"/>
            <a:ext cx="990360" cy="609840"/>
            <a:chOff x="1447920" y="838080"/>
            <a:chExt cx="990360" cy="609840"/>
          </a:xfrm>
        </p:grpSpPr>
        <p:sp>
          <p:nvSpPr>
            <p:cNvPr id="2976" name=""/>
            <p:cNvSpPr/>
            <p:nvPr/>
          </p:nvSpPr>
          <p:spPr>
            <a:xfrm rot="16200000">
              <a:off x="1866600" y="419040"/>
              <a:ext cx="152640" cy="99036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 rot="16200000">
              <a:off x="1866960" y="571320"/>
              <a:ext cx="152280" cy="99036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rot="16200000">
              <a:off x="1866960" y="723600"/>
              <a:ext cx="152280" cy="99036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rot="16200000">
              <a:off x="1866600" y="876240"/>
              <a:ext cx="152640" cy="99036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0" name=""/>
          <p:cNvGrpSpPr/>
          <p:nvPr/>
        </p:nvGrpSpPr>
        <p:grpSpPr>
          <a:xfrm>
            <a:off x="5486400" y="1981080"/>
            <a:ext cx="533520" cy="609840"/>
            <a:chOff x="5486400" y="1981080"/>
            <a:chExt cx="533520" cy="609840"/>
          </a:xfrm>
        </p:grpSpPr>
        <p:sp>
          <p:nvSpPr>
            <p:cNvPr id="2981" name=""/>
            <p:cNvSpPr/>
            <p:nvPr/>
          </p:nvSpPr>
          <p:spPr>
            <a:xfrm rot="16200000">
              <a:off x="5676840" y="1790640"/>
              <a:ext cx="152640" cy="53352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rot="16200000">
              <a:off x="5676840" y="1942560"/>
              <a:ext cx="152280" cy="53352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 rot="16200000">
              <a:off x="5676840" y="2094840"/>
              <a:ext cx="152280" cy="5335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 rot="16200000">
              <a:off x="5676840" y="2247840"/>
              <a:ext cx="152640" cy="5335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5" name=""/>
          <p:cNvGrpSpPr/>
          <p:nvPr/>
        </p:nvGrpSpPr>
        <p:grpSpPr>
          <a:xfrm>
            <a:off x="76320" y="66600"/>
            <a:ext cx="7315200" cy="9435600"/>
            <a:chOff x="76320" y="66600"/>
            <a:chExt cx="7315200" cy="9435600"/>
          </a:xfrm>
        </p:grpSpPr>
        <p:sp>
          <p:nvSpPr>
            <p:cNvPr id="2986" name=""/>
            <p:cNvSpPr/>
            <p:nvPr/>
          </p:nvSpPr>
          <p:spPr>
            <a:xfrm>
              <a:off x="7086600" y="21888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6320" y="44748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0984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9" name=""/>
            <p:cNvGrpSpPr/>
            <p:nvPr/>
          </p:nvGrpSpPr>
          <p:grpSpPr>
            <a:xfrm>
              <a:off x="457200" y="295200"/>
              <a:ext cx="6095880" cy="9153000"/>
              <a:chOff x="457200" y="295200"/>
              <a:chExt cx="6095880" cy="9153000"/>
            </a:xfrm>
          </p:grpSpPr>
          <p:grpSp>
            <p:nvGrpSpPr>
              <p:cNvPr id="2990" name=""/>
              <p:cNvGrpSpPr/>
              <p:nvPr/>
            </p:nvGrpSpPr>
            <p:grpSpPr>
              <a:xfrm>
                <a:off x="5014800" y="299520"/>
                <a:ext cx="1524240" cy="9148680"/>
                <a:chOff x="5014800" y="299520"/>
                <a:chExt cx="1524240" cy="9148680"/>
              </a:xfrm>
            </p:grpSpPr>
            <p:sp>
              <p:nvSpPr>
                <p:cNvPr id="2991" name=""/>
                <p:cNvSpPr/>
                <p:nvPr/>
              </p:nvSpPr>
              <p:spPr>
                <a:xfrm>
                  <a:off x="603396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55198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653904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50148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5" name=""/>
              <p:cNvGrpSpPr/>
              <p:nvPr/>
            </p:nvGrpSpPr>
            <p:grpSpPr>
              <a:xfrm>
                <a:off x="2986200" y="299520"/>
                <a:ext cx="1523880" cy="9148680"/>
                <a:chOff x="2986200" y="299520"/>
                <a:chExt cx="1523880" cy="9148680"/>
              </a:xfrm>
            </p:grpSpPr>
            <p:sp>
              <p:nvSpPr>
                <p:cNvPr id="2996" name=""/>
                <p:cNvSpPr/>
                <p:nvPr/>
              </p:nvSpPr>
              <p:spPr>
                <a:xfrm>
                  <a:off x="400500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34909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45100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29862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0" name=""/>
              <p:cNvGrpSpPr/>
              <p:nvPr/>
            </p:nvGrpSpPr>
            <p:grpSpPr>
              <a:xfrm>
                <a:off x="976320" y="295200"/>
                <a:ext cx="1523880" cy="9147960"/>
                <a:chOff x="976320" y="295200"/>
                <a:chExt cx="1523880" cy="9147960"/>
              </a:xfrm>
            </p:grpSpPr>
            <p:sp>
              <p:nvSpPr>
                <p:cNvPr id="3001" name=""/>
                <p:cNvSpPr/>
                <p:nvPr/>
              </p:nvSpPr>
              <p:spPr>
                <a:xfrm>
                  <a:off x="1995120" y="2995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148104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250020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97632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5" name=""/>
              <p:cNvSpPr/>
              <p:nvPr/>
            </p:nvSpPr>
            <p:spPr>
              <a:xfrm>
                <a:off x="457200" y="29952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57200" y="9443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57200" y="7719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57200" y="8286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57200" y="886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57200" y="715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57200" y="5433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57200" y="6000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57200" y="658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57200" y="487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57200" y="3147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57200" y="3714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57200" y="429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57200" y="258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57200" y="861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57200" y="1428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57200" y="200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57200" y="29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3" name=""/>
          <p:cNvGrpSpPr/>
          <p:nvPr/>
        </p:nvGrpSpPr>
        <p:grpSpPr>
          <a:xfrm>
            <a:off x="5181480" y="533520"/>
            <a:ext cx="1143000" cy="554400"/>
            <a:chOff x="5181480" y="533520"/>
            <a:chExt cx="1143000" cy="554400"/>
          </a:xfrm>
        </p:grpSpPr>
        <p:sp>
          <p:nvSpPr>
            <p:cNvPr id="3024" name=""/>
            <p:cNvSpPr/>
            <p:nvPr/>
          </p:nvSpPr>
          <p:spPr>
            <a:xfrm>
              <a:off x="5181480" y="533520"/>
              <a:ext cx="1143000" cy="5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下生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257800" y="552240"/>
              <a:ext cx="228600" cy="22824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257800" y="838080"/>
              <a:ext cx="228600" cy="22824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7" name=""/>
          <p:cNvSpPr/>
          <p:nvPr/>
        </p:nvSpPr>
        <p:spPr>
          <a:xfrm rot="16200000">
            <a:off x="914400" y="914400"/>
            <a:ext cx="76320" cy="99072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 rot="16200000">
            <a:off x="5029200" y="2133720"/>
            <a:ext cx="76320" cy="8380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 rot="16200000">
            <a:off x="6248160" y="2286000"/>
            <a:ext cx="76320" cy="5331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304920" y="940608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7 [6.2](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1" name="12x1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306360"/>
            <a:ext cx="6067440" cy="9142560"/>
          </a:xfrm>
          <a:prstGeom prst="rect">
            <a:avLst/>
          </a:prstGeom>
          <a:ln w="0">
            <a:noFill/>
          </a:ln>
        </p:spPr>
      </p:pic>
      <p:sp>
        <p:nvSpPr>
          <p:cNvPr id="3032" name=""/>
          <p:cNvSpPr/>
          <p:nvPr/>
        </p:nvSpPr>
        <p:spPr>
          <a:xfrm rot="10800000">
            <a:off x="5998680" y="303120"/>
            <a:ext cx="552600" cy="518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rot="10800000">
            <a:off x="455400" y="3124080"/>
            <a:ext cx="1066680" cy="236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 rot="10800000">
            <a:off x="1447920" y="302760"/>
            <a:ext cx="4551120" cy="60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 rot="10800000">
            <a:off x="1427040" y="4876560"/>
            <a:ext cx="60984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 rot="10800000">
            <a:off x="5465520" y="4875120"/>
            <a:ext cx="533160" cy="60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 rot="10800000">
            <a:off x="1962000" y="6019560"/>
            <a:ext cx="60984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 rot="10800000">
            <a:off x="4933800" y="6018120"/>
            <a:ext cx="609840" cy="60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 rot="10800000">
            <a:off x="437760" y="5484600"/>
            <a:ext cx="6095880" cy="3962160"/>
          </a:xfrm>
          <a:custGeom>
            <a:avLst/>
            <a:gdLst/>
            <a:ahLst/>
            <a:rect l="l" t="t" r="r" b="b"/>
            <a:pathLst>
              <a:path w="3840" h="2496">
                <a:moveTo>
                  <a:pt x="0" y="0"/>
                </a:moveTo>
                <a:lnTo>
                  <a:pt x="3840" y="0"/>
                </a:lnTo>
                <a:lnTo>
                  <a:pt x="3840" y="2496"/>
                </a:lnTo>
                <a:lnTo>
                  <a:pt x="2832" y="2496"/>
                </a:lnTo>
                <a:lnTo>
                  <a:pt x="2880" y="1776"/>
                </a:lnTo>
                <a:lnTo>
                  <a:pt x="624" y="1776"/>
                </a:lnTo>
                <a:lnTo>
                  <a:pt x="624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0" name="4x2_Stairs.a.90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57200" y="304920"/>
            <a:ext cx="1066680" cy="2286000"/>
          </a:xfrm>
          <a:prstGeom prst="rect">
            <a:avLst/>
          </a:prstGeom>
          <a:ln w="0">
            <a:noFill/>
          </a:ln>
        </p:spPr>
      </p:pic>
      <p:pic>
        <p:nvPicPr>
          <p:cNvPr id="3041" name="2x2_Obelisk.a.0" descr=""/>
          <p:cNvPicPr/>
          <p:nvPr/>
        </p:nvPicPr>
        <p:blipFill>
          <a:blip r:embed="rId4">
            <a:grayscl/>
          </a:blip>
          <a:srcRect l="14176" t="13585" r="7088" b="13585"/>
          <a:stretch/>
        </p:blipFill>
        <p:spPr>
          <a:xfrm>
            <a:off x="4551480" y="1527120"/>
            <a:ext cx="992160" cy="984240"/>
          </a:xfrm>
          <a:prstGeom prst="rect">
            <a:avLst/>
          </a:prstGeom>
          <a:ln w="0">
            <a:noFill/>
          </a:ln>
        </p:spPr>
      </p:pic>
      <p:sp>
        <p:nvSpPr>
          <p:cNvPr id="3042" name=""/>
          <p:cNvSpPr/>
          <p:nvPr/>
        </p:nvSpPr>
        <p:spPr>
          <a:xfrm>
            <a:off x="3124080" y="380988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2971800" y="3657600"/>
            <a:ext cx="1523880" cy="6094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 rot="20632200">
            <a:off x="3429000" y="2209680"/>
            <a:ext cx="685800" cy="15264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rot="10800000">
            <a:off x="457200" y="2590560"/>
            <a:ext cx="53352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6" name=""/>
          <p:cNvGrpSpPr/>
          <p:nvPr/>
        </p:nvGrpSpPr>
        <p:grpSpPr>
          <a:xfrm>
            <a:off x="76320" y="66600"/>
            <a:ext cx="7315200" cy="9435600"/>
            <a:chOff x="76320" y="66600"/>
            <a:chExt cx="7315200" cy="9435600"/>
          </a:xfrm>
        </p:grpSpPr>
        <p:sp>
          <p:nvSpPr>
            <p:cNvPr id="3047" name=""/>
            <p:cNvSpPr/>
            <p:nvPr/>
          </p:nvSpPr>
          <p:spPr>
            <a:xfrm>
              <a:off x="7086600" y="21888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6320" y="44748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0984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0" name=""/>
            <p:cNvGrpSpPr/>
            <p:nvPr/>
          </p:nvGrpSpPr>
          <p:grpSpPr>
            <a:xfrm>
              <a:off x="457200" y="295200"/>
              <a:ext cx="6095880" cy="9153000"/>
              <a:chOff x="457200" y="295200"/>
              <a:chExt cx="6095880" cy="9153000"/>
            </a:xfrm>
          </p:grpSpPr>
          <p:grpSp>
            <p:nvGrpSpPr>
              <p:cNvPr id="3051" name=""/>
              <p:cNvGrpSpPr/>
              <p:nvPr/>
            </p:nvGrpSpPr>
            <p:grpSpPr>
              <a:xfrm>
                <a:off x="5014800" y="299520"/>
                <a:ext cx="1524240" cy="9148680"/>
                <a:chOff x="5014800" y="299520"/>
                <a:chExt cx="1524240" cy="9148680"/>
              </a:xfrm>
            </p:grpSpPr>
            <p:sp>
              <p:nvSpPr>
                <p:cNvPr id="3052" name=""/>
                <p:cNvSpPr/>
                <p:nvPr/>
              </p:nvSpPr>
              <p:spPr>
                <a:xfrm>
                  <a:off x="603396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55198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653904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50148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6" name=""/>
              <p:cNvGrpSpPr/>
              <p:nvPr/>
            </p:nvGrpSpPr>
            <p:grpSpPr>
              <a:xfrm>
                <a:off x="2986200" y="299520"/>
                <a:ext cx="1523880" cy="9148680"/>
                <a:chOff x="2986200" y="299520"/>
                <a:chExt cx="1523880" cy="9148680"/>
              </a:xfrm>
            </p:grpSpPr>
            <p:sp>
              <p:nvSpPr>
                <p:cNvPr id="3057" name=""/>
                <p:cNvSpPr/>
                <p:nvPr/>
              </p:nvSpPr>
              <p:spPr>
                <a:xfrm>
                  <a:off x="400500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34909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45100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29862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1" name=""/>
              <p:cNvGrpSpPr/>
              <p:nvPr/>
            </p:nvGrpSpPr>
            <p:grpSpPr>
              <a:xfrm>
                <a:off x="976320" y="295200"/>
                <a:ext cx="1523880" cy="9147960"/>
                <a:chOff x="976320" y="295200"/>
                <a:chExt cx="1523880" cy="9147960"/>
              </a:xfrm>
            </p:grpSpPr>
            <p:sp>
              <p:nvSpPr>
                <p:cNvPr id="3062" name=""/>
                <p:cNvSpPr/>
                <p:nvPr/>
              </p:nvSpPr>
              <p:spPr>
                <a:xfrm>
                  <a:off x="1995120" y="2995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148104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250020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97632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6" name=""/>
              <p:cNvSpPr/>
              <p:nvPr/>
            </p:nvSpPr>
            <p:spPr>
              <a:xfrm>
                <a:off x="457200" y="29952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457200" y="9443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457200" y="7719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57200" y="8286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57200" y="886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57200" y="715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57200" y="5433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457200" y="6000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57200" y="658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457200" y="487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457200" y="3147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457200" y="3714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457200" y="429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457200" y="258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57200" y="861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457200" y="1428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457200" y="200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457200" y="29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4" name=""/>
          <p:cNvGrpSpPr/>
          <p:nvPr/>
        </p:nvGrpSpPr>
        <p:grpSpPr>
          <a:xfrm>
            <a:off x="457200" y="8452080"/>
            <a:ext cx="855720" cy="842040"/>
            <a:chOff x="457200" y="8452080"/>
            <a:chExt cx="855720" cy="842040"/>
          </a:xfrm>
        </p:grpSpPr>
        <p:sp>
          <p:nvSpPr>
            <p:cNvPr id="3085" name=""/>
            <p:cNvSpPr/>
            <p:nvPr/>
          </p:nvSpPr>
          <p:spPr>
            <a:xfrm rot="16200000">
              <a:off x="502560" y="8516880"/>
              <a:ext cx="76212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 rot="16200000">
              <a:off x="459360" y="87469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 rot="16200000">
              <a:off x="744840" y="84499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rot="16200000">
              <a:off x="1038600" y="87469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rot="16200000">
              <a:off x="768600" y="90198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H="1">
              <a:off x="626400" y="8907480"/>
              <a:ext cx="47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931680" y="86979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2" name="8x12_Flor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304920"/>
            <a:ext cx="6103800" cy="9144000"/>
          </a:xfrm>
          <a:prstGeom prst="rect">
            <a:avLst/>
          </a:prstGeom>
          <a:ln w="0">
            <a:noFill/>
          </a:ln>
        </p:spPr>
      </p:pic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2819160" y="9524880"/>
            <a:ext cx="1447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8 [6.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4" name="4x2_Stairs.a.90" descr=""/>
          <p:cNvPicPr/>
          <p:nvPr/>
        </p:nvPicPr>
        <p:blipFill>
          <a:blip r:embed="rId2">
            <a:grayscl/>
          </a:blip>
          <a:srcRect l="0" t="33363" r="0" b="0"/>
          <a:stretch/>
        </p:blipFill>
        <p:spPr>
          <a:xfrm>
            <a:off x="3505320" y="792468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3095" name=""/>
          <p:cNvSpPr/>
          <p:nvPr/>
        </p:nvSpPr>
        <p:spPr>
          <a:xfrm>
            <a:off x="457200" y="1066680"/>
            <a:ext cx="38098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5029200" y="7162920"/>
            <a:ext cx="152388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457200" y="7162920"/>
            <a:ext cx="304812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457200" y="304920"/>
            <a:ext cx="15228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 flipH="1">
            <a:off x="5791320" y="3352680"/>
            <a:ext cx="761760" cy="3810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6572160" y="3200400"/>
            <a:ext cx="2858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 rot="147000">
            <a:off x="2425680" y="3685680"/>
            <a:ext cx="2146320" cy="19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3797280" y="5133960"/>
            <a:ext cx="304920" cy="3049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2577960" y="3990960"/>
            <a:ext cx="304920" cy="3049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3568680" y="3762360"/>
            <a:ext cx="304920" cy="3049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 rot="15639000">
            <a:off x="3120120" y="3829320"/>
            <a:ext cx="762120" cy="1541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5791320" y="990720"/>
            <a:ext cx="76176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609480" y="2438280"/>
            <a:ext cx="304920" cy="990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8" name="2x1_DoubleDoors.a.0" descr=""/>
          <p:cNvPicPr/>
          <p:nvPr/>
        </p:nvPicPr>
        <p:blipFill>
          <a:blip r:embed="rId9">
            <a:grayscl/>
            <a:lum bright="10000"/>
          </a:blip>
          <a:stretch/>
        </p:blipFill>
        <p:spPr>
          <a:xfrm>
            <a:off x="4305240" y="1066680"/>
            <a:ext cx="1486080" cy="762120"/>
          </a:xfrm>
          <a:prstGeom prst="rect">
            <a:avLst/>
          </a:prstGeom>
          <a:ln w="0">
            <a:noFill/>
          </a:ln>
        </p:spPr>
      </p:pic>
      <p:pic>
        <p:nvPicPr>
          <p:cNvPr id="3109" name="2x1_DoubleDoors.a.0" descr=""/>
          <p:cNvPicPr/>
          <p:nvPr/>
        </p:nvPicPr>
        <p:blipFill>
          <a:blip r:embed="rId10">
            <a:grayscl/>
            <a:lum bright="10000"/>
          </a:blip>
          <a:stretch/>
        </p:blipFill>
        <p:spPr>
          <a:xfrm>
            <a:off x="3505320" y="7162920"/>
            <a:ext cx="1523880" cy="761760"/>
          </a:xfrm>
          <a:prstGeom prst="rect">
            <a:avLst/>
          </a:prstGeom>
          <a:ln w="0">
            <a:noFill/>
          </a:ln>
        </p:spPr>
      </p:pic>
      <p:pic>
        <p:nvPicPr>
          <p:cNvPr id="3110" name="2x1_DoubleDoors.a.270" descr=""/>
          <p:cNvPicPr/>
          <p:nvPr/>
        </p:nvPicPr>
        <p:blipFill>
          <a:blip r:embed="rId11">
            <a:grayscl/>
            <a:lum bright="6000"/>
          </a:blip>
          <a:srcRect l="0" t="0" r="5195" b="0"/>
          <a:stretch/>
        </p:blipFill>
        <p:spPr>
          <a:xfrm>
            <a:off x="5867280" y="1828800"/>
            <a:ext cx="6876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3111" name=""/>
          <p:cNvGrpSpPr/>
          <p:nvPr/>
        </p:nvGrpSpPr>
        <p:grpSpPr>
          <a:xfrm>
            <a:off x="-152280" y="42840"/>
            <a:ext cx="7467480" cy="10131480"/>
            <a:chOff x="-152280" y="42840"/>
            <a:chExt cx="7467480" cy="10131480"/>
          </a:xfrm>
        </p:grpSpPr>
        <p:grpSp>
          <p:nvGrpSpPr>
            <p:cNvPr id="3112" name=""/>
            <p:cNvGrpSpPr/>
            <p:nvPr/>
          </p:nvGrpSpPr>
          <p:grpSpPr>
            <a:xfrm>
              <a:off x="452520" y="299880"/>
              <a:ext cx="6176880" cy="9134640"/>
              <a:chOff x="452520" y="299880"/>
              <a:chExt cx="6176880" cy="9134640"/>
            </a:xfrm>
          </p:grpSpPr>
          <p:sp>
            <p:nvSpPr>
              <p:cNvPr id="3113" name=""/>
              <p:cNvSpPr/>
              <p:nvPr/>
            </p:nvSpPr>
            <p:spPr>
              <a:xfrm>
                <a:off x="458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1220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1982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744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3506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268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030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792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554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flipH="1">
                <a:off x="452520" y="312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 flipH="1">
                <a:off x="452520" y="1074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 flipH="1">
                <a:off x="452520" y="1836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H="1">
                <a:off x="452520" y="2598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H="1">
                <a:off x="452520" y="3360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 flipH="1">
                <a:off x="452520" y="4122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 flipH="1">
                <a:off x="452520" y="4886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>
                <a:off x="452520" y="5648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H="1">
                <a:off x="452520" y="64101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flipH="1">
                <a:off x="452520" y="7172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>
                <a:off x="452520" y="7934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flipH="1">
                <a:off x="452520" y="86976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flipH="1">
                <a:off x="452520" y="94280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5" name=""/>
            <p:cNvSpPr/>
            <p:nvPr/>
          </p:nvSpPr>
          <p:spPr>
            <a:xfrm>
              <a:off x="838080" y="763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-152280" y="428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7086600" y="6094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8" name=""/>
          <p:cNvGrpSpPr/>
          <p:nvPr/>
        </p:nvGrpSpPr>
        <p:grpSpPr>
          <a:xfrm>
            <a:off x="457200" y="8604360"/>
            <a:ext cx="855720" cy="842040"/>
            <a:chOff x="457200" y="8604360"/>
            <a:chExt cx="855720" cy="842040"/>
          </a:xfrm>
        </p:grpSpPr>
        <p:sp>
          <p:nvSpPr>
            <p:cNvPr id="3139" name=""/>
            <p:cNvSpPr/>
            <p:nvPr/>
          </p:nvSpPr>
          <p:spPr>
            <a:xfrm rot="16200000">
              <a:off x="502560" y="8669160"/>
              <a:ext cx="76212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rot="16200000">
              <a:off x="459360" y="8899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 rot="16200000">
              <a:off x="744840" y="8602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 rot="16200000">
              <a:off x="1038600" y="8899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 rot="16200000">
              <a:off x="768600" y="9172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H="1">
              <a:off x="626400" y="9059760"/>
              <a:ext cx="47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931680" y="88502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" y="3581280"/>
            <a:ext cx="838080" cy="1067040"/>
          </a:xfrm>
          <a:custGeom>
            <a:avLst/>
            <a:gdLst/>
            <a:ahLst/>
            <a:rect l="l" t="t" r="r" b="b"/>
            <a:pathLst>
              <a:path w="528" h="672">
                <a:moveTo>
                  <a:pt x="0" y="144"/>
                </a:moveTo>
                <a:lnTo>
                  <a:pt x="0" y="672"/>
                </a:lnTo>
                <a:lnTo>
                  <a:pt x="96" y="480"/>
                </a:lnTo>
                <a:lnTo>
                  <a:pt x="288" y="384"/>
                </a:lnTo>
                <a:lnTo>
                  <a:pt x="384" y="384"/>
                </a:lnTo>
                <a:lnTo>
                  <a:pt x="480" y="336"/>
                </a:lnTo>
                <a:lnTo>
                  <a:pt x="528" y="240"/>
                </a:lnTo>
                <a:lnTo>
                  <a:pt x="480" y="144"/>
                </a:lnTo>
                <a:lnTo>
                  <a:pt x="528" y="0"/>
                </a:lnTo>
                <a:lnTo>
                  <a:pt x="0" y="14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79840" y="7023240"/>
            <a:ext cx="749160" cy="825480"/>
          </a:xfrm>
          <a:custGeom>
            <a:avLst/>
            <a:gdLst/>
            <a:ahLst/>
            <a:rect l="l" t="t" r="r" b="b"/>
            <a:pathLst>
              <a:path w="472" h="520">
                <a:moveTo>
                  <a:pt x="248" y="0"/>
                </a:moveTo>
                <a:lnTo>
                  <a:pt x="424" y="88"/>
                </a:lnTo>
                <a:lnTo>
                  <a:pt x="472" y="280"/>
                </a:lnTo>
                <a:lnTo>
                  <a:pt x="360" y="336"/>
                </a:lnTo>
                <a:lnTo>
                  <a:pt x="248" y="336"/>
                </a:lnTo>
                <a:lnTo>
                  <a:pt x="88" y="520"/>
                </a:lnTo>
                <a:lnTo>
                  <a:pt x="0" y="448"/>
                </a:lnTo>
                <a:lnTo>
                  <a:pt x="24" y="304"/>
                </a:lnTo>
                <a:lnTo>
                  <a:pt x="136" y="40"/>
                </a:lnTo>
                <a:lnTo>
                  <a:pt x="248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41680" y="6959520"/>
            <a:ext cx="749160" cy="825480"/>
          </a:xfrm>
          <a:custGeom>
            <a:avLst/>
            <a:gdLst/>
            <a:ahLst/>
            <a:rect l="l" t="t" r="r" b="b"/>
            <a:pathLst>
              <a:path w="472" h="520">
                <a:moveTo>
                  <a:pt x="248" y="0"/>
                </a:moveTo>
                <a:lnTo>
                  <a:pt x="424" y="88"/>
                </a:lnTo>
                <a:lnTo>
                  <a:pt x="472" y="280"/>
                </a:lnTo>
                <a:lnTo>
                  <a:pt x="360" y="336"/>
                </a:lnTo>
                <a:lnTo>
                  <a:pt x="248" y="336"/>
                </a:lnTo>
                <a:lnTo>
                  <a:pt x="88" y="520"/>
                </a:lnTo>
                <a:lnTo>
                  <a:pt x="0" y="448"/>
                </a:lnTo>
                <a:lnTo>
                  <a:pt x="24" y="304"/>
                </a:lnTo>
                <a:lnTo>
                  <a:pt x="136" y="40"/>
                </a:lnTo>
                <a:lnTo>
                  <a:pt x="2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82800" y="2743200"/>
            <a:ext cx="3694320" cy="3772080"/>
          </a:xfrm>
          <a:custGeom>
            <a:avLst/>
            <a:gdLst/>
            <a:ahLst/>
            <a:rect l="l" t="t" r="r" b="b"/>
            <a:pathLst>
              <a:path w="2327" h="2376">
                <a:moveTo>
                  <a:pt x="347" y="318"/>
                </a:moveTo>
                <a:cubicBezTo>
                  <a:pt x="617" y="276"/>
                  <a:pt x="1997" y="36"/>
                  <a:pt x="2327" y="0"/>
                </a:cubicBezTo>
                <a:lnTo>
                  <a:pt x="2321" y="1686"/>
                </a:lnTo>
                <a:cubicBezTo>
                  <a:pt x="2257" y="2047"/>
                  <a:pt x="2153" y="1956"/>
                  <a:pt x="1943" y="2166"/>
                </a:cubicBezTo>
                <a:cubicBezTo>
                  <a:pt x="1733" y="2376"/>
                  <a:pt x="1194" y="2093"/>
                  <a:pt x="1019" y="2082"/>
                </a:cubicBezTo>
                <a:cubicBezTo>
                  <a:pt x="844" y="2071"/>
                  <a:pt x="761" y="1287"/>
                  <a:pt x="599" y="1200"/>
                </a:cubicBezTo>
                <a:cubicBezTo>
                  <a:pt x="437" y="1113"/>
                  <a:pt x="155" y="1148"/>
                  <a:pt x="95" y="1098"/>
                </a:cubicBezTo>
                <a:cubicBezTo>
                  <a:pt x="0" y="1118"/>
                  <a:pt x="96" y="843"/>
                  <a:pt x="137" y="738"/>
                </a:cubicBezTo>
                <a:cubicBezTo>
                  <a:pt x="148" y="626"/>
                  <a:pt x="179" y="468"/>
                  <a:pt x="347" y="318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0800000">
            <a:off x="3962520" y="5867280"/>
            <a:ext cx="2768400" cy="3524400"/>
          </a:xfrm>
          <a:custGeom>
            <a:avLst/>
            <a:gdLst/>
            <a:ahLst/>
            <a:rect l="l" t="t" r="r" b="b"/>
            <a:pathLst>
              <a:path w="1744" h="2220">
                <a:moveTo>
                  <a:pt x="176" y="228"/>
                </a:moveTo>
                <a:lnTo>
                  <a:pt x="592" y="204"/>
                </a:lnTo>
                <a:lnTo>
                  <a:pt x="994" y="0"/>
                </a:lnTo>
                <a:lnTo>
                  <a:pt x="1306" y="84"/>
                </a:lnTo>
                <a:lnTo>
                  <a:pt x="1180" y="486"/>
                </a:lnTo>
                <a:lnTo>
                  <a:pt x="1312" y="636"/>
                </a:lnTo>
                <a:lnTo>
                  <a:pt x="1534" y="642"/>
                </a:lnTo>
                <a:lnTo>
                  <a:pt x="1744" y="1038"/>
                </a:lnTo>
                <a:lnTo>
                  <a:pt x="1222" y="1314"/>
                </a:lnTo>
                <a:lnTo>
                  <a:pt x="1164" y="1708"/>
                </a:lnTo>
                <a:lnTo>
                  <a:pt x="1204" y="1776"/>
                </a:lnTo>
                <a:lnTo>
                  <a:pt x="1148" y="1832"/>
                </a:lnTo>
                <a:lnTo>
                  <a:pt x="1080" y="1804"/>
                </a:lnTo>
                <a:lnTo>
                  <a:pt x="560" y="1940"/>
                </a:lnTo>
                <a:lnTo>
                  <a:pt x="280" y="2220"/>
                </a:lnTo>
                <a:lnTo>
                  <a:pt x="8" y="2132"/>
                </a:lnTo>
                <a:lnTo>
                  <a:pt x="0" y="1716"/>
                </a:lnTo>
                <a:lnTo>
                  <a:pt x="256" y="1516"/>
                </a:lnTo>
                <a:lnTo>
                  <a:pt x="298" y="1362"/>
                </a:lnTo>
                <a:lnTo>
                  <a:pt x="10" y="876"/>
                </a:lnTo>
                <a:lnTo>
                  <a:pt x="154" y="588"/>
                </a:lnTo>
                <a:lnTo>
                  <a:pt x="176" y="2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6858000"/>
            <a:ext cx="2076480" cy="2438280"/>
          </a:xfrm>
          <a:custGeom>
            <a:avLst/>
            <a:gdLst/>
            <a:ahLst/>
            <a:rect l="l" t="t" r="r" b="b"/>
            <a:pathLst>
              <a:path w="1308" h="1536">
                <a:moveTo>
                  <a:pt x="12" y="0"/>
                </a:moveTo>
                <a:lnTo>
                  <a:pt x="96" y="192"/>
                </a:lnTo>
                <a:lnTo>
                  <a:pt x="240" y="288"/>
                </a:lnTo>
                <a:lnTo>
                  <a:pt x="432" y="96"/>
                </a:lnTo>
                <a:lnTo>
                  <a:pt x="768" y="72"/>
                </a:lnTo>
                <a:lnTo>
                  <a:pt x="1056" y="288"/>
                </a:lnTo>
                <a:lnTo>
                  <a:pt x="1080" y="672"/>
                </a:lnTo>
                <a:lnTo>
                  <a:pt x="1308" y="774"/>
                </a:lnTo>
                <a:lnTo>
                  <a:pt x="1284" y="990"/>
                </a:lnTo>
                <a:lnTo>
                  <a:pt x="1044" y="1344"/>
                </a:lnTo>
                <a:lnTo>
                  <a:pt x="1026" y="1536"/>
                </a:lnTo>
                <a:lnTo>
                  <a:pt x="0" y="1536"/>
                </a:lnTo>
                <a:lnTo>
                  <a:pt x="12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9240" y="228600"/>
            <a:ext cx="6257880" cy="3562200"/>
          </a:xfrm>
          <a:custGeom>
            <a:avLst/>
            <a:gdLst/>
            <a:ahLst/>
            <a:rect l="l" t="t" r="r" b="b"/>
            <a:pathLst>
              <a:path w="4038" h="2244">
                <a:moveTo>
                  <a:pt x="6" y="0"/>
                </a:moveTo>
                <a:lnTo>
                  <a:pt x="4038" y="0"/>
                </a:lnTo>
                <a:lnTo>
                  <a:pt x="4038" y="1536"/>
                </a:lnTo>
                <a:lnTo>
                  <a:pt x="0" y="2244"/>
                </a:lnTo>
                <a:lnTo>
                  <a:pt x="6" y="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952488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05520" y="932184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0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イ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=192km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90800" y="3314880"/>
            <a:ext cx="1171440" cy="5952960"/>
          </a:xfrm>
          <a:custGeom>
            <a:avLst/>
            <a:gdLst/>
            <a:ahLst/>
            <a:rect l="l" t="t" r="r" b="b"/>
            <a:pathLst>
              <a:path w="738" h="3750">
                <a:moveTo>
                  <a:pt x="660" y="0"/>
                </a:moveTo>
                <a:cubicBezTo>
                  <a:pt x="632" y="136"/>
                  <a:pt x="489" y="497"/>
                  <a:pt x="492" y="816"/>
                </a:cubicBezTo>
                <a:cubicBezTo>
                  <a:pt x="408" y="1068"/>
                  <a:pt x="738" y="1656"/>
                  <a:pt x="678" y="1914"/>
                </a:cubicBezTo>
                <a:cubicBezTo>
                  <a:pt x="618" y="2172"/>
                  <a:pt x="540" y="2186"/>
                  <a:pt x="402" y="2472"/>
                </a:cubicBezTo>
                <a:cubicBezTo>
                  <a:pt x="264" y="2758"/>
                  <a:pt x="300" y="3151"/>
                  <a:pt x="200" y="3370"/>
                </a:cubicBezTo>
                <a:cubicBezTo>
                  <a:pt x="100" y="3589"/>
                  <a:pt x="42" y="3671"/>
                  <a:pt x="0" y="3750"/>
                </a:cubicBezTo>
              </a:path>
            </a:pathLst>
          </a:custGeom>
          <a:noFill/>
          <a:ln w="7632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09600" y="927720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ハデス第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層、冥府プルト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1752480"/>
            <a:ext cx="3451320" cy="1739880"/>
          </a:xfrm>
          <a:custGeom>
            <a:avLst/>
            <a:gdLst/>
            <a:ahLst/>
            <a:rect l="l" t="t" r="r" b="b"/>
            <a:pathLst>
              <a:path w="2174" h="1000">
                <a:moveTo>
                  <a:pt x="560" y="858"/>
                </a:moveTo>
                <a:cubicBezTo>
                  <a:pt x="281" y="907"/>
                  <a:pt x="76" y="1000"/>
                  <a:pt x="38" y="949"/>
                </a:cubicBezTo>
                <a:cubicBezTo>
                  <a:pt x="0" y="898"/>
                  <a:pt x="242" y="665"/>
                  <a:pt x="332" y="553"/>
                </a:cubicBezTo>
                <a:cubicBezTo>
                  <a:pt x="422" y="441"/>
                  <a:pt x="529" y="364"/>
                  <a:pt x="578" y="277"/>
                </a:cubicBezTo>
                <a:cubicBezTo>
                  <a:pt x="627" y="190"/>
                  <a:pt x="549" y="62"/>
                  <a:pt x="626" y="31"/>
                </a:cubicBezTo>
                <a:cubicBezTo>
                  <a:pt x="703" y="0"/>
                  <a:pt x="904" y="32"/>
                  <a:pt x="1040" y="91"/>
                </a:cubicBezTo>
                <a:cubicBezTo>
                  <a:pt x="1176" y="150"/>
                  <a:pt x="1309" y="347"/>
                  <a:pt x="1442" y="385"/>
                </a:cubicBezTo>
                <a:cubicBezTo>
                  <a:pt x="1575" y="423"/>
                  <a:pt x="1747" y="322"/>
                  <a:pt x="1838" y="319"/>
                </a:cubicBezTo>
                <a:cubicBezTo>
                  <a:pt x="1929" y="316"/>
                  <a:pt x="1939" y="349"/>
                  <a:pt x="1988" y="367"/>
                </a:cubicBezTo>
                <a:cubicBezTo>
                  <a:pt x="2037" y="385"/>
                  <a:pt x="2174" y="372"/>
                  <a:pt x="2132" y="427"/>
                </a:cubicBezTo>
                <a:cubicBezTo>
                  <a:pt x="2090" y="482"/>
                  <a:pt x="1998" y="625"/>
                  <a:pt x="1736" y="697"/>
                </a:cubicBezTo>
                <a:cubicBezTo>
                  <a:pt x="1474" y="769"/>
                  <a:pt x="805" y="825"/>
                  <a:pt x="560" y="858"/>
                </a:cubicBez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24360" y="5761080"/>
            <a:ext cx="2768400" cy="3524040"/>
          </a:xfrm>
          <a:custGeom>
            <a:avLst/>
            <a:gdLst/>
            <a:ahLst/>
            <a:rect l="l" t="t" r="r" b="b"/>
            <a:pathLst>
              <a:path w="1744" h="2220">
                <a:moveTo>
                  <a:pt x="1568" y="1992"/>
                </a:moveTo>
                <a:lnTo>
                  <a:pt x="1152" y="2016"/>
                </a:lnTo>
                <a:lnTo>
                  <a:pt x="750" y="2220"/>
                </a:lnTo>
                <a:lnTo>
                  <a:pt x="438" y="2136"/>
                </a:lnTo>
                <a:lnTo>
                  <a:pt x="564" y="1734"/>
                </a:lnTo>
                <a:lnTo>
                  <a:pt x="432" y="1584"/>
                </a:lnTo>
                <a:lnTo>
                  <a:pt x="210" y="1578"/>
                </a:lnTo>
                <a:lnTo>
                  <a:pt x="0" y="1182"/>
                </a:lnTo>
                <a:lnTo>
                  <a:pt x="240" y="995"/>
                </a:lnTo>
                <a:lnTo>
                  <a:pt x="522" y="906"/>
                </a:lnTo>
                <a:lnTo>
                  <a:pt x="580" y="512"/>
                </a:lnTo>
                <a:lnTo>
                  <a:pt x="540" y="444"/>
                </a:lnTo>
                <a:lnTo>
                  <a:pt x="632" y="379"/>
                </a:lnTo>
                <a:lnTo>
                  <a:pt x="1184" y="280"/>
                </a:lnTo>
                <a:lnTo>
                  <a:pt x="1464" y="0"/>
                </a:lnTo>
                <a:lnTo>
                  <a:pt x="1736" y="88"/>
                </a:lnTo>
                <a:lnTo>
                  <a:pt x="1744" y="504"/>
                </a:lnTo>
                <a:lnTo>
                  <a:pt x="1488" y="704"/>
                </a:lnTo>
                <a:lnTo>
                  <a:pt x="1446" y="858"/>
                </a:lnTo>
                <a:lnTo>
                  <a:pt x="1734" y="1344"/>
                </a:lnTo>
                <a:lnTo>
                  <a:pt x="1590" y="1632"/>
                </a:lnTo>
                <a:lnTo>
                  <a:pt x="1568" y="199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33720" y="5653080"/>
            <a:ext cx="2314440" cy="3643200"/>
          </a:xfrm>
          <a:custGeom>
            <a:avLst/>
            <a:gdLst/>
            <a:ahLst/>
            <a:rect l="l" t="t" r="r" b="b"/>
            <a:pathLst>
              <a:path w="1458" h="2295">
                <a:moveTo>
                  <a:pt x="1458" y="21"/>
                </a:moveTo>
                <a:cubicBezTo>
                  <a:pt x="1413" y="18"/>
                  <a:pt x="1251" y="0"/>
                  <a:pt x="1188" y="21"/>
                </a:cubicBezTo>
                <a:cubicBezTo>
                  <a:pt x="1125" y="42"/>
                  <a:pt x="1167" y="81"/>
                  <a:pt x="1080" y="147"/>
                </a:cubicBezTo>
                <a:cubicBezTo>
                  <a:pt x="993" y="213"/>
                  <a:pt x="732" y="291"/>
                  <a:pt x="666" y="417"/>
                </a:cubicBezTo>
                <a:cubicBezTo>
                  <a:pt x="600" y="543"/>
                  <a:pt x="600" y="591"/>
                  <a:pt x="558" y="693"/>
                </a:cubicBezTo>
                <a:cubicBezTo>
                  <a:pt x="506" y="781"/>
                  <a:pt x="856" y="824"/>
                  <a:pt x="870" y="993"/>
                </a:cubicBezTo>
                <a:cubicBezTo>
                  <a:pt x="884" y="1162"/>
                  <a:pt x="719" y="1554"/>
                  <a:pt x="642" y="1707"/>
                </a:cubicBezTo>
                <a:cubicBezTo>
                  <a:pt x="565" y="1860"/>
                  <a:pt x="491" y="1861"/>
                  <a:pt x="408" y="1911"/>
                </a:cubicBezTo>
                <a:cubicBezTo>
                  <a:pt x="325" y="1961"/>
                  <a:pt x="212" y="1943"/>
                  <a:pt x="144" y="2007"/>
                </a:cubicBezTo>
                <a:cubicBezTo>
                  <a:pt x="56" y="2071"/>
                  <a:pt x="30" y="2235"/>
                  <a:pt x="0" y="229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76560" y="5559480"/>
            <a:ext cx="2874960" cy="1873080"/>
          </a:xfrm>
          <a:custGeom>
            <a:avLst/>
            <a:gdLst/>
            <a:ahLst/>
            <a:rect l="l" t="t" r="r" b="b"/>
            <a:pathLst>
              <a:path w="1811" h="1180">
                <a:moveTo>
                  <a:pt x="0" y="466"/>
                </a:moveTo>
                <a:cubicBezTo>
                  <a:pt x="17" y="446"/>
                  <a:pt x="46" y="388"/>
                  <a:pt x="101" y="347"/>
                </a:cubicBezTo>
                <a:cubicBezTo>
                  <a:pt x="156" y="306"/>
                  <a:pt x="261" y="266"/>
                  <a:pt x="329" y="219"/>
                </a:cubicBezTo>
                <a:cubicBezTo>
                  <a:pt x="397" y="172"/>
                  <a:pt x="427" y="96"/>
                  <a:pt x="512" y="64"/>
                </a:cubicBezTo>
                <a:cubicBezTo>
                  <a:pt x="597" y="32"/>
                  <a:pt x="742" y="0"/>
                  <a:pt x="841" y="27"/>
                </a:cubicBezTo>
                <a:cubicBezTo>
                  <a:pt x="940" y="54"/>
                  <a:pt x="1055" y="182"/>
                  <a:pt x="1104" y="227"/>
                </a:cubicBezTo>
                <a:cubicBezTo>
                  <a:pt x="1153" y="272"/>
                  <a:pt x="1109" y="274"/>
                  <a:pt x="1137" y="299"/>
                </a:cubicBezTo>
                <a:cubicBezTo>
                  <a:pt x="1165" y="324"/>
                  <a:pt x="1222" y="330"/>
                  <a:pt x="1271" y="375"/>
                </a:cubicBezTo>
                <a:cubicBezTo>
                  <a:pt x="1320" y="420"/>
                  <a:pt x="1385" y="455"/>
                  <a:pt x="1434" y="572"/>
                </a:cubicBezTo>
                <a:cubicBezTo>
                  <a:pt x="1483" y="689"/>
                  <a:pt x="1501" y="978"/>
                  <a:pt x="1564" y="1079"/>
                </a:cubicBezTo>
                <a:cubicBezTo>
                  <a:pt x="1627" y="1180"/>
                  <a:pt x="1760" y="1158"/>
                  <a:pt x="1811" y="1179"/>
                </a:cubicBezTo>
              </a:path>
            </a:pathLst>
          </a:custGeom>
          <a:noFill/>
          <a:ln w="2844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9520" y="6781680"/>
            <a:ext cx="2076480" cy="2505240"/>
          </a:xfrm>
          <a:custGeom>
            <a:avLst/>
            <a:gdLst/>
            <a:ahLst/>
            <a:rect l="l" t="t" r="r" b="b"/>
            <a:pathLst>
              <a:path w="1308" h="1578">
                <a:moveTo>
                  <a:pt x="12" y="0"/>
                </a:moveTo>
                <a:lnTo>
                  <a:pt x="96" y="192"/>
                </a:lnTo>
                <a:lnTo>
                  <a:pt x="240" y="288"/>
                </a:lnTo>
                <a:lnTo>
                  <a:pt x="432" y="96"/>
                </a:lnTo>
                <a:lnTo>
                  <a:pt x="768" y="72"/>
                </a:lnTo>
                <a:lnTo>
                  <a:pt x="1056" y="288"/>
                </a:lnTo>
                <a:lnTo>
                  <a:pt x="1080" y="672"/>
                </a:lnTo>
                <a:lnTo>
                  <a:pt x="1308" y="774"/>
                </a:lnTo>
                <a:lnTo>
                  <a:pt x="1284" y="990"/>
                </a:lnTo>
                <a:lnTo>
                  <a:pt x="1044" y="1344"/>
                </a:lnTo>
                <a:lnTo>
                  <a:pt x="1026" y="1578"/>
                </a:lnTo>
                <a:lnTo>
                  <a:pt x="0" y="1578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76400" y="3429000"/>
            <a:ext cx="1927080" cy="4562640"/>
          </a:xfrm>
          <a:custGeom>
            <a:avLst/>
            <a:gdLst/>
            <a:ahLst/>
            <a:rect l="l" t="t" r="r" b="b"/>
            <a:pathLst>
              <a:path w="1214" h="2874">
                <a:moveTo>
                  <a:pt x="1098" y="0"/>
                </a:moveTo>
                <a:cubicBezTo>
                  <a:pt x="1098" y="0"/>
                  <a:pt x="1002" y="384"/>
                  <a:pt x="1002" y="384"/>
                </a:cubicBezTo>
                <a:cubicBezTo>
                  <a:pt x="1002" y="384"/>
                  <a:pt x="954" y="768"/>
                  <a:pt x="954" y="768"/>
                </a:cubicBezTo>
                <a:cubicBezTo>
                  <a:pt x="954" y="768"/>
                  <a:pt x="1002" y="1152"/>
                  <a:pt x="1002" y="1152"/>
                </a:cubicBezTo>
                <a:cubicBezTo>
                  <a:pt x="1002" y="1152"/>
                  <a:pt x="1114" y="1488"/>
                  <a:pt x="1146" y="1584"/>
                </a:cubicBezTo>
                <a:cubicBezTo>
                  <a:pt x="1178" y="1680"/>
                  <a:pt x="1214" y="1738"/>
                  <a:pt x="1206" y="1794"/>
                </a:cubicBezTo>
                <a:cubicBezTo>
                  <a:pt x="1198" y="1850"/>
                  <a:pt x="1188" y="1893"/>
                  <a:pt x="1146" y="1962"/>
                </a:cubicBezTo>
                <a:cubicBezTo>
                  <a:pt x="1104" y="2031"/>
                  <a:pt x="1002" y="2111"/>
                  <a:pt x="954" y="2208"/>
                </a:cubicBezTo>
                <a:cubicBezTo>
                  <a:pt x="954" y="2208"/>
                  <a:pt x="858" y="2544"/>
                  <a:pt x="858" y="2544"/>
                </a:cubicBezTo>
                <a:cubicBezTo>
                  <a:pt x="858" y="2544"/>
                  <a:pt x="714" y="2704"/>
                  <a:pt x="618" y="2736"/>
                </a:cubicBezTo>
                <a:cubicBezTo>
                  <a:pt x="522" y="2768"/>
                  <a:pt x="386" y="2768"/>
                  <a:pt x="282" y="2736"/>
                </a:cubicBezTo>
                <a:cubicBezTo>
                  <a:pt x="178" y="2704"/>
                  <a:pt x="59" y="2845"/>
                  <a:pt x="0" y="287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15080" y="5248440"/>
            <a:ext cx="952200" cy="637920"/>
          </a:xfrm>
          <a:custGeom>
            <a:avLst/>
            <a:gdLst/>
            <a:ahLst/>
            <a:rect l="l" t="t" r="r" b="b"/>
            <a:pathLst>
              <a:path w="600" h="402">
                <a:moveTo>
                  <a:pt x="0" y="402"/>
                </a:moveTo>
                <a:cubicBezTo>
                  <a:pt x="26" y="398"/>
                  <a:pt x="96" y="390"/>
                  <a:pt x="159" y="378"/>
                </a:cubicBezTo>
                <a:cubicBezTo>
                  <a:pt x="222" y="366"/>
                  <a:pt x="336" y="360"/>
                  <a:pt x="381" y="327"/>
                </a:cubicBezTo>
                <a:cubicBezTo>
                  <a:pt x="426" y="294"/>
                  <a:pt x="413" y="208"/>
                  <a:pt x="432" y="180"/>
                </a:cubicBezTo>
                <a:cubicBezTo>
                  <a:pt x="451" y="152"/>
                  <a:pt x="467" y="189"/>
                  <a:pt x="495" y="159"/>
                </a:cubicBezTo>
                <a:cubicBezTo>
                  <a:pt x="523" y="129"/>
                  <a:pt x="578" y="33"/>
                  <a:pt x="600" y="0"/>
                </a:cubicBezTo>
              </a:path>
            </a:pathLst>
          </a:custGeom>
          <a:noFill/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3280" y="228600"/>
            <a:ext cx="6227640" cy="7695720"/>
            <a:chOff x="233280" y="228600"/>
            <a:chExt cx="6227640" cy="7695720"/>
          </a:xfrm>
        </p:grpSpPr>
        <p:grpSp>
          <p:nvGrpSpPr>
            <p:cNvPr id="308" name=""/>
            <p:cNvGrpSpPr/>
            <p:nvPr/>
          </p:nvGrpSpPr>
          <p:grpSpPr>
            <a:xfrm>
              <a:off x="233280" y="228600"/>
              <a:ext cx="6227640" cy="7348680"/>
              <a:chOff x="233280" y="228600"/>
              <a:chExt cx="6227640" cy="7348680"/>
            </a:xfrm>
          </p:grpSpPr>
          <p:sp>
            <p:nvSpPr>
              <p:cNvPr id="309" name=""/>
              <p:cNvSpPr/>
              <p:nvPr/>
            </p:nvSpPr>
            <p:spPr>
              <a:xfrm>
                <a:off x="2242080" y="57672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442960" y="91836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242080" y="126504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442960" y="22860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442960" y="16070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242080" y="19490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242080" y="26391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42960" y="29858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242080" y="33278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42960" y="2297160"/>
                <a:ext cx="19944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442960" y="367596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42080" y="40179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41760" y="57672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041200" y="9183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841760" y="126504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041200" y="22860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041200" y="16070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41760" y="19490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41760" y="26391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041200" y="29858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41760" y="33278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41200" y="229716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41200" y="367596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841760" y="40179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41800" y="57672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40880" y="9183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41800" y="126504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640880" y="22860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640880" y="16070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41800" y="19490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441800" y="26391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640880" y="29858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41800" y="33278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40880" y="229716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640880" y="367596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441800" y="40179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039680" y="57672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240560" y="91836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039680" y="126504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240560" y="22860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240560" y="160704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039680" y="194904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039680" y="263916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40560" y="298584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039680" y="332784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240560" y="2297160"/>
                <a:ext cx="194400" cy="45864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240560" y="367596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039680" y="401796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3240" y="57672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40240" y="918360"/>
                <a:ext cx="193320" cy="45828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3240" y="126504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40240" y="228600"/>
                <a:ext cx="193320" cy="45972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40240" y="1607040"/>
                <a:ext cx="19332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3240" y="19490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3240" y="26391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40240" y="2985840"/>
                <a:ext cx="19332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3240" y="33278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40240" y="2297160"/>
                <a:ext cx="193320" cy="45864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40240" y="3675960"/>
                <a:ext cx="19332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3240" y="40179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33280" y="57672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34160" y="9183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33280" y="126504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34160" y="22860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34160" y="16070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33280" y="19490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33280" y="26391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34160" y="29858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33280" y="33278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4160" y="2297160"/>
                <a:ext cx="19908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34160" y="367596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33280" y="40179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51200" y="57672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58560" y="918360"/>
                <a:ext cx="192960" cy="45828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51200" y="126504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58560" y="228600"/>
                <a:ext cx="192960" cy="45972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58560" y="160704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651200" y="19490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51200" y="26391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58560" y="298584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51200" y="33278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58560" y="2297160"/>
                <a:ext cx="192960" cy="45864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58560" y="367596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51200" y="40179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50880" y="57672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52120" y="9183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50880" y="126504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452120" y="22860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452120" y="16070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250880" y="19490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250880" y="26391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452120" y="29858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250880" y="33278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452120" y="2297160"/>
                <a:ext cx="19908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452120" y="367596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250880" y="40179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850560" y="57672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50360" y="9183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850560" y="126504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050360" y="22860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050360" y="16070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850560" y="19490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850560" y="263916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050360" y="29858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850560" y="33278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050360" y="2297160"/>
                <a:ext cx="20052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050360" y="367596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850560" y="401796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450240" y="57672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650040" y="9183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450240" y="126504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50040" y="22860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650040" y="16070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450240" y="19490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50240" y="263916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50040" y="29858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450240" y="33278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50040" y="2297160"/>
                <a:ext cx="20052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650040" y="367596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450240" y="401796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48840" y="57672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249720" y="9183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048840" y="126504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249720" y="22860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249720" y="16070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48840" y="194904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48840" y="263916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249720" y="29858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8840" y="332784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249720" y="2297160"/>
                <a:ext cx="20052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249720" y="367596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048840" y="401796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642400" y="57672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849400" y="918360"/>
                <a:ext cx="192960" cy="45828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42400" y="126504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849400" y="228600"/>
                <a:ext cx="192960" cy="45972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49400" y="160704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642400" y="19490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642400" y="26391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49400" y="298584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42400" y="33278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849400" y="2297160"/>
                <a:ext cx="192960" cy="45864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849400" y="367596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642400" y="40179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60040" y="57672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60040" y="126504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60040" y="19490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60040" y="26391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60040" y="33278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260040" y="40179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59720" y="57672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059160" y="9183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859720" y="126504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59160" y="22860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59160" y="16070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859720" y="19490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859720" y="26391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059160" y="29858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59720" y="33278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059160" y="229716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059160" y="367596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859720" y="40179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57960" y="57672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658840" y="9183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457960" y="126504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58840" y="22860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58840" y="16070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457960" y="19490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457960" y="26391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658840" y="29858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57960" y="33278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658840" y="229716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658840" y="367596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457960" y="40179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58000" y="57672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258880" y="9183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58000" y="126504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58880" y="22860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258880" y="16070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58000" y="194904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58000" y="263916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58880" y="29858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058000" y="332784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258880" y="2297160"/>
                <a:ext cx="19908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258880" y="367596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58000" y="401796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242080" y="47066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442960" y="505476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242080" y="539640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442960" y="436464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442960" y="5744520"/>
                <a:ext cx="19944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2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242080" y="608508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242080" y="677556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442960" y="711720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442960" y="6433200"/>
                <a:ext cx="199440" cy="453960"/>
              </a:xfrm>
              <a:custGeom>
                <a:avLst/>
                <a:gdLst/>
                <a:ahLst/>
                <a:rect l="l" t="t" r="r" b="b"/>
                <a:pathLst>
                  <a:path w="130" h="296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6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841760" y="47066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41200" y="505476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41760" y="539640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041200" y="436464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041200" y="574452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2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1841760" y="608544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41760" y="67755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1200" y="71175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1200" y="643356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41800" y="470664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40880" y="50547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41800" y="53967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40880" y="4364640"/>
              <a:ext cx="20088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40880" y="574488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41800" y="608544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41800" y="67755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40880" y="71175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40880" y="643356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39680" y="470664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40560" y="505476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039680" y="539676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40560" y="4364640"/>
              <a:ext cx="194400" cy="45972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40560" y="574488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39680" y="608544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39680" y="677556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40560" y="711756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0560" y="6433560"/>
              <a:ext cx="194400" cy="453960"/>
            </a:xfrm>
            <a:custGeom>
              <a:avLst/>
              <a:gdLst/>
              <a:ahLst/>
              <a:rect l="l" t="t" r="r" b="b"/>
              <a:pathLst>
                <a:path w="127" h="296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3240" y="470664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40240" y="5054760"/>
              <a:ext cx="19332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3240" y="53967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40240" y="4364640"/>
              <a:ext cx="193320" cy="45972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40240" y="5744880"/>
              <a:ext cx="19332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3240" y="608544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67755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40240" y="7117560"/>
              <a:ext cx="19332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40240" y="6433560"/>
              <a:ext cx="193320" cy="45396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33280" y="470664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4160" y="50547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3280" y="53967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4160" y="4364640"/>
              <a:ext cx="199080" cy="45972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4160" y="574488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3280" y="608544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3280" y="67755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4160" y="71175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4160" y="6433560"/>
              <a:ext cx="199080" cy="45396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51200" y="470664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58560" y="505476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51200" y="53967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58560" y="4364640"/>
              <a:ext cx="192960" cy="45972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58560" y="5744880"/>
              <a:ext cx="19296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51200" y="608544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51200" y="67755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58560" y="711756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58560" y="6433560"/>
              <a:ext cx="192960" cy="45396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50880" y="470664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52120" y="50547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50880" y="53967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52120" y="4364640"/>
              <a:ext cx="199080" cy="45972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52120" y="574488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50880" y="608544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50880" y="67755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52120" y="71175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52120" y="6433560"/>
              <a:ext cx="199080" cy="45396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50560" y="470664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50360" y="50547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50560" y="539676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50360" y="4364640"/>
              <a:ext cx="20052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50360" y="574488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0560" y="608544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0560" y="677556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50360" y="71175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50360" y="6433560"/>
              <a:ext cx="20052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450240" y="470664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650040" y="50547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50240" y="539676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650040" y="4364640"/>
              <a:ext cx="20052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650040" y="574488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50240" y="608544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50240" y="677556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50040" y="71175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040" y="6433560"/>
              <a:ext cx="20052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48840" y="470664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49720" y="50547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48840" y="539676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249720" y="4364640"/>
              <a:ext cx="20052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49720" y="574488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048840" y="608544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8840" y="677556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249720" y="71175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49720" y="6433560"/>
              <a:ext cx="20052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42400" y="470664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49400" y="505476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642400" y="53967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49400" y="4364640"/>
              <a:ext cx="192960" cy="45972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49400" y="5744880"/>
              <a:ext cx="19296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42400" y="608544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42400" y="67755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49400" y="711756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49400" y="6433560"/>
              <a:ext cx="192960" cy="45396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60040" y="470664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60040" y="53967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260040" y="608544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60040" y="67755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59720" y="470664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59160" y="50547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59720" y="53967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59160" y="4364640"/>
              <a:ext cx="20088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59160" y="574488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59720" y="608544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859720" y="67755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59160" y="71175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59160" y="643356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57960" y="470664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658840" y="50547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57960" y="53967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58840" y="4364640"/>
              <a:ext cx="20088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58840" y="574488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57960" y="608544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57960" y="67755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58840" y="71175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58840" y="643356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058000" y="470664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58880" y="50547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58000" y="539676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58880" y="4364640"/>
              <a:ext cx="199080" cy="45972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58880" y="574488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058000" y="608544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58000" y="677556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58880" y="71175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58880" y="6433560"/>
              <a:ext cx="199080" cy="45396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42080" y="746568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41760" y="746568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41800" y="746568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39680" y="746568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33240" y="746568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3280" y="746568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51200" y="746568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50880" y="746568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50560" y="7465680"/>
              <a:ext cx="19944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450240" y="7465680"/>
              <a:ext cx="19944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048840" y="746568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42400" y="746568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260040" y="746568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59720" y="746568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57960" y="746568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58000" y="746568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228600" y="7124760"/>
            <a:ext cx="6227640" cy="2179080"/>
            <a:chOff x="228600" y="7124760"/>
            <a:chExt cx="6227640" cy="2179080"/>
          </a:xfrm>
        </p:grpSpPr>
        <p:sp>
          <p:nvSpPr>
            <p:cNvPr id="651" name=""/>
            <p:cNvSpPr/>
            <p:nvPr/>
          </p:nvSpPr>
          <p:spPr>
            <a:xfrm>
              <a:off x="2438280" y="7124760"/>
              <a:ext cx="20016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36680" y="7466040"/>
              <a:ext cx="20160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36680" y="815652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38280" y="8497800"/>
              <a:ext cx="20016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38280" y="7813440"/>
              <a:ext cx="200160" cy="45360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36520" y="7124760"/>
              <a:ext cx="20016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36720" y="7466040"/>
              <a:ext cx="199800" cy="4582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36720" y="8154720"/>
              <a:ext cx="19980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036520" y="8497800"/>
              <a:ext cx="20016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36520" y="7813440"/>
              <a:ext cx="200160" cy="45360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36560" y="7124760"/>
              <a:ext cx="20016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36400" y="7466040"/>
              <a:ext cx="200160" cy="4582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36400" y="8154720"/>
              <a:ext cx="20016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636560" y="8497800"/>
              <a:ext cx="20016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36560" y="7813440"/>
              <a:ext cx="200160" cy="45360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36600" y="7124760"/>
              <a:ext cx="19368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35000" y="7466040"/>
              <a:ext cx="195120" cy="4582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35000" y="8154720"/>
              <a:ext cx="19512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36600" y="8497800"/>
              <a:ext cx="19368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36600" y="7813440"/>
              <a:ext cx="193680" cy="453600"/>
            </a:xfrm>
            <a:custGeom>
              <a:avLst/>
              <a:gdLst/>
              <a:ahLst/>
              <a:rect l="l" t="t" r="r" b="b"/>
              <a:pathLst>
                <a:path w="127" h="296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6640" y="7124760"/>
              <a:ext cx="19188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28560" y="746604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28560" y="815472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6640" y="8497800"/>
              <a:ext cx="19188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36640" y="7813440"/>
              <a:ext cx="191880" cy="45360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30200" y="7124760"/>
              <a:ext cx="19836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8600" y="746604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8600" y="815472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30200" y="8497800"/>
              <a:ext cx="19836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30200" y="7813440"/>
              <a:ext cx="198360" cy="45360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54600" y="7124760"/>
              <a:ext cx="19188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46520" y="746604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46520" y="815472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54600" y="8497800"/>
              <a:ext cx="19188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854600" y="7813440"/>
              <a:ext cx="191880" cy="45360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8160" y="7124760"/>
              <a:ext cx="19836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46560" y="746604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46560" y="815472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48160" y="8497800"/>
              <a:ext cx="19836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448160" y="7813440"/>
              <a:ext cx="198360" cy="45360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044960" y="7124760"/>
              <a:ext cx="20160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46240" y="7466040"/>
              <a:ext cx="198720" cy="4582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846240" y="8154720"/>
              <a:ext cx="19872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44960" y="849780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44960" y="7813440"/>
              <a:ext cx="201600" cy="45360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44640" y="7124760"/>
              <a:ext cx="20160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46280" y="7466040"/>
              <a:ext cx="198360" cy="4582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446280" y="8154720"/>
              <a:ext cx="19836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644640" y="849780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644640" y="7813440"/>
              <a:ext cx="201600" cy="45360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44680" y="7124760"/>
              <a:ext cx="20160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044880" y="7466040"/>
              <a:ext cx="193680" cy="4582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44880" y="8154720"/>
              <a:ext cx="19368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44680" y="849780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44680" y="7813440"/>
              <a:ext cx="201600" cy="45360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44720" y="7124760"/>
              <a:ext cx="19368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638440" y="7466040"/>
              <a:ext cx="199800" cy="4582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638440" y="8154720"/>
              <a:ext cx="1998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844720" y="8497800"/>
              <a:ext cx="19368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44720" y="7813440"/>
              <a:ext cx="193680" cy="45360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54640" y="746604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54640" y="815472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54480" y="7124760"/>
              <a:ext cx="20016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54680" y="7466040"/>
              <a:ext cx="199800" cy="4582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54680" y="8154720"/>
              <a:ext cx="19980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54480" y="8497800"/>
              <a:ext cx="20016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54480" y="7813440"/>
              <a:ext cx="200160" cy="45360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54520" y="7124760"/>
              <a:ext cx="20016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52920" y="746604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52920" y="815472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654520" y="8497800"/>
              <a:ext cx="20016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54520" y="7813440"/>
              <a:ext cx="200160" cy="45360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254560" y="7124760"/>
              <a:ext cx="19836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52960" y="7466040"/>
              <a:ext cx="195120" cy="4582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52960" y="8154720"/>
              <a:ext cx="19512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254560" y="8497800"/>
              <a:ext cx="19836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54560" y="7813440"/>
              <a:ext cx="198360" cy="45360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36680" y="884556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836720" y="8845560"/>
              <a:ext cx="199800" cy="45828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436400" y="8845560"/>
              <a:ext cx="200160" cy="45828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35000" y="8845560"/>
              <a:ext cx="195120" cy="45828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8560" y="884556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8600" y="884556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46520" y="884556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46560" y="884556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46240" y="8845560"/>
              <a:ext cx="198720" cy="45828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46280" y="8845560"/>
              <a:ext cx="198360" cy="45828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044880" y="8845560"/>
              <a:ext cx="193680" cy="45828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38440" y="8845560"/>
              <a:ext cx="199800" cy="45828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254640" y="884556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54680" y="8845560"/>
              <a:ext cx="199800" cy="45828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52920" y="884556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52960" y="8845560"/>
              <a:ext cx="195120" cy="45828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3581280" y="5181480"/>
            <a:ext cx="1981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“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実の死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600,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5,000gp, 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19720" y="5638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4222800">
            <a:off x="2309040" y="55576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テュクス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6360" y="8067600"/>
            <a:ext cx="12952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物質界サレッシュ近郊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への次元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015920" y="795168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791320" y="2057400"/>
            <a:ext cx="75960" cy="76320"/>
          </a:xfrm>
          <a:prstGeom prst="ellipse">
            <a:avLst/>
          </a:prstGeom>
          <a:solidFill>
            <a:srgbClr val="7c5f4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486400" y="22096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ハデスへの次元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38480" y="60948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09880" y="68580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ウトランズへの次元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8600" y="228600"/>
            <a:ext cx="3276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ストラル界（ハデスとの次元門周辺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重力：主観的重力方向。任意の方向に通常速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で移動、あるいは直線的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50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～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ft/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[120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～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40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イ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8h]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落下可能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属性：軽度の中立属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規模：次元界の広さは無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光源：常に柔らかな光に包まれてい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その他：発動時間が全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クション以下の任意の呪文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や疑似呪文能力を高速化したかのように使用でき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4160" y="2857680"/>
            <a:ext cx="228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物質界のサレッシュ近郊との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重複エリア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2819520"/>
            <a:ext cx="7632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3048120" y="3352680"/>
            <a:ext cx="3657600" cy="1371600"/>
            <a:chOff x="3048120" y="3352680"/>
            <a:chExt cx="3657600" cy="1371600"/>
          </a:xfrm>
        </p:grpSpPr>
        <p:sp>
          <p:nvSpPr>
            <p:cNvPr id="757" name=""/>
            <p:cNvSpPr/>
            <p:nvPr/>
          </p:nvSpPr>
          <p:spPr>
            <a:xfrm>
              <a:off x="3124440" y="3409920"/>
              <a:ext cx="3504960" cy="13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048120" y="3352680"/>
              <a:ext cx="365760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“</a:t>
              </a:r>
              <a:r>
                <a:rPr b="1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灰色の荒野”ハデス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	</a:t>
              </a:r>
              <a:r>
                <a:rPr b="1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第二層“霧の国”ニブルヘイ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重力：通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属性：重度の悪属性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(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悪でない者は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[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知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]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と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[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判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],[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魅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]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判定に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-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規模：水平方向に無限に広がっている様に見える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光源：常に薄暗く、霧に包まれている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(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最大視認範囲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0ft)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その他：「幽閉」の特性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(7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日間留まるたびに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[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難易度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+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日数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/7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　の意志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T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を行い、失敗すると請願者となって拘留される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4500720" y="5586480"/>
            <a:ext cx="1233360" cy="1200240"/>
          </a:xfrm>
          <a:custGeom>
            <a:avLst/>
            <a:gdLst/>
            <a:ahLst/>
            <a:rect l="l" t="t" r="r" b="b"/>
            <a:pathLst>
              <a:path w="777" h="756">
                <a:moveTo>
                  <a:pt x="0" y="42"/>
                </a:moveTo>
                <a:cubicBezTo>
                  <a:pt x="23" y="39"/>
                  <a:pt x="84" y="0"/>
                  <a:pt x="126" y="21"/>
                </a:cubicBezTo>
                <a:cubicBezTo>
                  <a:pt x="168" y="42"/>
                  <a:pt x="228" y="132"/>
                  <a:pt x="252" y="168"/>
                </a:cubicBezTo>
                <a:cubicBezTo>
                  <a:pt x="276" y="204"/>
                  <a:pt x="249" y="212"/>
                  <a:pt x="273" y="240"/>
                </a:cubicBezTo>
                <a:cubicBezTo>
                  <a:pt x="297" y="268"/>
                  <a:pt x="355" y="299"/>
                  <a:pt x="399" y="336"/>
                </a:cubicBezTo>
                <a:cubicBezTo>
                  <a:pt x="443" y="373"/>
                  <a:pt x="503" y="414"/>
                  <a:pt x="534" y="462"/>
                </a:cubicBezTo>
                <a:cubicBezTo>
                  <a:pt x="565" y="510"/>
                  <a:pt x="574" y="597"/>
                  <a:pt x="588" y="627"/>
                </a:cubicBezTo>
                <a:cubicBezTo>
                  <a:pt x="602" y="657"/>
                  <a:pt x="615" y="625"/>
                  <a:pt x="618" y="639"/>
                </a:cubicBezTo>
                <a:cubicBezTo>
                  <a:pt x="621" y="653"/>
                  <a:pt x="600" y="704"/>
                  <a:pt x="609" y="711"/>
                </a:cubicBezTo>
                <a:cubicBezTo>
                  <a:pt x="618" y="718"/>
                  <a:pt x="660" y="678"/>
                  <a:pt x="672" y="681"/>
                </a:cubicBezTo>
                <a:cubicBezTo>
                  <a:pt x="684" y="684"/>
                  <a:pt x="664" y="720"/>
                  <a:pt x="681" y="732"/>
                </a:cubicBezTo>
                <a:cubicBezTo>
                  <a:pt x="698" y="744"/>
                  <a:pt x="757" y="751"/>
                  <a:pt x="777" y="75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29160" y="5643720"/>
            <a:ext cx="314280" cy="280800"/>
          </a:xfrm>
          <a:custGeom>
            <a:avLst/>
            <a:gdLst/>
            <a:ahLst/>
            <a:rect l="l" t="t" r="r" b="b"/>
            <a:pathLst>
              <a:path w="198" h="177">
                <a:moveTo>
                  <a:pt x="72" y="0"/>
                </a:moveTo>
                <a:lnTo>
                  <a:pt x="135" y="21"/>
                </a:lnTo>
                <a:lnTo>
                  <a:pt x="198" y="123"/>
                </a:lnTo>
                <a:lnTo>
                  <a:pt x="189" y="177"/>
                </a:lnTo>
                <a:lnTo>
                  <a:pt x="21" y="57"/>
                </a:lnTo>
                <a:lnTo>
                  <a:pt x="0" y="24"/>
                </a:lnTo>
              </a:path>
            </a:pathLst>
          </a:custGeom>
          <a:solidFill>
            <a:srgbClr val="5f5f5f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57800" y="49528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ストラル界への次元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824440" y="5181480"/>
            <a:ext cx="76320" cy="76320"/>
          </a:xfrm>
          <a:prstGeom prst="ellipse">
            <a:avLst/>
          </a:prstGeom>
          <a:solidFill>
            <a:srgbClr val="0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029200" y="8991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00600" y="876312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イ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=12.8Km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626080" y="67438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266720" y="151920"/>
            <a:ext cx="2211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資料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657600" y="24382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海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64160" y="5334120"/>
            <a:ext cx="2797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28600" y="2590920"/>
            <a:ext cx="6248520" cy="1295280"/>
          </a:xfrm>
          <a:custGeom>
            <a:avLst/>
            <a:gdLst/>
            <a:ahLst/>
            <a:rect l="l" t="t" r="r" b="b"/>
            <a:pathLst>
              <a:path w="3936" h="816">
                <a:moveTo>
                  <a:pt x="0" y="672"/>
                </a:moveTo>
                <a:lnTo>
                  <a:pt x="3936" y="0"/>
                </a:lnTo>
                <a:lnTo>
                  <a:pt x="3936" y="144"/>
                </a:lnTo>
                <a:lnTo>
                  <a:pt x="0" y="816"/>
                </a:lnTo>
                <a:lnTo>
                  <a:pt x="0" y="6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rot="21033600">
            <a:off x="2219400" y="3162240"/>
            <a:ext cx="251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ハデス第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層、魔族の戦場オイノ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5181480" y="7848720"/>
            <a:ext cx="1143000" cy="916920"/>
            <a:chOff x="5181480" y="7848720"/>
            <a:chExt cx="1143000" cy="916920"/>
          </a:xfrm>
        </p:grpSpPr>
        <p:sp>
          <p:nvSpPr>
            <p:cNvPr id="772" name=""/>
            <p:cNvSpPr/>
            <p:nvPr/>
          </p:nvSpPr>
          <p:spPr>
            <a:xfrm>
              <a:off x="5181480" y="7848720"/>
              <a:ext cx="10670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5257800" y="7925040"/>
              <a:ext cx="1066680" cy="840600"/>
              <a:chOff x="5257800" y="7925040"/>
              <a:chExt cx="1066680" cy="840600"/>
            </a:xfrm>
          </p:grpSpPr>
          <p:sp>
            <p:nvSpPr>
              <p:cNvPr id="774" name=""/>
              <p:cNvSpPr/>
              <p:nvPr/>
            </p:nvSpPr>
            <p:spPr>
              <a:xfrm>
                <a:off x="5257800" y="868680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410080" y="8534520"/>
                <a:ext cx="752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道・橋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257800" y="8391600"/>
                <a:ext cx="152280" cy="1522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257800" y="8191800"/>
                <a:ext cx="152280" cy="15228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410080" y="7925040"/>
                <a:ext cx="914400" cy="64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山岳・荒れ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川・湖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森林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257800" y="7967880"/>
                <a:ext cx="152280" cy="1522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0" name=""/>
          <p:cNvSpPr/>
          <p:nvPr/>
        </p:nvSpPr>
        <p:spPr>
          <a:xfrm>
            <a:off x="5410080" y="681372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“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魂の回廊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72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8600" y="167652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イ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=12.8Km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2280" y="4457880"/>
          <a:ext cx="2038320" cy="217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4457880"/>
                    <a:ext cx="2038320" cy="2171520"/>
                  </a:xfrm>
                  <a:prstGeom prst="rect">
                    <a:avLst/>
                  </a:prstGeom>
                  <a:ln w="28440">
                    <a:solidFill>
                      <a:srgbClr val="66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5" name=""/>
          <p:cNvSpPr/>
          <p:nvPr/>
        </p:nvSpPr>
        <p:spPr>
          <a:xfrm>
            <a:off x="685800" y="1614600"/>
            <a:ext cx="5029200" cy="1204920"/>
          </a:xfrm>
          <a:custGeom>
            <a:avLst/>
            <a:gdLst/>
            <a:ahLst/>
            <a:rect l="l" t="t" r="r" b="b"/>
            <a:pathLst>
              <a:path w="3168" h="759">
                <a:moveTo>
                  <a:pt x="0" y="759"/>
                </a:moveTo>
                <a:cubicBezTo>
                  <a:pt x="270" y="651"/>
                  <a:pt x="1140" y="222"/>
                  <a:pt x="1620" y="111"/>
                </a:cubicBezTo>
                <a:cubicBezTo>
                  <a:pt x="2100" y="0"/>
                  <a:pt x="2622" y="65"/>
                  <a:pt x="2880" y="93"/>
                </a:cubicBezTo>
                <a:cubicBezTo>
                  <a:pt x="3138" y="121"/>
                  <a:pt x="3108" y="240"/>
                  <a:pt x="3168" y="279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618000" y="1676520"/>
            <a:ext cx="115920" cy="1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038480" y="129528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3.2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海賊団との遭遇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693600" y="1447920"/>
            <a:ext cx="42084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09480" y="2779560"/>
            <a:ext cx="115920" cy="1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9480" y="21337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3.1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アストラル界へ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609120" y="2286000"/>
            <a:ext cx="2286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rot="20427000">
            <a:off x="2073240" y="202536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アストラル界での移動経路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(6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時間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51360" y="2017800"/>
            <a:ext cx="115920" cy="1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181480" y="106668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3.3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人買いとの遭遇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5842080" y="1219320"/>
            <a:ext cx="101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066680" y="5676840"/>
            <a:ext cx="3353040" cy="2247840"/>
          </a:xfrm>
          <a:custGeom>
            <a:avLst/>
            <a:gdLst/>
            <a:ahLst/>
            <a:rect l="l" t="t" r="r" b="b"/>
            <a:pathLst>
              <a:path w="2112" h="1416">
                <a:moveTo>
                  <a:pt x="0" y="1416"/>
                </a:moveTo>
                <a:cubicBezTo>
                  <a:pt x="40" y="1392"/>
                  <a:pt x="144" y="1296"/>
                  <a:pt x="240" y="1272"/>
                </a:cubicBezTo>
                <a:cubicBezTo>
                  <a:pt x="336" y="1248"/>
                  <a:pt x="480" y="1296"/>
                  <a:pt x="576" y="1272"/>
                </a:cubicBezTo>
                <a:cubicBezTo>
                  <a:pt x="672" y="1248"/>
                  <a:pt x="752" y="1224"/>
                  <a:pt x="816" y="1128"/>
                </a:cubicBezTo>
                <a:cubicBezTo>
                  <a:pt x="880" y="1032"/>
                  <a:pt x="904" y="800"/>
                  <a:pt x="960" y="696"/>
                </a:cubicBezTo>
                <a:cubicBezTo>
                  <a:pt x="1016" y="592"/>
                  <a:pt x="1120" y="552"/>
                  <a:pt x="1152" y="504"/>
                </a:cubicBezTo>
                <a:cubicBezTo>
                  <a:pt x="1184" y="456"/>
                  <a:pt x="1162" y="410"/>
                  <a:pt x="1194" y="402"/>
                </a:cubicBezTo>
                <a:lnTo>
                  <a:pt x="1344" y="456"/>
                </a:lnTo>
                <a:cubicBezTo>
                  <a:pt x="1377" y="449"/>
                  <a:pt x="1320" y="408"/>
                  <a:pt x="1392" y="360"/>
                </a:cubicBezTo>
                <a:cubicBezTo>
                  <a:pt x="1464" y="312"/>
                  <a:pt x="1696" y="224"/>
                  <a:pt x="1776" y="168"/>
                </a:cubicBezTo>
                <a:cubicBezTo>
                  <a:pt x="1856" y="112"/>
                  <a:pt x="1816" y="48"/>
                  <a:pt x="1872" y="24"/>
                </a:cubicBezTo>
                <a:cubicBezTo>
                  <a:pt x="1928" y="0"/>
                  <a:pt x="2062" y="24"/>
                  <a:pt x="2112" y="2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495680" y="5257800"/>
            <a:ext cx="1371600" cy="584280"/>
          </a:xfrm>
          <a:custGeom>
            <a:avLst/>
            <a:gdLst/>
            <a:ahLst/>
            <a:rect l="l" t="t" r="r" b="b"/>
            <a:pathLst>
              <a:path w="864" h="368">
                <a:moveTo>
                  <a:pt x="864" y="0"/>
                </a:moveTo>
                <a:cubicBezTo>
                  <a:pt x="864" y="0"/>
                  <a:pt x="752" y="136"/>
                  <a:pt x="720" y="192"/>
                </a:cubicBezTo>
                <a:cubicBezTo>
                  <a:pt x="688" y="248"/>
                  <a:pt x="744" y="312"/>
                  <a:pt x="672" y="336"/>
                </a:cubicBezTo>
                <a:cubicBezTo>
                  <a:pt x="600" y="360"/>
                  <a:pt x="384" y="368"/>
                  <a:pt x="288" y="336"/>
                </a:cubicBezTo>
                <a:cubicBezTo>
                  <a:pt x="192" y="304"/>
                  <a:pt x="144" y="160"/>
                  <a:pt x="96" y="144"/>
                </a:cubicBezTo>
                <a:cubicBezTo>
                  <a:pt x="48" y="128"/>
                  <a:pt x="20" y="220"/>
                  <a:pt x="0" y="24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5714640" y="5334120"/>
            <a:ext cx="152280" cy="1371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495680" y="5378400"/>
            <a:ext cx="1143000" cy="1327320"/>
          </a:xfrm>
          <a:custGeom>
            <a:avLst/>
            <a:gdLst/>
            <a:ahLst/>
            <a:rect l="l" t="t" r="r" b="b"/>
            <a:pathLst>
              <a:path w="720" h="836">
                <a:moveTo>
                  <a:pt x="0" y="116"/>
                </a:moveTo>
                <a:cubicBezTo>
                  <a:pt x="16" y="100"/>
                  <a:pt x="43" y="0"/>
                  <a:pt x="96" y="20"/>
                </a:cubicBezTo>
                <a:cubicBezTo>
                  <a:pt x="149" y="40"/>
                  <a:pt x="278" y="180"/>
                  <a:pt x="318" y="236"/>
                </a:cubicBezTo>
                <a:cubicBezTo>
                  <a:pt x="358" y="292"/>
                  <a:pt x="293" y="304"/>
                  <a:pt x="336" y="356"/>
                </a:cubicBezTo>
                <a:cubicBezTo>
                  <a:pt x="379" y="408"/>
                  <a:pt x="528" y="484"/>
                  <a:pt x="576" y="548"/>
                </a:cubicBezTo>
                <a:cubicBezTo>
                  <a:pt x="624" y="612"/>
                  <a:pt x="600" y="692"/>
                  <a:pt x="624" y="740"/>
                </a:cubicBezTo>
                <a:cubicBezTo>
                  <a:pt x="648" y="788"/>
                  <a:pt x="700" y="816"/>
                  <a:pt x="720" y="83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75000" y="7427880"/>
            <a:ext cx="115920" cy="1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666880" y="800100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4.3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ステュクス・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ドラゴンと遭遇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2550960" y="7504200"/>
            <a:ext cx="192240" cy="573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008160" y="6313320"/>
            <a:ext cx="115920" cy="1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200400" y="67057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4.4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渡し守と遭遇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 flipV="1">
            <a:off x="3084120" y="6389280"/>
            <a:ext cx="268200" cy="392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438280" y="6553080"/>
            <a:ext cx="685800" cy="9144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576"/>
                </a:moveTo>
                <a:lnTo>
                  <a:pt x="144" y="576"/>
                </a:lnTo>
                <a:lnTo>
                  <a:pt x="288" y="240"/>
                </a:lnTo>
                <a:lnTo>
                  <a:pt x="432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08600" y="5160960"/>
            <a:ext cx="115920" cy="1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724280" y="48006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3.3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人買いとの遭遇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81480" y="5019840"/>
            <a:ext cx="6098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398840" y="5627520"/>
            <a:ext cx="115920" cy="1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61722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5]“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無実の死”での情報収集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4419720" y="57913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990720" y="7924680"/>
            <a:ext cx="115920" cy="1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0880" y="73152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4.1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直通次元門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7467480"/>
            <a:ext cx="1526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305000" y="4848120"/>
            <a:ext cx="75960" cy="76320"/>
          </a:xfrm>
          <a:prstGeom prst="ellipse">
            <a:avLst/>
          </a:prstGeom>
          <a:solidFill>
            <a:srgbClr val="7c5f4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285920" y="4829040"/>
            <a:ext cx="115920" cy="1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8600" y="449568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4.1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直通次元門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38080" y="4648320"/>
            <a:ext cx="4572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724280" y="723888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6-8]“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魂の回廊”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の探索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610240" y="6713640"/>
            <a:ext cx="115920" cy="1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4973760" y="6781320"/>
            <a:ext cx="664920" cy="4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791320" y="2133720"/>
            <a:ext cx="75960" cy="3047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1066320" y="4952880"/>
            <a:ext cx="228600" cy="2971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6" name="8x12_Flor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304920"/>
            <a:ext cx="6103800" cy="9144000"/>
          </a:xfrm>
          <a:prstGeom prst="rect">
            <a:avLst/>
          </a:prstGeom>
          <a:ln w="0">
            <a:noFill/>
          </a:ln>
        </p:spPr>
      </p:pic>
      <p:pic>
        <p:nvPicPr>
          <p:cNvPr id="3147" name="2x1_SingleDoor.b.90" descr=""/>
          <p:cNvPicPr/>
          <p:nvPr/>
        </p:nvPicPr>
        <p:blipFill>
          <a:blip r:embed="rId2"/>
          <a:stretch/>
        </p:blipFill>
        <p:spPr>
          <a:xfrm>
            <a:off x="500040" y="399960"/>
            <a:ext cx="723960" cy="1447920"/>
          </a:xfrm>
          <a:prstGeom prst="rect">
            <a:avLst/>
          </a:prstGeom>
          <a:ln w="0">
            <a:noFill/>
          </a:ln>
        </p:spPr>
      </p:pic>
      <p:sp>
        <p:nvSpPr>
          <p:cNvPr id="3148" name=""/>
          <p:cNvSpPr/>
          <p:nvPr/>
        </p:nvSpPr>
        <p:spPr>
          <a:xfrm>
            <a:off x="1219320" y="6400800"/>
            <a:ext cx="76176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1219320" y="304920"/>
            <a:ext cx="53337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2819160" y="9524880"/>
            <a:ext cx="1447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9 [6.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1219320" y="7162920"/>
            <a:ext cx="533376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6400800" y="304920"/>
            <a:ext cx="152280" cy="7619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1219320" y="7924680"/>
            <a:ext cx="533376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457200" y="304920"/>
            <a:ext cx="762120" cy="914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 rot="16015200">
            <a:off x="4838400" y="1866600"/>
            <a:ext cx="761760" cy="2209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 rot="16287600">
            <a:off x="4829400" y="4219920"/>
            <a:ext cx="762120" cy="2227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3581280" y="1676520"/>
            <a:ext cx="304920" cy="3045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2819520" y="609480"/>
            <a:ext cx="304560" cy="3049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 rot="4839000">
            <a:off x="3115080" y="524520"/>
            <a:ext cx="762120" cy="1541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1219320" y="304920"/>
            <a:ext cx="761760" cy="457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rot="147000">
            <a:off x="2133360" y="4624200"/>
            <a:ext cx="1066680" cy="1952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2" name="2x1_DoubleDoors.a.270" descr=""/>
          <p:cNvPicPr/>
          <p:nvPr/>
        </p:nvPicPr>
        <p:blipFill>
          <a:blip r:embed="rId9">
            <a:grayscl/>
            <a:lum bright="6000"/>
          </a:blip>
          <a:srcRect l="0" t="0" r="5195" b="0"/>
          <a:stretch/>
        </p:blipFill>
        <p:spPr>
          <a:xfrm>
            <a:off x="1219320" y="4915080"/>
            <a:ext cx="742680" cy="1523880"/>
          </a:xfrm>
          <a:prstGeom prst="rect">
            <a:avLst/>
          </a:prstGeom>
          <a:ln w="0">
            <a:noFill/>
          </a:ln>
        </p:spPr>
      </p:pic>
      <p:pic>
        <p:nvPicPr>
          <p:cNvPr id="3163" name="2x2_Obelisk.a.0" descr=""/>
          <p:cNvPicPr/>
          <p:nvPr/>
        </p:nvPicPr>
        <p:blipFill>
          <a:blip r:embed="rId10">
            <a:grayscl/>
          </a:blip>
          <a:srcRect l="14176" t="13585" r="7088" b="13585"/>
          <a:stretch/>
        </p:blipFill>
        <p:spPr>
          <a:xfrm>
            <a:off x="1981080" y="1828800"/>
            <a:ext cx="144792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164" name=""/>
          <p:cNvGrpSpPr/>
          <p:nvPr/>
        </p:nvGrpSpPr>
        <p:grpSpPr>
          <a:xfrm>
            <a:off x="-152280" y="42840"/>
            <a:ext cx="7467480" cy="10131480"/>
            <a:chOff x="-152280" y="42840"/>
            <a:chExt cx="7467480" cy="10131480"/>
          </a:xfrm>
        </p:grpSpPr>
        <p:grpSp>
          <p:nvGrpSpPr>
            <p:cNvPr id="3165" name=""/>
            <p:cNvGrpSpPr/>
            <p:nvPr/>
          </p:nvGrpSpPr>
          <p:grpSpPr>
            <a:xfrm>
              <a:off x="452520" y="299880"/>
              <a:ext cx="6176880" cy="9134640"/>
              <a:chOff x="452520" y="299880"/>
              <a:chExt cx="6176880" cy="9134640"/>
            </a:xfrm>
          </p:grpSpPr>
          <p:sp>
            <p:nvSpPr>
              <p:cNvPr id="3166" name=""/>
              <p:cNvSpPr/>
              <p:nvPr/>
            </p:nvSpPr>
            <p:spPr>
              <a:xfrm>
                <a:off x="458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1220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1982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2744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3506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4268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5030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792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554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H="1">
                <a:off x="452520" y="312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H="1">
                <a:off x="452520" y="1074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H="1">
                <a:off x="452520" y="1836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H="1">
                <a:off x="452520" y="2598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H="1">
                <a:off x="452520" y="3360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H="1">
                <a:off x="452520" y="4122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H="1">
                <a:off x="452520" y="4886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H="1">
                <a:off x="452520" y="5648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H="1">
                <a:off x="452520" y="64101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H="1">
                <a:off x="452520" y="7172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 flipH="1">
                <a:off x="452520" y="7934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H="1">
                <a:off x="452520" y="86976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flipH="1">
                <a:off x="452520" y="94280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8" name=""/>
            <p:cNvSpPr/>
            <p:nvPr/>
          </p:nvSpPr>
          <p:spPr>
            <a:xfrm>
              <a:off x="838080" y="763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-152280" y="428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086600" y="6094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1" name=""/>
          <p:cNvGrpSpPr/>
          <p:nvPr/>
        </p:nvGrpSpPr>
        <p:grpSpPr>
          <a:xfrm>
            <a:off x="380880" y="8604360"/>
            <a:ext cx="856080" cy="842040"/>
            <a:chOff x="380880" y="8604360"/>
            <a:chExt cx="856080" cy="842040"/>
          </a:xfrm>
        </p:grpSpPr>
        <p:sp>
          <p:nvSpPr>
            <p:cNvPr id="3192" name=""/>
            <p:cNvSpPr/>
            <p:nvPr/>
          </p:nvSpPr>
          <p:spPr>
            <a:xfrm rot="16200000">
              <a:off x="426960" y="866916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 rot="16200000">
              <a:off x="383040" y="8899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 rot="16200000">
              <a:off x="668880" y="8602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rot="16200000">
              <a:off x="962640" y="8899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rot="16200000">
              <a:off x="692640" y="9172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 flipH="1">
              <a:off x="550800" y="9059760"/>
              <a:ext cx="4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 flipV="1">
              <a:off x="855720" y="88502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9" name="8x12_Flor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304920"/>
            <a:ext cx="6103800" cy="9144000"/>
          </a:xfrm>
          <a:prstGeom prst="rect">
            <a:avLst/>
          </a:prstGeom>
          <a:ln w="0">
            <a:noFill/>
          </a:ln>
        </p:spPr>
      </p:pic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2590560" y="9600840"/>
            <a:ext cx="14475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0 [6.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461880" y="304920"/>
            <a:ext cx="45673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 rot="147000">
            <a:off x="2437920" y="3584520"/>
            <a:ext cx="2362320" cy="251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61880" y="343080"/>
            <a:ext cx="757440" cy="5295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6400800" y="1828800"/>
            <a:ext cx="152280" cy="758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5" name="2x1_DoubleDoors.a.270" descr=""/>
          <p:cNvPicPr/>
          <p:nvPr/>
        </p:nvPicPr>
        <p:blipFill>
          <a:blip r:embed="rId3">
            <a:grayscl/>
            <a:lum bright="6000"/>
          </a:blip>
          <a:srcRect l="0" t="0" r="5195" b="0"/>
          <a:stretch/>
        </p:blipFill>
        <p:spPr>
          <a:xfrm>
            <a:off x="533520" y="5638680"/>
            <a:ext cx="687240" cy="1524240"/>
          </a:xfrm>
          <a:prstGeom prst="rect">
            <a:avLst/>
          </a:prstGeom>
          <a:ln w="0">
            <a:noFill/>
          </a:ln>
        </p:spPr>
      </p:pic>
      <p:sp>
        <p:nvSpPr>
          <p:cNvPr id="3206" name=""/>
          <p:cNvSpPr/>
          <p:nvPr/>
        </p:nvSpPr>
        <p:spPr>
          <a:xfrm>
            <a:off x="5029200" y="304920"/>
            <a:ext cx="14479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457200" y="7162920"/>
            <a:ext cx="757080" cy="2171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4038480" y="3657600"/>
            <a:ext cx="304920" cy="3049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 rot="5163000">
            <a:off x="2675520" y="4105800"/>
            <a:ext cx="1676520" cy="1541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1" name="2x1_DoubleDoors.a.270" descr=""/>
          <p:cNvPicPr/>
          <p:nvPr/>
        </p:nvPicPr>
        <p:blipFill>
          <a:blip r:embed="rId7">
            <a:grayscl/>
            <a:lum bright="6000"/>
          </a:blip>
          <a:srcRect l="21251" t="0" r="47344" b="0"/>
          <a:stretch/>
        </p:blipFill>
        <p:spPr>
          <a:xfrm>
            <a:off x="6400800" y="2571840"/>
            <a:ext cx="228600" cy="1523880"/>
          </a:xfrm>
          <a:prstGeom prst="rect">
            <a:avLst/>
          </a:prstGeom>
          <a:ln w="0">
            <a:noFill/>
          </a:ln>
        </p:spPr>
      </p:pic>
      <p:sp>
        <p:nvSpPr>
          <p:cNvPr id="3212" name=""/>
          <p:cNvSpPr/>
          <p:nvPr/>
        </p:nvSpPr>
        <p:spPr>
          <a:xfrm>
            <a:off x="4191120" y="5791320"/>
            <a:ext cx="304560" cy="3045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2362320" y="4495680"/>
            <a:ext cx="304560" cy="30492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5" name="1x2_Altar.a.270" descr=""/>
          <p:cNvPicPr/>
          <p:nvPr/>
        </p:nvPicPr>
        <p:blipFill>
          <a:blip r:embed="rId11">
            <a:grayscl/>
          </a:blip>
          <a:stretch/>
        </p:blipFill>
        <p:spPr>
          <a:xfrm>
            <a:off x="2971800" y="8610480"/>
            <a:ext cx="1828800" cy="685800"/>
          </a:xfrm>
          <a:prstGeom prst="rect">
            <a:avLst/>
          </a:prstGeom>
          <a:ln w="0">
            <a:noFill/>
          </a:ln>
        </p:spPr>
      </p:pic>
      <p:sp>
        <p:nvSpPr>
          <p:cNvPr id="3216" name=""/>
          <p:cNvSpPr/>
          <p:nvPr/>
        </p:nvSpPr>
        <p:spPr>
          <a:xfrm>
            <a:off x="457200" y="9296280"/>
            <a:ext cx="60958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7" name=""/>
          <p:cNvGrpSpPr/>
          <p:nvPr/>
        </p:nvGrpSpPr>
        <p:grpSpPr>
          <a:xfrm>
            <a:off x="-152280" y="42840"/>
            <a:ext cx="7467480" cy="10131480"/>
            <a:chOff x="-152280" y="42840"/>
            <a:chExt cx="7467480" cy="10131480"/>
          </a:xfrm>
        </p:grpSpPr>
        <p:grpSp>
          <p:nvGrpSpPr>
            <p:cNvPr id="3218" name=""/>
            <p:cNvGrpSpPr/>
            <p:nvPr/>
          </p:nvGrpSpPr>
          <p:grpSpPr>
            <a:xfrm>
              <a:off x="452520" y="299880"/>
              <a:ext cx="6176880" cy="9134640"/>
              <a:chOff x="452520" y="299880"/>
              <a:chExt cx="6176880" cy="9134640"/>
            </a:xfrm>
          </p:grpSpPr>
          <p:sp>
            <p:nvSpPr>
              <p:cNvPr id="3219" name=""/>
              <p:cNvSpPr/>
              <p:nvPr/>
            </p:nvSpPr>
            <p:spPr>
              <a:xfrm>
                <a:off x="458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1220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1982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2744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3506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4268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5030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5792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554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 flipH="1">
                <a:off x="452520" y="312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 flipH="1">
                <a:off x="452520" y="1074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flipH="1">
                <a:off x="452520" y="1836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flipH="1">
                <a:off x="452520" y="2598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flipH="1">
                <a:off x="452520" y="3360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flipH="1">
                <a:off x="452520" y="4122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flipH="1">
                <a:off x="452520" y="4886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flipH="1">
                <a:off x="452520" y="5648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 flipH="1">
                <a:off x="452520" y="64101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 flipH="1">
                <a:off x="452520" y="7172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 flipH="1">
                <a:off x="452520" y="7934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flipH="1">
                <a:off x="452520" y="86976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>
                <a:off x="452520" y="94280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1" name=""/>
            <p:cNvSpPr/>
            <p:nvPr/>
          </p:nvSpPr>
          <p:spPr>
            <a:xfrm>
              <a:off x="838080" y="763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-152280" y="428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7086600" y="6094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4" name=""/>
          <p:cNvGrpSpPr/>
          <p:nvPr/>
        </p:nvGrpSpPr>
        <p:grpSpPr>
          <a:xfrm>
            <a:off x="533520" y="374760"/>
            <a:ext cx="855720" cy="842040"/>
            <a:chOff x="533520" y="374760"/>
            <a:chExt cx="855720" cy="842040"/>
          </a:xfrm>
        </p:grpSpPr>
        <p:sp>
          <p:nvSpPr>
            <p:cNvPr id="3245" name=""/>
            <p:cNvSpPr/>
            <p:nvPr/>
          </p:nvSpPr>
          <p:spPr>
            <a:xfrm rot="16200000">
              <a:off x="578880" y="439560"/>
              <a:ext cx="76212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rot="16200000">
              <a:off x="535680" y="669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 rot="16200000">
              <a:off x="821160" y="372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 rot="16200000">
              <a:off x="1114920" y="669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 rot="16200000">
              <a:off x="844920" y="942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H="1">
              <a:off x="702720" y="830160"/>
              <a:ext cx="47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 flipV="1">
              <a:off x="1008000" y="620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2" name="8x12_Flor" descr=""/>
          <p:cNvPicPr/>
          <p:nvPr/>
        </p:nvPicPr>
        <p:blipFill>
          <a:blip r:embed="rId1">
            <a:grayscl/>
            <a:lum bright="-28000"/>
          </a:blip>
          <a:stretch/>
        </p:blipFill>
        <p:spPr>
          <a:xfrm>
            <a:off x="457200" y="304920"/>
            <a:ext cx="6095880" cy="9144000"/>
          </a:xfrm>
          <a:prstGeom prst="rect">
            <a:avLst/>
          </a:prstGeom>
          <a:ln w="0">
            <a:noFill/>
          </a:ln>
        </p:spPr>
      </p:pic>
      <p:pic>
        <p:nvPicPr>
          <p:cNvPr id="3253" name="4x2_Stairs.a.9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267080" y="3352680"/>
            <a:ext cx="1524240" cy="3048120"/>
          </a:xfrm>
          <a:prstGeom prst="rect">
            <a:avLst/>
          </a:prstGeom>
          <a:ln w="0">
            <a:noFill/>
          </a:ln>
        </p:spPr>
      </p:pic>
      <p:pic>
        <p:nvPicPr>
          <p:cNvPr id="3254" name="8x2_Couches.b.0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57200" y="1828800"/>
            <a:ext cx="6095880" cy="1523880"/>
          </a:xfrm>
          <a:prstGeom prst="rect">
            <a:avLst/>
          </a:prstGeom>
          <a:ln w="0">
            <a:noFill/>
          </a:ln>
        </p:spPr>
      </p:pic>
      <p:sp>
        <p:nvSpPr>
          <p:cNvPr id="3255" name=""/>
          <p:cNvSpPr/>
          <p:nvPr/>
        </p:nvSpPr>
        <p:spPr>
          <a:xfrm>
            <a:off x="461880" y="343080"/>
            <a:ext cx="147600" cy="910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461880" y="1066680"/>
            <a:ext cx="60912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2819160" y="9524880"/>
            <a:ext cx="1447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1 [6.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457200" y="9354960"/>
            <a:ext cx="5334120" cy="74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 rot="16460400">
            <a:off x="2247120" y="5296320"/>
            <a:ext cx="915840" cy="1447920"/>
          </a:xfrm>
          <a:custGeom>
            <a:avLst/>
            <a:gdLst>
              <a:gd name="textAreaLeft" fmla="*/ 44640 w 915840"/>
              <a:gd name="textAreaRight" fmla="*/ 871200 w 915840"/>
              <a:gd name="textAreaTop" fmla="*/ 44640 h 1447920"/>
              <a:gd name="textAreaBottom" fmla="*/ 1403280 h 1447920"/>
            </a:gdLst>
            <a:ahLst/>
            <a:rect l="textAreaLeft" t="textAreaTop" r="textAreaRight" b="textAreaBottom"/>
            <a:pathLst>
              <a:path w="21600" h="34144">
                <a:moveTo>
                  <a:pt x="3600" y="0"/>
                </a:moveTo>
                <a:arcTo wR="3600" hR="3600" stAng="16200000" swAng="-5400000"/>
                <a:lnTo>
                  <a:pt x="0" y="30544"/>
                </a:lnTo>
                <a:arcTo wR="3600" hR="3600" stAng="10800000" swAng="-5400000"/>
                <a:lnTo>
                  <a:pt x="18000" y="341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 flipH="1">
            <a:off x="6400800" y="304920"/>
            <a:ext cx="123840" cy="7619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457200" y="7924680"/>
            <a:ext cx="60958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457200" y="8686800"/>
            <a:ext cx="609588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 rot="15300000">
            <a:off x="2171520" y="3219120"/>
            <a:ext cx="380880" cy="762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 rot="16200000">
            <a:off x="5810400" y="6000480"/>
            <a:ext cx="60948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 rot="16200000">
            <a:off x="5810040" y="5391000"/>
            <a:ext cx="6098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 rot="16200000">
            <a:off x="5810400" y="4781160"/>
            <a:ext cx="60948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 rot="16200000">
            <a:off x="5810400" y="4171680"/>
            <a:ext cx="60948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 rot="16200000">
            <a:off x="5810040" y="3562200"/>
            <a:ext cx="6098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 rot="16200000">
            <a:off x="5810400" y="3180960"/>
            <a:ext cx="60948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 rot="16200000">
            <a:off x="5886360" y="3790800"/>
            <a:ext cx="6098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 rot="16200000">
            <a:off x="5886360" y="4933800"/>
            <a:ext cx="6098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1447920" y="4419720"/>
            <a:ext cx="304560" cy="3045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 rot="10800000">
            <a:off x="609120" y="4191120"/>
            <a:ext cx="762120" cy="1541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rot="16533000">
            <a:off x="3619440" y="3161520"/>
            <a:ext cx="381240" cy="762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5" name="2x1_DoubleDoors.a.270" descr=""/>
          <p:cNvPicPr/>
          <p:nvPr/>
        </p:nvPicPr>
        <p:blipFill>
          <a:blip r:embed="rId9">
            <a:grayscl/>
            <a:lum bright="6000"/>
          </a:blip>
          <a:srcRect l="21251" t="0" r="47344" b="0"/>
          <a:stretch/>
        </p:blipFill>
        <p:spPr>
          <a:xfrm>
            <a:off x="6362640" y="6438960"/>
            <a:ext cx="228600" cy="1523880"/>
          </a:xfrm>
          <a:prstGeom prst="rect">
            <a:avLst/>
          </a:prstGeom>
          <a:ln w="0">
            <a:noFill/>
          </a:ln>
        </p:spPr>
      </p:pic>
      <p:sp>
        <p:nvSpPr>
          <p:cNvPr id="3276" name=""/>
          <p:cNvSpPr/>
          <p:nvPr/>
        </p:nvSpPr>
        <p:spPr>
          <a:xfrm>
            <a:off x="457200" y="304920"/>
            <a:ext cx="6095880" cy="74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7" name="2x1_DoubleDoors.a.0" descr=""/>
          <p:cNvPicPr/>
          <p:nvPr/>
        </p:nvPicPr>
        <p:blipFill>
          <a:blip r:embed="rId10">
            <a:grayscl/>
            <a:lum bright="10000"/>
          </a:blip>
          <a:stretch/>
        </p:blipFill>
        <p:spPr>
          <a:xfrm>
            <a:off x="628560" y="1066680"/>
            <a:ext cx="1371600" cy="762120"/>
          </a:xfrm>
          <a:prstGeom prst="rect">
            <a:avLst/>
          </a:prstGeom>
          <a:ln w="0">
            <a:noFill/>
          </a:ln>
        </p:spPr>
      </p:pic>
      <p:grpSp>
        <p:nvGrpSpPr>
          <p:cNvPr id="3278" name=""/>
          <p:cNvGrpSpPr/>
          <p:nvPr/>
        </p:nvGrpSpPr>
        <p:grpSpPr>
          <a:xfrm>
            <a:off x="-152280" y="42840"/>
            <a:ext cx="7467480" cy="10131480"/>
            <a:chOff x="-152280" y="42840"/>
            <a:chExt cx="7467480" cy="10131480"/>
          </a:xfrm>
        </p:grpSpPr>
        <p:grpSp>
          <p:nvGrpSpPr>
            <p:cNvPr id="3279" name=""/>
            <p:cNvGrpSpPr/>
            <p:nvPr/>
          </p:nvGrpSpPr>
          <p:grpSpPr>
            <a:xfrm>
              <a:off x="452520" y="299880"/>
              <a:ext cx="6176880" cy="9134640"/>
              <a:chOff x="452520" y="299880"/>
              <a:chExt cx="6176880" cy="9134640"/>
            </a:xfrm>
          </p:grpSpPr>
          <p:sp>
            <p:nvSpPr>
              <p:cNvPr id="3280" name=""/>
              <p:cNvSpPr/>
              <p:nvPr/>
            </p:nvSpPr>
            <p:spPr>
              <a:xfrm>
                <a:off x="458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1220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1982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2744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3506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268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5030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5792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6554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H="1">
                <a:off x="452520" y="312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 flipH="1">
                <a:off x="452520" y="1074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H="1">
                <a:off x="452520" y="1836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H="1">
                <a:off x="452520" y="2598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 flipH="1">
                <a:off x="452520" y="3360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 flipH="1">
                <a:off x="452520" y="4122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H="1">
                <a:off x="452520" y="4886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 flipH="1">
                <a:off x="452520" y="5648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 flipH="1">
                <a:off x="452520" y="64101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H="1">
                <a:off x="452520" y="7172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H="1">
                <a:off x="452520" y="7934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 flipH="1">
                <a:off x="452520" y="86976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H="1">
                <a:off x="452520" y="94280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2" name=""/>
            <p:cNvSpPr/>
            <p:nvPr/>
          </p:nvSpPr>
          <p:spPr>
            <a:xfrm>
              <a:off x="838080" y="763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-152280" y="428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086600" y="6094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5" name=""/>
          <p:cNvGrpSpPr/>
          <p:nvPr/>
        </p:nvGrpSpPr>
        <p:grpSpPr>
          <a:xfrm>
            <a:off x="5636520" y="8604720"/>
            <a:ext cx="856080" cy="842040"/>
            <a:chOff x="5636520" y="8604720"/>
            <a:chExt cx="856080" cy="842040"/>
          </a:xfrm>
        </p:grpSpPr>
        <p:sp>
          <p:nvSpPr>
            <p:cNvPr id="3306" name=""/>
            <p:cNvSpPr/>
            <p:nvPr/>
          </p:nvSpPr>
          <p:spPr>
            <a:xfrm rot="5400000">
              <a:off x="5684400" y="861984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rot="5400000">
              <a:off x="6218280" y="8875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 rot="5400000">
              <a:off x="5932440" y="9172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rot="5400000">
              <a:off x="5638680" y="8875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 rot="5400000">
              <a:off x="5908680" y="86025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851080" y="8991360"/>
              <a:ext cx="4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6017760" y="8820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3" name="8x12_Flor" descr=""/>
          <p:cNvPicPr/>
          <p:nvPr/>
        </p:nvPicPr>
        <p:blipFill>
          <a:blip r:embed="rId1">
            <a:grayscl/>
            <a:lum bright="-16000"/>
          </a:blip>
          <a:stretch/>
        </p:blipFill>
        <p:spPr>
          <a:xfrm>
            <a:off x="457200" y="304920"/>
            <a:ext cx="6103800" cy="9144000"/>
          </a:xfrm>
          <a:prstGeom prst="rect">
            <a:avLst/>
          </a:prstGeom>
          <a:ln w="0">
            <a:noFill/>
          </a:ln>
        </p:spPr>
      </p:pic>
      <p:pic>
        <p:nvPicPr>
          <p:cNvPr id="3314" name="2x2_Rune.a.18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666880" y="55627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2819160" y="9524880"/>
            <a:ext cx="1447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2 [6.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457200" y="9354960"/>
            <a:ext cx="5334120" cy="74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457200" y="304920"/>
            <a:ext cx="15228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8" name="1x1_SkullPile.a.0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543480" y="7201080"/>
            <a:ext cx="723600" cy="723600"/>
          </a:xfrm>
          <a:prstGeom prst="rect">
            <a:avLst/>
          </a:prstGeom>
          <a:ln w="0">
            <a:noFill/>
          </a:ln>
        </p:spPr>
      </p:pic>
      <p:sp>
        <p:nvSpPr>
          <p:cNvPr id="3319" name=""/>
          <p:cNvSpPr/>
          <p:nvPr/>
        </p:nvSpPr>
        <p:spPr>
          <a:xfrm>
            <a:off x="6400800" y="304920"/>
            <a:ext cx="15228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0" name="4x8_Fog.b.270" descr=""/>
          <p:cNvPicPr/>
          <p:nvPr/>
        </p:nvPicPr>
        <p:blipFill>
          <a:blip r:embed="rId4">
            <a:grayscl/>
          </a:blip>
          <a:srcRect l="0" t="0" r="0" b="25007"/>
          <a:stretch/>
        </p:blipFill>
        <p:spPr>
          <a:xfrm>
            <a:off x="457200" y="304920"/>
            <a:ext cx="6095880" cy="2286000"/>
          </a:xfrm>
          <a:prstGeom prst="rect">
            <a:avLst/>
          </a:prstGeom>
          <a:ln w="0">
            <a:noFill/>
          </a:ln>
        </p:spPr>
      </p:pic>
      <p:sp>
        <p:nvSpPr>
          <p:cNvPr id="3321" name=""/>
          <p:cNvSpPr/>
          <p:nvPr/>
        </p:nvSpPr>
        <p:spPr>
          <a:xfrm>
            <a:off x="1981080" y="1828800"/>
            <a:ext cx="4572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2" name="4x2_Stairs.a.90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685800" y="1828800"/>
            <a:ext cx="1295280" cy="2286000"/>
          </a:xfrm>
          <a:prstGeom prst="rect">
            <a:avLst/>
          </a:prstGeom>
          <a:ln w="0">
            <a:noFill/>
          </a:ln>
        </p:spPr>
      </p:pic>
      <p:pic>
        <p:nvPicPr>
          <p:cNvPr id="3323" name="4x2_Stairs.a.0" descr=""/>
          <p:cNvPicPr/>
          <p:nvPr/>
        </p:nvPicPr>
        <p:blipFill>
          <a:blip r:embed="rId6">
            <a:grayscl/>
            <a:lum bright="-16000"/>
          </a:blip>
          <a:stretch/>
        </p:blipFill>
        <p:spPr>
          <a:xfrm>
            <a:off x="685800" y="259092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3324" name=""/>
          <p:cNvSpPr/>
          <p:nvPr/>
        </p:nvSpPr>
        <p:spPr>
          <a:xfrm>
            <a:off x="3505320" y="304920"/>
            <a:ext cx="7570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4267080" y="304920"/>
            <a:ext cx="22860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461880" y="4114800"/>
            <a:ext cx="75744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457200" y="6400800"/>
            <a:ext cx="7570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457200" y="8686800"/>
            <a:ext cx="7570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5791320" y="4114800"/>
            <a:ext cx="7570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5791320" y="6400800"/>
            <a:ext cx="7570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5791320" y="8686800"/>
            <a:ext cx="7570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2" name="1x2_Altar.a.180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3124080" y="5867280"/>
            <a:ext cx="762120" cy="1333800"/>
          </a:xfrm>
          <a:prstGeom prst="rect">
            <a:avLst/>
          </a:prstGeom>
          <a:ln w="0">
            <a:noFill/>
          </a:ln>
        </p:spPr>
      </p:pic>
      <p:pic>
        <p:nvPicPr>
          <p:cNvPr id="3333" name="2x1_SingleDoor.b.0" descr=""/>
          <p:cNvPicPr/>
          <p:nvPr/>
        </p:nvPicPr>
        <p:blipFill>
          <a:blip r:embed="rId8">
            <a:grayscl/>
            <a:lum bright="14000"/>
          </a:blip>
          <a:stretch/>
        </p:blipFill>
        <p:spPr>
          <a:xfrm>
            <a:off x="2743200" y="868680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3334" name=""/>
          <p:cNvSpPr/>
          <p:nvPr/>
        </p:nvSpPr>
        <p:spPr>
          <a:xfrm>
            <a:off x="457200" y="9296280"/>
            <a:ext cx="60912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 rot="154200">
            <a:off x="2825640" y="4838760"/>
            <a:ext cx="609840" cy="10620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062000"/>
              <a:gd name="textAreaBottom" fmla="*/ 1032480 h 1062000"/>
            </a:gdLst>
            <a:ahLst/>
            <a:rect l="textAreaLeft" t="textAreaTop" r="textAreaRight" b="textAreaBottom"/>
            <a:pathLst>
              <a:path w="21600" h="37606">
                <a:moveTo>
                  <a:pt x="3600" y="0"/>
                </a:moveTo>
                <a:arcTo wR="3600" hR="3600" stAng="16200000" swAng="-5400000"/>
                <a:lnTo>
                  <a:pt x="0" y="34006"/>
                </a:lnTo>
                <a:arcTo wR="3600" hR="3600" stAng="10800000" swAng="-5400000"/>
                <a:lnTo>
                  <a:pt x="18000" y="37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 rot="21334800">
            <a:off x="3560400" y="4835520"/>
            <a:ext cx="609480" cy="106848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1068480"/>
              <a:gd name="textAreaBottom" fmla="*/ 1038960 h 1068480"/>
            </a:gdLst>
            <a:ahLst/>
            <a:rect l="textAreaLeft" t="textAreaTop" r="textAreaRight" b="textAreaBottom"/>
            <a:pathLst>
              <a:path w="21600" h="37857">
                <a:moveTo>
                  <a:pt x="3600" y="0"/>
                </a:moveTo>
                <a:arcTo wR="3600" hR="3600" stAng="16200000" swAng="-5400000"/>
                <a:lnTo>
                  <a:pt x="0" y="34257"/>
                </a:lnTo>
                <a:arcTo wR="3600" hR="3600" stAng="10800000" swAng="-5400000"/>
                <a:lnTo>
                  <a:pt x="18000" y="37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7" name=""/>
          <p:cNvGrpSpPr/>
          <p:nvPr/>
        </p:nvGrpSpPr>
        <p:grpSpPr>
          <a:xfrm>
            <a:off x="-152280" y="42840"/>
            <a:ext cx="7467480" cy="10131480"/>
            <a:chOff x="-152280" y="42840"/>
            <a:chExt cx="7467480" cy="10131480"/>
          </a:xfrm>
        </p:grpSpPr>
        <p:grpSp>
          <p:nvGrpSpPr>
            <p:cNvPr id="3338" name=""/>
            <p:cNvGrpSpPr/>
            <p:nvPr/>
          </p:nvGrpSpPr>
          <p:grpSpPr>
            <a:xfrm>
              <a:off x="452520" y="299880"/>
              <a:ext cx="6176880" cy="9134640"/>
              <a:chOff x="452520" y="299880"/>
              <a:chExt cx="6176880" cy="9134640"/>
            </a:xfrm>
          </p:grpSpPr>
          <p:sp>
            <p:nvSpPr>
              <p:cNvPr id="3339" name=""/>
              <p:cNvSpPr/>
              <p:nvPr/>
            </p:nvSpPr>
            <p:spPr>
              <a:xfrm>
                <a:off x="458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1220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1982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2744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3506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4268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5030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5792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6554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 flipH="1">
                <a:off x="452520" y="312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452520" y="1074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H="1">
                <a:off x="452520" y="1836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 flipH="1">
                <a:off x="452520" y="2598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452520" y="3360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 flipH="1">
                <a:off x="452520" y="4122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 flipH="1">
                <a:off x="452520" y="4886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452520" y="5648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 flipH="1">
                <a:off x="452520" y="64101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>
                <a:off x="452520" y="7172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452520" y="7934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 flipH="1">
                <a:off x="452520" y="86976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 flipH="1">
                <a:off x="452520" y="94280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1" name=""/>
            <p:cNvSpPr/>
            <p:nvPr/>
          </p:nvSpPr>
          <p:spPr>
            <a:xfrm>
              <a:off x="838080" y="763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-152280" y="428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7086600" y="6094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4" name=""/>
          <p:cNvGrpSpPr/>
          <p:nvPr/>
        </p:nvGrpSpPr>
        <p:grpSpPr>
          <a:xfrm>
            <a:off x="5638680" y="374760"/>
            <a:ext cx="856080" cy="842040"/>
            <a:chOff x="5638680" y="374760"/>
            <a:chExt cx="856080" cy="842040"/>
          </a:xfrm>
        </p:grpSpPr>
        <p:sp>
          <p:nvSpPr>
            <p:cNvPr id="3365" name=""/>
            <p:cNvSpPr/>
            <p:nvPr/>
          </p:nvSpPr>
          <p:spPr>
            <a:xfrm rot="16200000">
              <a:off x="5684760" y="43956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 rot="16200000">
              <a:off x="5640840" y="669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rot="16200000">
              <a:off x="5926680" y="372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 rot="16200000">
              <a:off x="6220440" y="669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rot="16200000">
              <a:off x="5950440" y="942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H="1">
              <a:off x="5808600" y="830160"/>
              <a:ext cx="4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 flipV="1">
              <a:off x="6113520" y="620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4x8_Fog.b.270" descr=""/>
          <p:cNvPicPr/>
          <p:nvPr/>
        </p:nvPicPr>
        <p:blipFill>
          <a:blip r:embed="rId1">
            <a:grayscl/>
          </a:blip>
          <a:srcRect l="0" t="0" r="0" b="25007"/>
          <a:stretch/>
        </p:blipFill>
        <p:spPr>
          <a:xfrm>
            <a:off x="457200" y="304920"/>
            <a:ext cx="6095880" cy="2286000"/>
          </a:xfrm>
          <a:prstGeom prst="rect">
            <a:avLst/>
          </a:prstGeom>
          <a:ln w="0">
            <a:noFill/>
          </a:ln>
        </p:spPr>
      </p:pic>
      <p:sp>
        <p:nvSpPr>
          <p:cNvPr id="3373" name=""/>
          <p:cNvSpPr/>
          <p:nvPr/>
        </p:nvSpPr>
        <p:spPr>
          <a:xfrm>
            <a:off x="461880" y="304920"/>
            <a:ext cx="60912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2819160" y="9524880"/>
            <a:ext cx="1447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3 [7.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457200" y="9354960"/>
            <a:ext cx="5334120" cy="74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457200" y="7162920"/>
            <a:ext cx="3048120" cy="22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7" name="4x8_Fog.b.270" descr=""/>
          <p:cNvPicPr/>
          <p:nvPr/>
        </p:nvPicPr>
        <p:blipFill>
          <a:blip r:embed="rId2">
            <a:grayscl/>
            <a:lum bright="-16000"/>
          </a:blip>
          <a:srcRect l="0" t="0" r="0" b="25096"/>
          <a:stretch/>
        </p:blipFill>
        <p:spPr>
          <a:xfrm>
            <a:off x="457200" y="2590920"/>
            <a:ext cx="6095880" cy="2282760"/>
          </a:xfrm>
          <a:prstGeom prst="rect">
            <a:avLst/>
          </a:prstGeom>
          <a:ln w="0">
            <a:noFill/>
          </a:ln>
        </p:spPr>
      </p:pic>
      <p:pic>
        <p:nvPicPr>
          <p:cNvPr id="3378" name="4x8_Fog.b.270" descr=""/>
          <p:cNvPicPr/>
          <p:nvPr/>
        </p:nvPicPr>
        <p:blipFill>
          <a:blip r:embed="rId3">
            <a:grayscl/>
            <a:lum bright="-28000"/>
          </a:blip>
          <a:srcRect l="24952" t="0" r="0" b="25096"/>
          <a:stretch/>
        </p:blipFill>
        <p:spPr>
          <a:xfrm>
            <a:off x="1216080" y="4876920"/>
            <a:ext cx="4575240" cy="2282760"/>
          </a:xfrm>
          <a:prstGeom prst="rect">
            <a:avLst/>
          </a:prstGeom>
          <a:ln w="0">
            <a:noFill/>
          </a:ln>
        </p:spPr>
      </p:pic>
      <p:pic>
        <p:nvPicPr>
          <p:cNvPr id="3379" name="4x8_Fog.b.270" descr=""/>
          <p:cNvPicPr/>
          <p:nvPr/>
        </p:nvPicPr>
        <p:blipFill>
          <a:blip r:embed="rId4">
            <a:grayscl/>
            <a:lum bright="-40000"/>
          </a:blip>
          <a:srcRect l="0" t="0" r="0" b="25096"/>
          <a:stretch/>
        </p:blipFill>
        <p:spPr>
          <a:xfrm>
            <a:off x="457200" y="7162920"/>
            <a:ext cx="6095880" cy="2282760"/>
          </a:xfrm>
          <a:prstGeom prst="rect">
            <a:avLst/>
          </a:prstGeom>
          <a:ln w="0">
            <a:noFill/>
          </a:ln>
        </p:spPr>
      </p:pic>
      <p:sp>
        <p:nvSpPr>
          <p:cNvPr id="3380" name=""/>
          <p:cNvSpPr/>
          <p:nvPr/>
        </p:nvSpPr>
        <p:spPr>
          <a:xfrm>
            <a:off x="1219320" y="2590920"/>
            <a:ext cx="44956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1219320" y="4876920"/>
            <a:ext cx="44956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1219320" y="7162920"/>
            <a:ext cx="44956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3" name="4x2_Stairs.a.90" descr=""/>
          <p:cNvPicPr/>
          <p:nvPr/>
        </p:nvPicPr>
        <p:blipFill>
          <a:blip r:embed="rId5">
            <a:grayscl/>
          </a:blip>
          <a:srcRect l="0" t="0" r="0" b="50015"/>
          <a:stretch/>
        </p:blipFill>
        <p:spPr>
          <a:xfrm>
            <a:off x="457200" y="18288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384" name=""/>
          <p:cNvSpPr/>
          <p:nvPr/>
        </p:nvSpPr>
        <p:spPr>
          <a:xfrm rot="10800000">
            <a:off x="2819160" y="2628720"/>
            <a:ext cx="60948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5" name=""/>
          <p:cNvGrpSpPr/>
          <p:nvPr/>
        </p:nvGrpSpPr>
        <p:grpSpPr>
          <a:xfrm>
            <a:off x="1980720" y="2666880"/>
            <a:ext cx="3581280" cy="609840"/>
            <a:chOff x="1980720" y="2666880"/>
            <a:chExt cx="3581280" cy="609840"/>
          </a:xfrm>
        </p:grpSpPr>
        <p:sp>
          <p:nvSpPr>
            <p:cNvPr id="3386" name=""/>
            <p:cNvSpPr/>
            <p:nvPr/>
          </p:nvSpPr>
          <p:spPr>
            <a:xfrm rot="10800000">
              <a:off x="4952520" y="2666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rot="10800000">
              <a:off x="4495320" y="2666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 rot="10800000">
              <a:off x="2437920" y="2666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 rot="10800000">
              <a:off x="3200040" y="2666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rot="10800000">
              <a:off x="1980720" y="2666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rot="10800000">
              <a:off x="4038120" y="2666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 rot="10800000">
              <a:off x="3580920" y="2666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3" name=""/>
          <p:cNvGrpSpPr/>
          <p:nvPr/>
        </p:nvGrpSpPr>
        <p:grpSpPr>
          <a:xfrm>
            <a:off x="2133360" y="4952880"/>
            <a:ext cx="3581280" cy="609840"/>
            <a:chOff x="2133360" y="4952880"/>
            <a:chExt cx="3581280" cy="609840"/>
          </a:xfrm>
        </p:grpSpPr>
        <p:sp>
          <p:nvSpPr>
            <p:cNvPr id="3394" name=""/>
            <p:cNvSpPr/>
            <p:nvPr/>
          </p:nvSpPr>
          <p:spPr>
            <a:xfrm rot="10800000">
              <a:off x="5105160" y="4952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 rot="10800000">
              <a:off x="4647960" y="4952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rot="10800000">
              <a:off x="2590560" y="4952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 rot="10800000">
              <a:off x="3352680" y="4952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 rot="10800000">
              <a:off x="2133360" y="4952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rot="10800000">
              <a:off x="4190760" y="4952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 rot="10800000">
              <a:off x="3733560" y="4952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1" name=""/>
          <p:cNvSpPr/>
          <p:nvPr/>
        </p:nvSpPr>
        <p:spPr>
          <a:xfrm rot="10800000">
            <a:off x="2971440" y="4952880"/>
            <a:ext cx="60948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b2b2b2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2" name=""/>
          <p:cNvGrpSpPr/>
          <p:nvPr/>
        </p:nvGrpSpPr>
        <p:grpSpPr>
          <a:xfrm>
            <a:off x="2133360" y="7238880"/>
            <a:ext cx="3581280" cy="609840"/>
            <a:chOff x="2133360" y="7238880"/>
            <a:chExt cx="3581280" cy="609840"/>
          </a:xfrm>
        </p:grpSpPr>
        <p:sp>
          <p:nvSpPr>
            <p:cNvPr id="3403" name=""/>
            <p:cNvSpPr/>
            <p:nvPr/>
          </p:nvSpPr>
          <p:spPr>
            <a:xfrm rot="10800000">
              <a:off x="5105160" y="7238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rot="10800000">
              <a:off x="4647960" y="7238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rot="10800000">
              <a:off x="2590560" y="7238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 rot="10800000">
              <a:off x="3352680" y="7238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 rot="10800000">
              <a:off x="2133360" y="7238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 rot="10800000">
              <a:off x="4190760" y="7238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 rot="10800000">
              <a:off x="3733560" y="7238880"/>
              <a:ext cx="60948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0" name=""/>
          <p:cNvSpPr/>
          <p:nvPr/>
        </p:nvSpPr>
        <p:spPr>
          <a:xfrm rot="10800000">
            <a:off x="2971440" y="7238880"/>
            <a:ext cx="60948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5f5f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1" name="4x2_Stairs.a.90" descr=""/>
          <p:cNvPicPr/>
          <p:nvPr/>
        </p:nvPicPr>
        <p:blipFill>
          <a:blip r:embed="rId6">
            <a:grayscl/>
            <a:lum bright="-16000"/>
          </a:blip>
          <a:stretch/>
        </p:blipFill>
        <p:spPr>
          <a:xfrm>
            <a:off x="457200" y="4876920"/>
            <a:ext cx="1523880" cy="3047760"/>
          </a:xfrm>
          <a:prstGeom prst="rect">
            <a:avLst/>
          </a:prstGeom>
          <a:ln w="0">
            <a:noFill/>
          </a:ln>
        </p:spPr>
      </p:pic>
      <p:sp>
        <p:nvSpPr>
          <p:cNvPr id="3412" name=""/>
          <p:cNvSpPr/>
          <p:nvPr/>
        </p:nvSpPr>
        <p:spPr>
          <a:xfrm>
            <a:off x="457200" y="9296280"/>
            <a:ext cx="60912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5668920" y="4876920"/>
            <a:ext cx="88416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4" name="1x1_SkullPile.a.0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4952880" y="1828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415" name=""/>
          <p:cNvSpPr/>
          <p:nvPr/>
        </p:nvSpPr>
        <p:spPr>
          <a:xfrm rot="10800000">
            <a:off x="3657240" y="456840"/>
            <a:ext cx="60948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 rot="10800000">
            <a:off x="1981080" y="456840"/>
            <a:ext cx="6098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 rot="10800000">
            <a:off x="3124080" y="456840"/>
            <a:ext cx="6098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 rot="10800000">
            <a:off x="2666880" y="456840"/>
            <a:ext cx="6098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 rot="10800000">
            <a:off x="2209680" y="456840"/>
            <a:ext cx="6098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0" name="2x1_DoubleDoors.a.0" descr=""/>
          <p:cNvPicPr/>
          <p:nvPr/>
        </p:nvPicPr>
        <p:blipFill>
          <a:blip r:embed="rId8">
            <a:grayscl/>
            <a:lum bright="20000"/>
          </a:blip>
          <a:srcRect l="0" t="22432" r="9982" b="17710"/>
          <a:stretch/>
        </p:blipFill>
        <p:spPr>
          <a:xfrm>
            <a:off x="4267080" y="304920"/>
            <a:ext cx="1371600" cy="455400"/>
          </a:xfrm>
          <a:prstGeom prst="rect">
            <a:avLst/>
          </a:prstGeom>
          <a:ln w="0">
            <a:noFill/>
          </a:ln>
        </p:spPr>
      </p:pic>
      <p:pic>
        <p:nvPicPr>
          <p:cNvPr id="3421" name="2x2_Obelisk.a.0" descr=""/>
          <p:cNvPicPr/>
          <p:nvPr/>
        </p:nvPicPr>
        <p:blipFill>
          <a:blip r:embed="rId9">
            <a:grayscl/>
          </a:blip>
          <a:srcRect l="14176" t="13585" r="7088" b="13585"/>
          <a:stretch/>
        </p:blipFill>
        <p:spPr>
          <a:xfrm>
            <a:off x="4343400" y="5715000"/>
            <a:ext cx="1295280" cy="1284120"/>
          </a:xfrm>
          <a:prstGeom prst="rect">
            <a:avLst/>
          </a:prstGeom>
          <a:ln w="0">
            <a:noFill/>
          </a:ln>
        </p:spPr>
      </p:pic>
      <p:sp>
        <p:nvSpPr>
          <p:cNvPr id="3422" name=""/>
          <p:cNvSpPr/>
          <p:nvPr/>
        </p:nvSpPr>
        <p:spPr>
          <a:xfrm>
            <a:off x="5668920" y="304920"/>
            <a:ext cx="884160" cy="3124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3" name="2x1_DoubleDoors.a.270" descr=""/>
          <p:cNvPicPr/>
          <p:nvPr/>
        </p:nvPicPr>
        <p:blipFill>
          <a:blip r:embed="rId10">
            <a:grayscl/>
          </a:blip>
          <a:srcRect l="0" t="0" r="4723" b="0"/>
          <a:stretch/>
        </p:blipFill>
        <p:spPr>
          <a:xfrm>
            <a:off x="5791320" y="3429000"/>
            <a:ext cx="690480" cy="1447920"/>
          </a:xfrm>
          <a:prstGeom prst="rect">
            <a:avLst/>
          </a:prstGeom>
          <a:ln w="0">
            <a:noFill/>
          </a:ln>
        </p:spPr>
      </p:pic>
      <p:grpSp>
        <p:nvGrpSpPr>
          <p:cNvPr id="3424" name=""/>
          <p:cNvGrpSpPr/>
          <p:nvPr/>
        </p:nvGrpSpPr>
        <p:grpSpPr>
          <a:xfrm>
            <a:off x="-152280" y="42840"/>
            <a:ext cx="7467480" cy="10131480"/>
            <a:chOff x="-152280" y="42840"/>
            <a:chExt cx="7467480" cy="10131480"/>
          </a:xfrm>
        </p:grpSpPr>
        <p:grpSp>
          <p:nvGrpSpPr>
            <p:cNvPr id="3425" name=""/>
            <p:cNvGrpSpPr/>
            <p:nvPr/>
          </p:nvGrpSpPr>
          <p:grpSpPr>
            <a:xfrm>
              <a:off x="452520" y="299880"/>
              <a:ext cx="6176880" cy="9134640"/>
              <a:chOff x="452520" y="299880"/>
              <a:chExt cx="6176880" cy="9134640"/>
            </a:xfrm>
          </p:grpSpPr>
          <p:sp>
            <p:nvSpPr>
              <p:cNvPr id="3426" name=""/>
              <p:cNvSpPr/>
              <p:nvPr/>
            </p:nvSpPr>
            <p:spPr>
              <a:xfrm>
                <a:off x="458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1220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1982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2744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3506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4268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030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792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554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 flipH="1">
                <a:off x="452520" y="312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H="1">
                <a:off x="452520" y="1074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 flipH="1">
                <a:off x="452520" y="1836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 flipH="1">
                <a:off x="452520" y="2598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H="1">
                <a:off x="452520" y="3360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H="1">
                <a:off x="452520" y="4122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 flipH="1">
                <a:off x="452520" y="4886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 flipH="1">
                <a:off x="452520" y="5648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 flipH="1">
                <a:off x="452520" y="64101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 flipH="1">
                <a:off x="452520" y="7172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 flipH="1">
                <a:off x="452520" y="7934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 flipH="1">
                <a:off x="452520" y="86976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 flipH="1">
                <a:off x="452520" y="94280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8" name=""/>
            <p:cNvSpPr/>
            <p:nvPr/>
          </p:nvSpPr>
          <p:spPr>
            <a:xfrm>
              <a:off x="838080" y="763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-152280" y="428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7086600" y="6094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51" name="2x1_DoubleDoors.a.270" descr=""/>
          <p:cNvPicPr/>
          <p:nvPr/>
        </p:nvPicPr>
        <p:blipFill>
          <a:blip r:embed="rId11">
            <a:grayscl/>
            <a:lum bright="-20000"/>
          </a:blip>
          <a:srcRect l="0" t="0" r="4723" b="0"/>
          <a:stretch/>
        </p:blipFill>
        <p:spPr>
          <a:xfrm>
            <a:off x="5791320" y="7924680"/>
            <a:ext cx="766800" cy="1447920"/>
          </a:xfrm>
          <a:prstGeom prst="rect">
            <a:avLst/>
          </a:prstGeom>
          <a:ln w="0">
            <a:noFill/>
          </a:ln>
        </p:spPr>
      </p:pic>
      <p:sp>
        <p:nvSpPr>
          <p:cNvPr id="3452" name=""/>
          <p:cNvSpPr/>
          <p:nvPr/>
        </p:nvSpPr>
        <p:spPr>
          <a:xfrm>
            <a:off x="457200" y="304920"/>
            <a:ext cx="15228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3" name="2x1_DoubleDoors.a.0" descr=""/>
          <p:cNvPicPr/>
          <p:nvPr/>
        </p:nvPicPr>
        <p:blipFill>
          <a:blip r:embed="rId12">
            <a:grayscl/>
            <a:lum bright="20000"/>
          </a:blip>
          <a:srcRect l="0" t="22432" r="9982" b="17710"/>
          <a:stretch/>
        </p:blipFill>
        <p:spPr>
          <a:xfrm>
            <a:off x="609480" y="304920"/>
            <a:ext cx="1371600" cy="455400"/>
          </a:xfrm>
          <a:prstGeom prst="rect">
            <a:avLst/>
          </a:prstGeom>
          <a:ln w="0">
            <a:noFill/>
          </a:ln>
        </p:spPr>
      </p:pic>
      <p:grpSp>
        <p:nvGrpSpPr>
          <p:cNvPr id="3454" name=""/>
          <p:cNvGrpSpPr/>
          <p:nvPr/>
        </p:nvGrpSpPr>
        <p:grpSpPr>
          <a:xfrm>
            <a:off x="5709240" y="380880"/>
            <a:ext cx="842040" cy="856080"/>
            <a:chOff x="5709240" y="380880"/>
            <a:chExt cx="842040" cy="856080"/>
          </a:xfrm>
        </p:grpSpPr>
        <p:sp>
          <p:nvSpPr>
            <p:cNvPr id="3455" name=""/>
            <p:cNvSpPr/>
            <p:nvPr/>
          </p:nvSpPr>
          <p:spPr>
            <a:xfrm>
              <a:off x="5724360" y="42696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5982120" y="3808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6279120" y="6667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982120" y="960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5709240" y="690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V="1">
              <a:off x="6095880" y="550800"/>
              <a:ext cx="0" cy="4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924520" y="8557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2" name="8x12_Flor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304920"/>
            <a:ext cx="6103800" cy="9144000"/>
          </a:xfrm>
          <a:prstGeom prst="rect">
            <a:avLst/>
          </a:prstGeom>
          <a:ln w="0">
            <a:noFill/>
          </a:ln>
        </p:spPr>
      </p:pic>
      <p:sp>
        <p:nvSpPr>
          <p:cNvPr id="3463" name=""/>
          <p:cNvSpPr/>
          <p:nvPr/>
        </p:nvSpPr>
        <p:spPr>
          <a:xfrm rot="147000">
            <a:off x="1143000" y="2278080"/>
            <a:ext cx="1828800" cy="251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 rot="21220200">
            <a:off x="1522080" y="5636880"/>
            <a:ext cx="1981080" cy="1393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5" name="1x1_SkullPile.a.0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33520" y="18288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2590560" y="9600840"/>
            <a:ext cx="14475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4 [7.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457200" y="7924680"/>
            <a:ext cx="38098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4267080" y="304920"/>
            <a:ext cx="76212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4267080" y="5562720"/>
            <a:ext cx="76212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457200" y="7162920"/>
            <a:ext cx="380988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457200" y="304920"/>
            <a:ext cx="38098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4597560" y="2590920"/>
            <a:ext cx="2030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4597560" y="2933640"/>
            <a:ext cx="2030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4591080" y="3352680"/>
            <a:ext cx="2030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4591080" y="3695760"/>
            <a:ext cx="2030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4591080" y="4114800"/>
            <a:ext cx="2030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4591080" y="4457880"/>
            <a:ext cx="2030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4597560" y="4915080"/>
            <a:ext cx="2030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4597560" y="5257800"/>
            <a:ext cx="2030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4438800" y="2647800"/>
            <a:ext cx="152280" cy="2819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b2b2b2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1" name="1x1_SkullPile.a.0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3505320" y="64008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3482" name=""/>
          <p:cNvSpPr/>
          <p:nvPr/>
        </p:nvSpPr>
        <p:spPr>
          <a:xfrm>
            <a:off x="461880" y="343080"/>
            <a:ext cx="147600" cy="758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457200" y="304920"/>
            <a:ext cx="3886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6405480" y="304920"/>
            <a:ext cx="147600" cy="910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5105520" y="533520"/>
            <a:ext cx="1295280" cy="228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6" name=""/>
          <p:cNvGrpSpPr/>
          <p:nvPr/>
        </p:nvGrpSpPr>
        <p:grpSpPr>
          <a:xfrm>
            <a:off x="-152280" y="42840"/>
            <a:ext cx="7467480" cy="10131480"/>
            <a:chOff x="-152280" y="42840"/>
            <a:chExt cx="7467480" cy="10131480"/>
          </a:xfrm>
        </p:grpSpPr>
        <p:grpSp>
          <p:nvGrpSpPr>
            <p:cNvPr id="3487" name=""/>
            <p:cNvGrpSpPr/>
            <p:nvPr/>
          </p:nvGrpSpPr>
          <p:grpSpPr>
            <a:xfrm>
              <a:off x="452520" y="299880"/>
              <a:ext cx="6176880" cy="9134640"/>
              <a:chOff x="452520" y="299880"/>
              <a:chExt cx="6176880" cy="9134640"/>
            </a:xfrm>
          </p:grpSpPr>
          <p:sp>
            <p:nvSpPr>
              <p:cNvPr id="3488" name=""/>
              <p:cNvSpPr/>
              <p:nvPr/>
            </p:nvSpPr>
            <p:spPr>
              <a:xfrm>
                <a:off x="458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1220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1982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2744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506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4268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030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792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554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 flipH="1">
                <a:off x="452520" y="312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 flipH="1">
                <a:off x="452520" y="1074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 flipH="1">
                <a:off x="452520" y="1836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flipH="1">
                <a:off x="452520" y="2598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 flipH="1">
                <a:off x="452520" y="3360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flipH="1">
                <a:off x="452520" y="4122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 flipH="1">
                <a:off x="452520" y="4886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H="1">
                <a:off x="452520" y="5648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flipH="1">
                <a:off x="452520" y="64101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flipH="1">
                <a:off x="452520" y="7172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 flipH="1">
                <a:off x="452520" y="7934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flipH="1">
                <a:off x="452520" y="86976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 flipH="1">
                <a:off x="452520" y="94280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0" name=""/>
            <p:cNvSpPr/>
            <p:nvPr/>
          </p:nvSpPr>
          <p:spPr>
            <a:xfrm>
              <a:off x="838080" y="763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-152280" y="428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086600" y="6094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3" name=""/>
          <p:cNvGrpSpPr/>
          <p:nvPr/>
        </p:nvGrpSpPr>
        <p:grpSpPr>
          <a:xfrm>
            <a:off x="457200" y="8680680"/>
            <a:ext cx="855720" cy="842040"/>
            <a:chOff x="457200" y="8680680"/>
            <a:chExt cx="855720" cy="842040"/>
          </a:xfrm>
        </p:grpSpPr>
        <p:sp>
          <p:nvSpPr>
            <p:cNvPr id="3514" name=""/>
            <p:cNvSpPr/>
            <p:nvPr/>
          </p:nvSpPr>
          <p:spPr>
            <a:xfrm rot="16200000">
              <a:off x="502560" y="8745480"/>
              <a:ext cx="76212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rot="16200000">
              <a:off x="459360" y="89755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 rot="16200000">
              <a:off x="744840" y="86785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 rot="16200000">
              <a:off x="1038600" y="89755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 rot="16200000">
              <a:off x="768600" y="92484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 flipH="1">
              <a:off x="626400" y="9136080"/>
              <a:ext cx="47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 flipV="1">
              <a:off x="931680" y="89265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2819160" y="9524880"/>
            <a:ext cx="1447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5 [7.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1219320" y="1066680"/>
            <a:ext cx="761760" cy="457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3" name="4x4_Pit.b.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81080" y="1828800"/>
            <a:ext cx="3048120" cy="3105000"/>
          </a:xfrm>
          <a:prstGeom prst="rect">
            <a:avLst/>
          </a:prstGeom>
          <a:ln w="0">
            <a:noFill/>
          </a:ln>
        </p:spPr>
      </p:pic>
      <p:pic>
        <p:nvPicPr>
          <p:cNvPr id="3524" name="4x2_Crevasse.b.9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743200" y="4876920"/>
            <a:ext cx="1523880" cy="3047760"/>
          </a:xfrm>
          <a:prstGeom prst="rect">
            <a:avLst/>
          </a:prstGeom>
          <a:ln w="0">
            <a:noFill/>
          </a:ln>
        </p:spPr>
      </p:pic>
      <p:sp>
        <p:nvSpPr>
          <p:cNvPr id="3525" name=""/>
          <p:cNvSpPr/>
          <p:nvPr/>
        </p:nvSpPr>
        <p:spPr>
          <a:xfrm>
            <a:off x="4267080" y="4876920"/>
            <a:ext cx="762120" cy="457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1981080" y="4876920"/>
            <a:ext cx="76212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5029200" y="1066680"/>
            <a:ext cx="762120" cy="457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1981080" y="1066680"/>
            <a:ext cx="304812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9" name=""/>
          <p:cNvGrpSpPr/>
          <p:nvPr/>
        </p:nvGrpSpPr>
        <p:grpSpPr>
          <a:xfrm>
            <a:off x="1995120" y="1869840"/>
            <a:ext cx="901440" cy="1499400"/>
            <a:chOff x="1995120" y="1869840"/>
            <a:chExt cx="901440" cy="1499400"/>
          </a:xfrm>
        </p:grpSpPr>
        <p:sp>
          <p:nvSpPr>
            <p:cNvPr id="3530" name=""/>
            <p:cNvSpPr/>
            <p:nvPr/>
          </p:nvSpPr>
          <p:spPr>
            <a:xfrm flipH="1" rot="5722800">
              <a:off x="1754640" y="2279520"/>
              <a:ext cx="1359720" cy="75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 flipH="1" rot="5722800">
              <a:off x="2396520" y="1640160"/>
              <a:ext cx="226080" cy="75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32" name="2x1_Bars.b.270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4267080" y="1828800"/>
            <a:ext cx="723960" cy="1447920"/>
          </a:xfrm>
          <a:prstGeom prst="rect">
            <a:avLst/>
          </a:prstGeom>
          <a:ln w="0">
            <a:noFill/>
          </a:ln>
        </p:spPr>
      </p:pic>
      <p:sp>
        <p:nvSpPr>
          <p:cNvPr id="3533" name=""/>
          <p:cNvSpPr/>
          <p:nvPr/>
        </p:nvSpPr>
        <p:spPr>
          <a:xfrm rot="10800000">
            <a:off x="3657240" y="1981080"/>
            <a:ext cx="1219320" cy="533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4114800" y="2590920"/>
            <a:ext cx="304920" cy="3045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2781360" y="5067360"/>
            <a:ext cx="1447920" cy="228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6" name=""/>
          <p:cNvGrpSpPr/>
          <p:nvPr/>
        </p:nvGrpSpPr>
        <p:grpSpPr>
          <a:xfrm>
            <a:off x="-152280" y="42840"/>
            <a:ext cx="7467480" cy="10131480"/>
            <a:chOff x="-152280" y="42840"/>
            <a:chExt cx="7467480" cy="10131480"/>
          </a:xfrm>
        </p:grpSpPr>
        <p:grpSp>
          <p:nvGrpSpPr>
            <p:cNvPr id="3537" name=""/>
            <p:cNvGrpSpPr/>
            <p:nvPr/>
          </p:nvGrpSpPr>
          <p:grpSpPr>
            <a:xfrm>
              <a:off x="452520" y="299880"/>
              <a:ext cx="6176880" cy="9134640"/>
              <a:chOff x="452520" y="299880"/>
              <a:chExt cx="6176880" cy="9134640"/>
            </a:xfrm>
          </p:grpSpPr>
          <p:sp>
            <p:nvSpPr>
              <p:cNvPr id="3538" name=""/>
              <p:cNvSpPr/>
              <p:nvPr/>
            </p:nvSpPr>
            <p:spPr>
              <a:xfrm>
                <a:off x="458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1220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1982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2744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3506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4268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5030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5792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6554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 flipH="1">
                <a:off x="452520" y="312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 flipH="1">
                <a:off x="452520" y="1074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 flipH="1">
                <a:off x="452520" y="1836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 flipH="1">
                <a:off x="452520" y="2598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 flipH="1">
                <a:off x="452520" y="3360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 flipH="1">
                <a:off x="452520" y="4122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 flipH="1">
                <a:off x="452520" y="4886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 flipH="1">
                <a:off x="452520" y="5648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 flipH="1">
                <a:off x="452520" y="64101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 flipH="1">
                <a:off x="452520" y="7172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 flipH="1">
                <a:off x="452520" y="7934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 flipH="1">
                <a:off x="452520" y="86976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 flipH="1">
                <a:off x="452520" y="94280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0" name=""/>
            <p:cNvSpPr/>
            <p:nvPr/>
          </p:nvSpPr>
          <p:spPr>
            <a:xfrm>
              <a:off x="838080" y="763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-152280" y="428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086600" y="6094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3" name=""/>
          <p:cNvGrpSpPr/>
          <p:nvPr/>
        </p:nvGrpSpPr>
        <p:grpSpPr>
          <a:xfrm>
            <a:off x="380880" y="8604360"/>
            <a:ext cx="856080" cy="842040"/>
            <a:chOff x="380880" y="8604360"/>
            <a:chExt cx="856080" cy="842040"/>
          </a:xfrm>
        </p:grpSpPr>
        <p:sp>
          <p:nvSpPr>
            <p:cNvPr id="3564" name=""/>
            <p:cNvSpPr/>
            <p:nvPr/>
          </p:nvSpPr>
          <p:spPr>
            <a:xfrm rot="16200000">
              <a:off x="426960" y="866916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rot="16200000">
              <a:off x="383040" y="8899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 rot="16200000">
              <a:off x="668880" y="8602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rot="16200000">
              <a:off x="962640" y="8899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 rot="16200000">
              <a:off x="692640" y="9172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 flipH="1">
              <a:off x="550800" y="9059760"/>
              <a:ext cx="4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855720" y="88502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1" name="8x12_Flor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304920"/>
            <a:ext cx="6103800" cy="9144000"/>
          </a:xfrm>
          <a:prstGeom prst="rect">
            <a:avLst/>
          </a:prstGeom>
          <a:ln w="0">
            <a:noFill/>
          </a:ln>
        </p:spPr>
      </p:pic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2819160" y="9524880"/>
            <a:ext cx="1447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6 [7.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2743200" y="304920"/>
            <a:ext cx="3809880" cy="3809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2743200" y="5638680"/>
            <a:ext cx="3809880" cy="3810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457200" y="304920"/>
            <a:ext cx="76212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6572160" y="3200400"/>
            <a:ext cx="2858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3581280" y="6400800"/>
            <a:ext cx="297180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3581280" y="304920"/>
            <a:ext cx="297180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9" name="4x2_Stairs.a.180" descr=""/>
          <p:cNvPicPr/>
          <p:nvPr/>
        </p:nvPicPr>
        <p:blipFill>
          <a:blip r:embed="rId2">
            <a:grayscl/>
          </a:blip>
          <a:srcRect l="0" t="0" r="33333" b="0"/>
          <a:stretch/>
        </p:blipFill>
        <p:spPr>
          <a:xfrm>
            <a:off x="5029200" y="4114800"/>
            <a:ext cx="15238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3580" name=""/>
          <p:cNvGrpSpPr/>
          <p:nvPr/>
        </p:nvGrpSpPr>
        <p:grpSpPr>
          <a:xfrm>
            <a:off x="-152280" y="42840"/>
            <a:ext cx="7467480" cy="10131480"/>
            <a:chOff x="-152280" y="42840"/>
            <a:chExt cx="7467480" cy="10131480"/>
          </a:xfrm>
        </p:grpSpPr>
        <p:grpSp>
          <p:nvGrpSpPr>
            <p:cNvPr id="3581" name=""/>
            <p:cNvGrpSpPr/>
            <p:nvPr/>
          </p:nvGrpSpPr>
          <p:grpSpPr>
            <a:xfrm>
              <a:off x="452520" y="299880"/>
              <a:ext cx="6176880" cy="9134640"/>
              <a:chOff x="452520" y="299880"/>
              <a:chExt cx="6176880" cy="9134640"/>
            </a:xfrm>
          </p:grpSpPr>
          <p:sp>
            <p:nvSpPr>
              <p:cNvPr id="3582" name=""/>
              <p:cNvSpPr/>
              <p:nvPr/>
            </p:nvSpPr>
            <p:spPr>
              <a:xfrm>
                <a:off x="458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1220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1982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2744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3506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4268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5030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792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6554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 flipH="1">
                <a:off x="452520" y="312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 flipH="1">
                <a:off x="452520" y="1074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 flipH="1">
                <a:off x="452520" y="1836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 flipH="1">
                <a:off x="452520" y="2598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 flipH="1">
                <a:off x="452520" y="3360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 flipH="1">
                <a:off x="452520" y="4122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 flipH="1">
                <a:off x="452520" y="4886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 flipH="1">
                <a:off x="452520" y="5648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 flipH="1">
                <a:off x="452520" y="64101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flipH="1">
                <a:off x="452520" y="7172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 flipH="1">
                <a:off x="452520" y="7934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 flipH="1">
                <a:off x="452520" y="86976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 flipH="1">
                <a:off x="452520" y="94280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4" name=""/>
            <p:cNvSpPr/>
            <p:nvPr/>
          </p:nvSpPr>
          <p:spPr>
            <a:xfrm>
              <a:off x="838080" y="763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-152280" y="428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7086600" y="6094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7" name=""/>
          <p:cNvGrpSpPr/>
          <p:nvPr/>
        </p:nvGrpSpPr>
        <p:grpSpPr>
          <a:xfrm>
            <a:off x="5715000" y="298800"/>
            <a:ext cx="855720" cy="842040"/>
            <a:chOff x="5715000" y="298800"/>
            <a:chExt cx="855720" cy="842040"/>
          </a:xfrm>
        </p:grpSpPr>
        <p:sp>
          <p:nvSpPr>
            <p:cNvPr id="3608" name=""/>
            <p:cNvSpPr/>
            <p:nvPr/>
          </p:nvSpPr>
          <p:spPr>
            <a:xfrm rot="16200000">
              <a:off x="5760360" y="363600"/>
              <a:ext cx="76212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 rot="16200000">
              <a:off x="5717160" y="5936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 rot="16200000">
              <a:off x="6002640" y="2966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 rot="16200000">
              <a:off x="6296400" y="5936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 rot="16200000">
              <a:off x="6026400" y="8665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 flipH="1">
              <a:off x="5884200" y="754200"/>
              <a:ext cx="47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V="1">
              <a:off x="6189480" y="5446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5" name="12x1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38120" y="304920"/>
            <a:ext cx="6095880" cy="9144000"/>
          </a:xfrm>
          <a:prstGeom prst="rect">
            <a:avLst/>
          </a:prstGeom>
          <a:ln w="0">
            <a:noFill/>
          </a:ln>
        </p:spPr>
      </p:pic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304920" y="944892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7 ([7.9], 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457200" y="4876920"/>
            <a:ext cx="53352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438120" y="304920"/>
            <a:ext cx="5335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9" name="8x2_Lightning.b.180" descr=""/>
          <p:cNvPicPr/>
          <p:nvPr/>
        </p:nvPicPr>
        <p:blipFill>
          <a:blip r:embed="rId2">
            <a:grayscl/>
            <a:lum bright="-40000"/>
          </a:blip>
          <a:stretch/>
        </p:blipFill>
        <p:spPr>
          <a:xfrm>
            <a:off x="914400" y="5448240"/>
            <a:ext cx="4038480" cy="1143000"/>
          </a:xfrm>
          <a:prstGeom prst="rect">
            <a:avLst/>
          </a:prstGeom>
          <a:ln w="0">
            <a:noFill/>
          </a:ln>
        </p:spPr>
      </p:pic>
      <p:sp>
        <p:nvSpPr>
          <p:cNvPr id="3620" name=""/>
          <p:cNvSpPr/>
          <p:nvPr/>
        </p:nvSpPr>
        <p:spPr>
          <a:xfrm>
            <a:off x="380880" y="9296280"/>
            <a:ext cx="60962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 flipH="1">
            <a:off x="5981760" y="304920"/>
            <a:ext cx="533520" cy="914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457200" y="304920"/>
            <a:ext cx="55627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457200" y="304920"/>
            <a:ext cx="15228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4" name="4x2_Stairs.a.90" descr=""/>
          <p:cNvPicPr/>
          <p:nvPr/>
        </p:nvPicPr>
        <p:blipFill>
          <a:blip r:embed="rId3">
            <a:grayscl/>
            <a:lum bright="-12000"/>
          </a:blip>
          <a:stretch/>
        </p:blipFill>
        <p:spPr>
          <a:xfrm>
            <a:off x="3429000" y="3733920"/>
            <a:ext cx="990720" cy="2286000"/>
          </a:xfrm>
          <a:prstGeom prst="rect">
            <a:avLst/>
          </a:prstGeom>
          <a:ln w="0">
            <a:noFill/>
          </a:ln>
        </p:spPr>
      </p:pic>
      <p:sp>
        <p:nvSpPr>
          <p:cNvPr id="3625" name=""/>
          <p:cNvSpPr/>
          <p:nvPr/>
        </p:nvSpPr>
        <p:spPr>
          <a:xfrm>
            <a:off x="438120" y="8820000"/>
            <a:ext cx="5335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5486400" y="8839080"/>
            <a:ext cx="5335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5486400" y="6553080"/>
            <a:ext cx="5335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5486400" y="7162920"/>
            <a:ext cx="5335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 rot="10974600">
            <a:off x="1546200" y="5189040"/>
            <a:ext cx="1295280" cy="1743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 rot="10974600">
            <a:off x="3143160" y="4380840"/>
            <a:ext cx="1501920" cy="904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 rot="147000">
            <a:off x="4029120" y="7389360"/>
            <a:ext cx="1330200" cy="1752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2" name="2x1_DoubleDoors.a.0" descr=""/>
          <p:cNvPicPr/>
          <p:nvPr/>
        </p:nvPicPr>
        <p:blipFill>
          <a:blip r:embed="rId7">
            <a:grayscl/>
            <a:lum bright="10000"/>
          </a:blip>
          <a:srcRect l="0" t="14286" r="0" b="42857"/>
          <a:stretch/>
        </p:blipFill>
        <p:spPr>
          <a:xfrm>
            <a:off x="2971800" y="304920"/>
            <a:ext cx="1028880" cy="228600"/>
          </a:xfrm>
          <a:prstGeom prst="rect">
            <a:avLst/>
          </a:prstGeom>
          <a:ln w="0">
            <a:noFill/>
          </a:ln>
        </p:spPr>
      </p:pic>
      <p:pic>
        <p:nvPicPr>
          <p:cNvPr id="3633" name="2x1_DoubleDoors.a.270" descr=""/>
          <p:cNvPicPr/>
          <p:nvPr/>
        </p:nvPicPr>
        <p:blipFill>
          <a:blip r:embed="rId8">
            <a:grayscl/>
            <a:lum bright="6000"/>
          </a:blip>
          <a:srcRect l="0" t="0" r="5195" b="0"/>
          <a:stretch/>
        </p:blipFill>
        <p:spPr>
          <a:xfrm>
            <a:off x="5486400" y="7696080"/>
            <a:ext cx="515880" cy="1143000"/>
          </a:xfrm>
          <a:prstGeom prst="rect">
            <a:avLst/>
          </a:prstGeom>
          <a:ln w="0">
            <a:noFill/>
          </a:ln>
        </p:spPr>
      </p:pic>
      <p:pic>
        <p:nvPicPr>
          <p:cNvPr id="3634" name="2x1_SingleDoor.b.0" descr=""/>
          <p:cNvPicPr/>
          <p:nvPr/>
        </p:nvPicPr>
        <p:blipFill>
          <a:blip r:embed="rId9">
            <a:grayscl/>
            <a:lum bright="-40000"/>
          </a:blip>
          <a:stretch/>
        </p:blipFill>
        <p:spPr>
          <a:xfrm>
            <a:off x="5029200" y="4876920"/>
            <a:ext cx="990720" cy="609480"/>
          </a:xfrm>
          <a:prstGeom prst="rect">
            <a:avLst/>
          </a:prstGeom>
          <a:ln w="0">
            <a:noFill/>
          </a:ln>
        </p:spPr>
      </p:pic>
      <p:pic>
        <p:nvPicPr>
          <p:cNvPr id="3635" name="3x3_Flor" descr=""/>
          <p:cNvPicPr/>
          <p:nvPr/>
        </p:nvPicPr>
        <p:blipFill>
          <a:blip r:embed="rId10">
            <a:grayscl/>
            <a:lum bright="-40000"/>
          </a:blip>
          <a:stretch/>
        </p:blipFill>
        <p:spPr>
          <a:xfrm>
            <a:off x="4457880" y="5486400"/>
            <a:ext cx="1562040" cy="1676520"/>
          </a:xfrm>
          <a:prstGeom prst="rect">
            <a:avLst/>
          </a:prstGeom>
          <a:ln w="0">
            <a:noFill/>
          </a:ln>
        </p:spPr>
      </p:pic>
      <p:sp>
        <p:nvSpPr>
          <p:cNvPr id="3636" name=""/>
          <p:cNvSpPr/>
          <p:nvPr/>
        </p:nvSpPr>
        <p:spPr>
          <a:xfrm>
            <a:off x="5029200" y="3049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5524560" y="304920"/>
            <a:ext cx="495360" cy="457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6019920" y="4267080"/>
            <a:ext cx="49536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 rot="16200000">
            <a:off x="5067000" y="1942560"/>
            <a:ext cx="38124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 rot="16200000">
            <a:off x="5067360" y="952560"/>
            <a:ext cx="38088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 rot="16200000">
            <a:off x="5067000" y="1713960"/>
            <a:ext cx="38124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 rot="16200000">
            <a:off x="5067360" y="1181160"/>
            <a:ext cx="38088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 rot="16200000">
            <a:off x="5067360" y="1409760"/>
            <a:ext cx="38088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 rot="15982800">
            <a:off x="1373040" y="2575800"/>
            <a:ext cx="1155960" cy="1158840"/>
          </a:xfrm>
          <a:custGeom>
            <a:avLst/>
            <a:gdLst>
              <a:gd name="textAreaLeft" fmla="*/ 56160 w 1155960"/>
              <a:gd name="textAreaRight" fmla="*/ 1099800 w 1155960"/>
              <a:gd name="textAreaTop" fmla="*/ 56160 h 1158840"/>
              <a:gd name="textAreaBottom" fmla="*/ 1102680 h 1158840"/>
            </a:gdLst>
            <a:ahLst/>
            <a:rect l="textAreaLeft" t="textAreaTop" r="textAreaRight" b="textAreaBottom"/>
            <a:pathLst>
              <a:path w="21600" h="21654">
                <a:moveTo>
                  <a:pt x="3600" y="0"/>
                </a:moveTo>
                <a:arcTo wR="3600" hR="3600" stAng="16200000" swAng="-5400000"/>
                <a:lnTo>
                  <a:pt x="0" y="18054"/>
                </a:lnTo>
                <a:arcTo wR="3600" hR="3600" stAng="10800000" swAng="-5400000"/>
                <a:lnTo>
                  <a:pt x="18000" y="21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5" name=""/>
          <p:cNvGrpSpPr/>
          <p:nvPr/>
        </p:nvGrpSpPr>
        <p:grpSpPr>
          <a:xfrm>
            <a:off x="57240" y="66600"/>
            <a:ext cx="7315200" cy="9435600"/>
            <a:chOff x="57240" y="66600"/>
            <a:chExt cx="7315200" cy="9435600"/>
          </a:xfrm>
        </p:grpSpPr>
        <p:sp>
          <p:nvSpPr>
            <p:cNvPr id="3646" name=""/>
            <p:cNvSpPr/>
            <p:nvPr/>
          </p:nvSpPr>
          <p:spPr>
            <a:xfrm>
              <a:off x="7067520" y="21888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7240" y="44748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59076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9" name=""/>
            <p:cNvGrpSpPr/>
            <p:nvPr/>
          </p:nvGrpSpPr>
          <p:grpSpPr>
            <a:xfrm>
              <a:off x="438120" y="295200"/>
              <a:ext cx="6095880" cy="9153000"/>
              <a:chOff x="438120" y="295200"/>
              <a:chExt cx="6095880" cy="9153000"/>
            </a:xfrm>
          </p:grpSpPr>
          <p:grpSp>
            <p:nvGrpSpPr>
              <p:cNvPr id="3650" name=""/>
              <p:cNvGrpSpPr/>
              <p:nvPr/>
            </p:nvGrpSpPr>
            <p:grpSpPr>
              <a:xfrm>
                <a:off x="4995720" y="299520"/>
                <a:ext cx="1524240" cy="9148680"/>
                <a:chOff x="4995720" y="299520"/>
                <a:chExt cx="1524240" cy="9148680"/>
              </a:xfrm>
            </p:grpSpPr>
            <p:sp>
              <p:nvSpPr>
                <p:cNvPr id="3651" name=""/>
                <p:cNvSpPr/>
                <p:nvPr/>
              </p:nvSpPr>
              <p:spPr>
                <a:xfrm>
                  <a:off x="601488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2" name=""/>
                <p:cNvSpPr/>
                <p:nvPr/>
              </p:nvSpPr>
              <p:spPr>
                <a:xfrm>
                  <a:off x="55008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3" name=""/>
                <p:cNvSpPr/>
                <p:nvPr/>
              </p:nvSpPr>
              <p:spPr>
                <a:xfrm>
                  <a:off x="651996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>
                  <a:off x="49957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5" name=""/>
              <p:cNvGrpSpPr/>
              <p:nvPr/>
            </p:nvGrpSpPr>
            <p:grpSpPr>
              <a:xfrm>
                <a:off x="2967120" y="299520"/>
                <a:ext cx="1523880" cy="9148680"/>
                <a:chOff x="2967120" y="299520"/>
                <a:chExt cx="1523880" cy="9148680"/>
              </a:xfrm>
            </p:grpSpPr>
            <p:sp>
              <p:nvSpPr>
                <p:cNvPr id="3656" name=""/>
                <p:cNvSpPr/>
                <p:nvPr/>
              </p:nvSpPr>
              <p:spPr>
                <a:xfrm>
                  <a:off x="398592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7" name=""/>
                <p:cNvSpPr/>
                <p:nvPr/>
              </p:nvSpPr>
              <p:spPr>
                <a:xfrm>
                  <a:off x="347184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8" name=""/>
                <p:cNvSpPr/>
                <p:nvPr/>
              </p:nvSpPr>
              <p:spPr>
                <a:xfrm>
                  <a:off x="44910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"/>
                <p:cNvSpPr/>
                <p:nvPr/>
              </p:nvSpPr>
              <p:spPr>
                <a:xfrm>
                  <a:off x="29671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0" name=""/>
              <p:cNvGrpSpPr/>
              <p:nvPr/>
            </p:nvGrpSpPr>
            <p:grpSpPr>
              <a:xfrm>
                <a:off x="957240" y="295200"/>
                <a:ext cx="1523880" cy="9147960"/>
                <a:chOff x="957240" y="295200"/>
                <a:chExt cx="1523880" cy="9147960"/>
              </a:xfrm>
            </p:grpSpPr>
            <p:sp>
              <p:nvSpPr>
                <p:cNvPr id="3661" name=""/>
                <p:cNvSpPr/>
                <p:nvPr/>
              </p:nvSpPr>
              <p:spPr>
                <a:xfrm>
                  <a:off x="1976040" y="2995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"/>
                <p:cNvSpPr/>
                <p:nvPr/>
              </p:nvSpPr>
              <p:spPr>
                <a:xfrm>
                  <a:off x="146196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3" name=""/>
                <p:cNvSpPr/>
                <p:nvPr/>
              </p:nvSpPr>
              <p:spPr>
                <a:xfrm>
                  <a:off x="248112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4" name=""/>
                <p:cNvSpPr/>
                <p:nvPr/>
              </p:nvSpPr>
              <p:spPr>
                <a:xfrm>
                  <a:off x="95724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5" name=""/>
              <p:cNvSpPr/>
              <p:nvPr/>
            </p:nvSpPr>
            <p:spPr>
              <a:xfrm>
                <a:off x="438120" y="29952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438120" y="9443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438120" y="7719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438120" y="8286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438120" y="886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438120" y="715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438120" y="5433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438120" y="6000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438120" y="658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438120" y="487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438120" y="3147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438120" y="3714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438120" y="429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438120" y="258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438120" y="861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438120" y="1428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438120" y="200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438120" y="29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83" name=""/>
          <p:cNvGrpSpPr/>
          <p:nvPr/>
        </p:nvGrpSpPr>
        <p:grpSpPr>
          <a:xfrm>
            <a:off x="5562720" y="374760"/>
            <a:ext cx="855720" cy="842040"/>
            <a:chOff x="5562720" y="374760"/>
            <a:chExt cx="855720" cy="842040"/>
          </a:xfrm>
        </p:grpSpPr>
        <p:sp>
          <p:nvSpPr>
            <p:cNvPr id="3684" name=""/>
            <p:cNvSpPr/>
            <p:nvPr/>
          </p:nvSpPr>
          <p:spPr>
            <a:xfrm rot="16200000">
              <a:off x="5608080" y="439560"/>
              <a:ext cx="76212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 rot="16200000">
              <a:off x="5564880" y="669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 rot="16200000">
              <a:off x="5850360" y="372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 rot="16200000">
              <a:off x="6144120" y="669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rot="16200000">
              <a:off x="5874120" y="942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 flipH="1">
              <a:off x="5731920" y="830160"/>
              <a:ext cx="47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 flipV="1">
              <a:off x="6037200" y="620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304920" y="944892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汎用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野外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457200" y="304920"/>
            <a:ext cx="6095880" cy="9144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3" name=""/>
          <p:cNvGrpSpPr/>
          <p:nvPr/>
        </p:nvGrpSpPr>
        <p:grpSpPr>
          <a:xfrm>
            <a:off x="76320" y="76320"/>
            <a:ext cx="7315200" cy="9435600"/>
            <a:chOff x="76320" y="76320"/>
            <a:chExt cx="7315200" cy="9435600"/>
          </a:xfrm>
        </p:grpSpPr>
        <p:sp>
          <p:nvSpPr>
            <p:cNvPr id="3694" name=""/>
            <p:cNvSpPr/>
            <p:nvPr/>
          </p:nvSpPr>
          <p:spPr>
            <a:xfrm>
              <a:off x="7086600" y="22860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6320" y="45720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609840" y="7632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7" name=""/>
            <p:cNvGrpSpPr/>
            <p:nvPr/>
          </p:nvGrpSpPr>
          <p:grpSpPr>
            <a:xfrm>
              <a:off x="457200" y="304920"/>
              <a:ext cx="6095880" cy="9153000"/>
              <a:chOff x="457200" y="304920"/>
              <a:chExt cx="6095880" cy="9153000"/>
            </a:xfrm>
          </p:grpSpPr>
          <p:grpSp>
            <p:nvGrpSpPr>
              <p:cNvPr id="3698" name=""/>
              <p:cNvGrpSpPr/>
              <p:nvPr/>
            </p:nvGrpSpPr>
            <p:grpSpPr>
              <a:xfrm>
                <a:off x="5014800" y="309240"/>
                <a:ext cx="1524240" cy="9148680"/>
                <a:chOff x="5014800" y="309240"/>
                <a:chExt cx="1524240" cy="9148680"/>
              </a:xfrm>
            </p:grpSpPr>
            <p:sp>
              <p:nvSpPr>
                <p:cNvPr id="3699" name=""/>
                <p:cNvSpPr/>
                <p:nvPr/>
              </p:nvSpPr>
              <p:spPr>
                <a:xfrm>
                  <a:off x="6033960" y="3139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0" name=""/>
                <p:cNvSpPr/>
                <p:nvPr/>
              </p:nvSpPr>
              <p:spPr>
                <a:xfrm>
                  <a:off x="5519880" y="30924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1" name=""/>
                <p:cNvSpPr/>
                <p:nvPr/>
              </p:nvSpPr>
              <p:spPr>
                <a:xfrm>
                  <a:off x="6539040" y="30924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2" name=""/>
                <p:cNvSpPr/>
                <p:nvPr/>
              </p:nvSpPr>
              <p:spPr>
                <a:xfrm>
                  <a:off x="5014800" y="30924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3" name=""/>
              <p:cNvGrpSpPr/>
              <p:nvPr/>
            </p:nvGrpSpPr>
            <p:grpSpPr>
              <a:xfrm>
                <a:off x="2986200" y="309240"/>
                <a:ext cx="1523880" cy="9148680"/>
                <a:chOff x="2986200" y="309240"/>
                <a:chExt cx="1523880" cy="9148680"/>
              </a:xfrm>
            </p:grpSpPr>
            <p:sp>
              <p:nvSpPr>
                <p:cNvPr id="3704" name=""/>
                <p:cNvSpPr/>
                <p:nvPr/>
              </p:nvSpPr>
              <p:spPr>
                <a:xfrm>
                  <a:off x="4005000" y="3139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>
                  <a:off x="3490920" y="30924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>
                  <a:off x="4510080" y="30924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"/>
                <p:cNvSpPr/>
                <p:nvPr/>
              </p:nvSpPr>
              <p:spPr>
                <a:xfrm>
                  <a:off x="2986200" y="30924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8" name=""/>
              <p:cNvGrpSpPr/>
              <p:nvPr/>
            </p:nvGrpSpPr>
            <p:grpSpPr>
              <a:xfrm>
                <a:off x="976320" y="304920"/>
                <a:ext cx="1523880" cy="9147960"/>
                <a:chOff x="976320" y="304920"/>
                <a:chExt cx="1523880" cy="9147960"/>
              </a:xfrm>
            </p:grpSpPr>
            <p:sp>
              <p:nvSpPr>
                <p:cNvPr id="3709" name=""/>
                <p:cNvSpPr/>
                <p:nvPr/>
              </p:nvSpPr>
              <p:spPr>
                <a:xfrm>
                  <a:off x="1995120" y="30924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>
                  <a:off x="1481040" y="3049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>
                  <a:off x="2500200" y="3049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"/>
                <p:cNvSpPr/>
                <p:nvPr/>
              </p:nvSpPr>
              <p:spPr>
                <a:xfrm>
                  <a:off x="976320" y="3049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3" name=""/>
              <p:cNvSpPr/>
              <p:nvPr/>
            </p:nvSpPr>
            <p:spPr>
              <a:xfrm>
                <a:off x="457200" y="30924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57200" y="9453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57200" y="772920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57200" y="829620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57200" y="8877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457200" y="7167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57200" y="544320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57200" y="601020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57200" y="6591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57200" y="4881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57200" y="315720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57200" y="372420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57200" y="4305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57200" y="2595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57200" y="87120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57200" y="143820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57200" y="2019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57200" y="309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228600" y="1752480"/>
            <a:ext cx="6248520" cy="7696440"/>
          </a:xfrm>
          <a:prstGeom prst="rect">
            <a:avLst/>
          </a:prstGeom>
          <a:solidFill>
            <a:srgbClr val="f8f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564000" y="6705720"/>
            <a:ext cx="857160" cy="628560"/>
          </a:xfrm>
          <a:custGeom>
            <a:avLst/>
            <a:gdLst/>
            <a:ahLst/>
            <a:rect l="l" t="t" r="r" b="b"/>
            <a:pathLst>
              <a:path w="540" h="396">
                <a:moveTo>
                  <a:pt x="84" y="0"/>
                </a:moveTo>
                <a:lnTo>
                  <a:pt x="102" y="126"/>
                </a:lnTo>
                <a:lnTo>
                  <a:pt x="0" y="246"/>
                </a:lnTo>
                <a:lnTo>
                  <a:pt x="168" y="372"/>
                </a:lnTo>
                <a:lnTo>
                  <a:pt x="330" y="342"/>
                </a:lnTo>
                <a:lnTo>
                  <a:pt x="438" y="396"/>
                </a:lnTo>
                <a:lnTo>
                  <a:pt x="456" y="234"/>
                </a:lnTo>
                <a:lnTo>
                  <a:pt x="540" y="30"/>
                </a:lnTo>
                <a:lnTo>
                  <a:pt x="420" y="0"/>
                </a:lnTo>
                <a:lnTo>
                  <a:pt x="288" y="84"/>
                </a:lnTo>
                <a:lnTo>
                  <a:pt x="84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657600" y="6781680"/>
            <a:ext cx="685800" cy="30492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0" y="192"/>
                </a:moveTo>
                <a:lnTo>
                  <a:pt x="144" y="192"/>
                </a:lnTo>
                <a:lnTo>
                  <a:pt x="240" y="144"/>
                </a:lnTo>
                <a:lnTo>
                  <a:pt x="336" y="144"/>
                </a:lnTo>
                <a:lnTo>
                  <a:pt x="4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86200" y="7086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3809520" y="68576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357960" y="1762200"/>
            <a:ext cx="119160" cy="1104840"/>
          </a:xfrm>
          <a:custGeom>
            <a:avLst/>
            <a:gdLst/>
            <a:ahLst/>
            <a:rect l="l" t="t" r="r" b="b"/>
            <a:pathLst>
              <a:path w="75" h="696">
                <a:moveTo>
                  <a:pt x="33" y="444"/>
                </a:moveTo>
                <a:cubicBezTo>
                  <a:pt x="0" y="401"/>
                  <a:pt x="15" y="293"/>
                  <a:pt x="15" y="234"/>
                </a:cubicBezTo>
                <a:lnTo>
                  <a:pt x="33" y="6"/>
                </a:lnTo>
                <a:lnTo>
                  <a:pt x="75" y="0"/>
                </a:lnTo>
                <a:lnTo>
                  <a:pt x="75" y="696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614760" y="8723160"/>
            <a:ext cx="747720" cy="538200"/>
          </a:xfrm>
          <a:custGeom>
            <a:avLst/>
            <a:gdLst/>
            <a:ahLst/>
            <a:rect l="l" t="t" r="r" b="b"/>
            <a:pathLst>
              <a:path w="471" h="339">
                <a:moveTo>
                  <a:pt x="471" y="55"/>
                </a:moveTo>
                <a:lnTo>
                  <a:pt x="443" y="256"/>
                </a:lnTo>
                <a:cubicBezTo>
                  <a:pt x="374" y="299"/>
                  <a:pt x="118" y="339"/>
                  <a:pt x="59" y="311"/>
                </a:cubicBezTo>
                <a:cubicBezTo>
                  <a:pt x="0" y="283"/>
                  <a:pt x="40" y="143"/>
                  <a:pt x="87" y="91"/>
                </a:cubicBezTo>
                <a:cubicBezTo>
                  <a:pt x="134" y="39"/>
                  <a:pt x="279" y="6"/>
                  <a:pt x="343" y="0"/>
                </a:cubicBezTo>
                <a:lnTo>
                  <a:pt x="471" y="5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905360" y="6762600"/>
            <a:ext cx="468360" cy="1028880"/>
          </a:xfrm>
          <a:custGeom>
            <a:avLst/>
            <a:gdLst/>
            <a:ahLst/>
            <a:rect l="l" t="t" r="r" b="b"/>
            <a:pathLst>
              <a:path w="295" h="648">
                <a:moveTo>
                  <a:pt x="265" y="0"/>
                </a:moveTo>
                <a:lnTo>
                  <a:pt x="295" y="374"/>
                </a:lnTo>
                <a:cubicBezTo>
                  <a:pt x="291" y="469"/>
                  <a:pt x="285" y="527"/>
                  <a:pt x="241" y="570"/>
                </a:cubicBezTo>
                <a:cubicBezTo>
                  <a:pt x="197" y="613"/>
                  <a:pt x="62" y="648"/>
                  <a:pt x="31" y="630"/>
                </a:cubicBezTo>
                <a:cubicBezTo>
                  <a:pt x="0" y="612"/>
                  <a:pt x="37" y="515"/>
                  <a:pt x="55" y="462"/>
                </a:cubicBezTo>
                <a:cubicBezTo>
                  <a:pt x="73" y="409"/>
                  <a:pt x="115" y="375"/>
                  <a:pt x="139" y="312"/>
                </a:cubicBezTo>
                <a:cubicBezTo>
                  <a:pt x="163" y="249"/>
                  <a:pt x="178" y="136"/>
                  <a:pt x="199" y="84"/>
                </a:cubicBezTo>
                <a:cubicBezTo>
                  <a:pt x="220" y="32"/>
                  <a:pt x="251" y="17"/>
                  <a:pt x="265" y="0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68560" y="4876920"/>
            <a:ext cx="1067040" cy="1257120"/>
          </a:xfrm>
          <a:custGeom>
            <a:avLst/>
            <a:gdLst/>
            <a:ahLst/>
            <a:rect l="l" t="t" r="r" b="b"/>
            <a:pathLst>
              <a:path w="732" h="798">
                <a:moveTo>
                  <a:pt x="0" y="174"/>
                </a:moveTo>
                <a:lnTo>
                  <a:pt x="108" y="390"/>
                </a:lnTo>
                <a:lnTo>
                  <a:pt x="66" y="504"/>
                </a:lnTo>
                <a:lnTo>
                  <a:pt x="108" y="672"/>
                </a:lnTo>
                <a:lnTo>
                  <a:pt x="378" y="798"/>
                </a:lnTo>
                <a:lnTo>
                  <a:pt x="540" y="774"/>
                </a:lnTo>
                <a:lnTo>
                  <a:pt x="564" y="654"/>
                </a:lnTo>
                <a:lnTo>
                  <a:pt x="588" y="486"/>
                </a:lnTo>
                <a:lnTo>
                  <a:pt x="732" y="390"/>
                </a:lnTo>
                <a:lnTo>
                  <a:pt x="684" y="246"/>
                </a:lnTo>
                <a:lnTo>
                  <a:pt x="588" y="216"/>
                </a:lnTo>
                <a:lnTo>
                  <a:pt x="300" y="150"/>
                </a:lnTo>
                <a:lnTo>
                  <a:pt x="210" y="0"/>
                </a:lnTo>
                <a:lnTo>
                  <a:pt x="42" y="42"/>
                </a:lnTo>
                <a:lnTo>
                  <a:pt x="0" y="174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406600" y="7616880"/>
            <a:ext cx="1424160" cy="1616040"/>
          </a:xfrm>
          <a:custGeom>
            <a:avLst/>
            <a:gdLst/>
            <a:ahLst/>
            <a:rect l="l" t="t" r="r" b="b"/>
            <a:pathLst>
              <a:path w="897" h="1018">
                <a:moveTo>
                  <a:pt x="717" y="338"/>
                </a:moveTo>
                <a:lnTo>
                  <a:pt x="708" y="776"/>
                </a:lnTo>
                <a:cubicBezTo>
                  <a:pt x="685" y="884"/>
                  <a:pt x="657" y="954"/>
                  <a:pt x="582" y="986"/>
                </a:cubicBezTo>
                <a:cubicBezTo>
                  <a:pt x="507" y="1018"/>
                  <a:pt x="320" y="1016"/>
                  <a:pt x="258" y="968"/>
                </a:cubicBezTo>
                <a:cubicBezTo>
                  <a:pt x="196" y="920"/>
                  <a:pt x="249" y="803"/>
                  <a:pt x="207" y="698"/>
                </a:cubicBezTo>
                <a:cubicBezTo>
                  <a:pt x="165" y="593"/>
                  <a:pt x="6" y="408"/>
                  <a:pt x="3" y="338"/>
                </a:cubicBezTo>
                <a:cubicBezTo>
                  <a:pt x="0" y="268"/>
                  <a:pt x="116" y="299"/>
                  <a:pt x="189" y="278"/>
                </a:cubicBezTo>
                <a:cubicBezTo>
                  <a:pt x="262" y="257"/>
                  <a:pt x="335" y="256"/>
                  <a:pt x="441" y="212"/>
                </a:cubicBezTo>
                <a:cubicBezTo>
                  <a:pt x="547" y="168"/>
                  <a:pt x="753" y="28"/>
                  <a:pt x="825" y="14"/>
                </a:cubicBezTo>
                <a:cubicBezTo>
                  <a:pt x="897" y="0"/>
                  <a:pt x="878" y="96"/>
                  <a:pt x="873" y="126"/>
                </a:cubicBezTo>
                <a:cubicBezTo>
                  <a:pt x="868" y="156"/>
                  <a:pt x="823" y="159"/>
                  <a:pt x="797" y="194"/>
                </a:cubicBezTo>
                <a:lnTo>
                  <a:pt x="717" y="338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39560" y="2362320"/>
            <a:ext cx="6024600" cy="3111480"/>
          </a:xfrm>
          <a:custGeom>
            <a:avLst/>
            <a:gdLst/>
            <a:ahLst/>
            <a:rect l="l" t="t" r="r" b="b"/>
            <a:pathLst>
              <a:path w="3795" h="1960">
                <a:moveTo>
                  <a:pt x="0" y="488"/>
                </a:moveTo>
                <a:lnTo>
                  <a:pt x="288" y="728"/>
                </a:lnTo>
                <a:lnTo>
                  <a:pt x="1104" y="1016"/>
                </a:lnTo>
                <a:lnTo>
                  <a:pt x="816" y="1208"/>
                </a:lnTo>
                <a:lnTo>
                  <a:pt x="864" y="1208"/>
                </a:lnTo>
                <a:lnTo>
                  <a:pt x="1248" y="1064"/>
                </a:lnTo>
                <a:lnTo>
                  <a:pt x="1680" y="1160"/>
                </a:lnTo>
                <a:lnTo>
                  <a:pt x="1824" y="1352"/>
                </a:lnTo>
                <a:lnTo>
                  <a:pt x="1584" y="1688"/>
                </a:lnTo>
                <a:lnTo>
                  <a:pt x="1392" y="1784"/>
                </a:lnTo>
                <a:lnTo>
                  <a:pt x="1632" y="1736"/>
                </a:lnTo>
                <a:lnTo>
                  <a:pt x="1680" y="1640"/>
                </a:lnTo>
                <a:lnTo>
                  <a:pt x="1968" y="1960"/>
                </a:lnTo>
                <a:lnTo>
                  <a:pt x="1720" y="1600"/>
                </a:lnTo>
                <a:lnTo>
                  <a:pt x="2064" y="1304"/>
                </a:lnTo>
                <a:lnTo>
                  <a:pt x="2304" y="1256"/>
                </a:lnTo>
                <a:lnTo>
                  <a:pt x="2688" y="1592"/>
                </a:lnTo>
                <a:lnTo>
                  <a:pt x="2688" y="1784"/>
                </a:lnTo>
                <a:lnTo>
                  <a:pt x="2688" y="1544"/>
                </a:lnTo>
                <a:cubicBezTo>
                  <a:pt x="2720" y="1528"/>
                  <a:pt x="2759" y="1521"/>
                  <a:pt x="2784" y="1496"/>
                </a:cubicBezTo>
                <a:cubicBezTo>
                  <a:pt x="2794" y="1486"/>
                  <a:pt x="2758" y="1489"/>
                  <a:pt x="2744" y="1488"/>
                </a:cubicBezTo>
                <a:cubicBezTo>
                  <a:pt x="2725" y="1486"/>
                  <a:pt x="2707" y="1488"/>
                  <a:pt x="2688" y="1488"/>
                </a:cubicBezTo>
                <a:lnTo>
                  <a:pt x="2592" y="1496"/>
                </a:lnTo>
                <a:lnTo>
                  <a:pt x="2496" y="1256"/>
                </a:lnTo>
                <a:lnTo>
                  <a:pt x="2832" y="1208"/>
                </a:lnTo>
                <a:lnTo>
                  <a:pt x="3360" y="1208"/>
                </a:lnTo>
                <a:lnTo>
                  <a:pt x="3795" y="1280"/>
                </a:lnTo>
                <a:lnTo>
                  <a:pt x="3795" y="1224"/>
                </a:lnTo>
                <a:lnTo>
                  <a:pt x="3264" y="1016"/>
                </a:lnTo>
                <a:lnTo>
                  <a:pt x="2848" y="864"/>
                </a:lnTo>
                <a:lnTo>
                  <a:pt x="2640" y="536"/>
                </a:lnTo>
                <a:lnTo>
                  <a:pt x="2736" y="344"/>
                </a:lnTo>
                <a:lnTo>
                  <a:pt x="3128" y="0"/>
                </a:lnTo>
                <a:lnTo>
                  <a:pt x="2648" y="304"/>
                </a:lnTo>
                <a:lnTo>
                  <a:pt x="2448" y="536"/>
                </a:lnTo>
                <a:lnTo>
                  <a:pt x="2256" y="632"/>
                </a:lnTo>
                <a:lnTo>
                  <a:pt x="1968" y="632"/>
                </a:lnTo>
                <a:lnTo>
                  <a:pt x="1776" y="536"/>
                </a:lnTo>
                <a:lnTo>
                  <a:pt x="1552" y="280"/>
                </a:lnTo>
                <a:lnTo>
                  <a:pt x="1440" y="168"/>
                </a:lnTo>
                <a:lnTo>
                  <a:pt x="1584" y="392"/>
                </a:lnTo>
                <a:lnTo>
                  <a:pt x="1584" y="632"/>
                </a:lnTo>
                <a:lnTo>
                  <a:pt x="1104" y="680"/>
                </a:lnTo>
                <a:lnTo>
                  <a:pt x="720" y="632"/>
                </a:lnTo>
                <a:lnTo>
                  <a:pt x="528" y="680"/>
                </a:lnTo>
                <a:lnTo>
                  <a:pt x="288" y="680"/>
                </a:lnTo>
                <a:lnTo>
                  <a:pt x="0" y="4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87360" y="2832120"/>
            <a:ext cx="4562640" cy="1955880"/>
          </a:xfrm>
          <a:custGeom>
            <a:avLst/>
            <a:gdLst/>
            <a:ahLst/>
            <a:rect l="l" t="t" r="r" b="b"/>
            <a:pathLst>
              <a:path w="2874" h="1232">
                <a:moveTo>
                  <a:pt x="0" y="459"/>
                </a:moveTo>
                <a:lnTo>
                  <a:pt x="698" y="643"/>
                </a:lnTo>
                <a:lnTo>
                  <a:pt x="522" y="792"/>
                </a:lnTo>
                <a:lnTo>
                  <a:pt x="821" y="674"/>
                </a:lnTo>
                <a:lnTo>
                  <a:pt x="1282" y="728"/>
                </a:lnTo>
                <a:lnTo>
                  <a:pt x="1314" y="858"/>
                </a:lnTo>
                <a:lnTo>
                  <a:pt x="1306" y="1016"/>
                </a:lnTo>
                <a:lnTo>
                  <a:pt x="1218" y="1232"/>
                </a:lnTo>
                <a:lnTo>
                  <a:pt x="1442" y="984"/>
                </a:lnTo>
                <a:lnTo>
                  <a:pt x="1530" y="760"/>
                </a:lnTo>
                <a:lnTo>
                  <a:pt x="1730" y="728"/>
                </a:lnTo>
                <a:lnTo>
                  <a:pt x="1898" y="1008"/>
                </a:lnTo>
                <a:lnTo>
                  <a:pt x="1889" y="797"/>
                </a:lnTo>
                <a:lnTo>
                  <a:pt x="2176" y="766"/>
                </a:lnTo>
                <a:lnTo>
                  <a:pt x="2626" y="840"/>
                </a:lnTo>
                <a:lnTo>
                  <a:pt x="2874" y="872"/>
                </a:lnTo>
                <a:lnTo>
                  <a:pt x="2786" y="816"/>
                </a:lnTo>
                <a:lnTo>
                  <a:pt x="2506" y="736"/>
                </a:lnTo>
                <a:lnTo>
                  <a:pt x="2122" y="592"/>
                </a:lnTo>
                <a:lnTo>
                  <a:pt x="2012" y="335"/>
                </a:lnTo>
                <a:lnTo>
                  <a:pt x="2090" y="176"/>
                </a:lnTo>
                <a:lnTo>
                  <a:pt x="2202" y="0"/>
                </a:lnTo>
                <a:lnTo>
                  <a:pt x="2019" y="187"/>
                </a:lnTo>
                <a:lnTo>
                  <a:pt x="1848" y="335"/>
                </a:lnTo>
                <a:lnTo>
                  <a:pt x="1683" y="397"/>
                </a:lnTo>
                <a:lnTo>
                  <a:pt x="1530" y="504"/>
                </a:lnTo>
                <a:lnTo>
                  <a:pt x="1338" y="448"/>
                </a:lnTo>
                <a:lnTo>
                  <a:pt x="1081" y="171"/>
                </a:lnTo>
                <a:lnTo>
                  <a:pt x="1170" y="416"/>
                </a:lnTo>
                <a:lnTo>
                  <a:pt x="1034" y="528"/>
                </a:lnTo>
                <a:lnTo>
                  <a:pt x="770" y="480"/>
                </a:lnTo>
                <a:lnTo>
                  <a:pt x="410" y="480"/>
                </a:lnTo>
                <a:lnTo>
                  <a:pt x="206" y="428"/>
                </a:lnTo>
                <a:lnTo>
                  <a:pt x="0" y="4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353960" y="1752480"/>
            <a:ext cx="3581640" cy="1257480"/>
          </a:xfrm>
          <a:custGeom>
            <a:avLst/>
            <a:gdLst/>
            <a:ahLst/>
            <a:rect l="l" t="t" r="r" b="b"/>
            <a:pathLst>
              <a:path w="2256" h="792">
                <a:moveTo>
                  <a:pt x="0" y="0"/>
                </a:moveTo>
                <a:lnTo>
                  <a:pt x="2256" y="0"/>
                </a:lnTo>
                <a:lnTo>
                  <a:pt x="2256" y="103"/>
                </a:lnTo>
                <a:cubicBezTo>
                  <a:pt x="2166" y="215"/>
                  <a:pt x="1928" y="585"/>
                  <a:pt x="1717" y="672"/>
                </a:cubicBezTo>
                <a:cubicBezTo>
                  <a:pt x="1504" y="750"/>
                  <a:pt x="1160" y="792"/>
                  <a:pt x="992" y="624"/>
                </a:cubicBezTo>
                <a:cubicBezTo>
                  <a:pt x="824" y="456"/>
                  <a:pt x="769" y="654"/>
                  <a:pt x="638" y="620"/>
                </a:cubicBezTo>
                <a:cubicBezTo>
                  <a:pt x="507" y="586"/>
                  <a:pt x="302" y="448"/>
                  <a:pt x="196" y="362"/>
                </a:cubicBezTo>
                <a:cubicBezTo>
                  <a:pt x="90" y="276"/>
                  <a:pt x="33" y="163"/>
                  <a:pt x="0" y="103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80880" y="979164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029200" y="96012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105520" y="9601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124080" y="960120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0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320" y="76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山賊王国周辺における冒険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495320" y="151920"/>
            <a:ext cx="2211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配布資料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011560" y="2819520"/>
            <a:ext cx="76320" cy="75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325520" y="2228760"/>
            <a:ext cx="7632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63600" y="5943600"/>
            <a:ext cx="7596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192400" y="5037120"/>
            <a:ext cx="4255920" cy="4370400"/>
          </a:xfrm>
          <a:custGeom>
            <a:avLst/>
            <a:gdLst/>
            <a:ahLst/>
            <a:rect l="l" t="t" r="r" b="b"/>
            <a:pathLst>
              <a:path w="2681" h="2753">
                <a:moveTo>
                  <a:pt x="2681" y="313"/>
                </a:moveTo>
                <a:cubicBezTo>
                  <a:pt x="2554" y="304"/>
                  <a:pt x="2033" y="0"/>
                  <a:pt x="1920" y="235"/>
                </a:cubicBezTo>
                <a:cubicBezTo>
                  <a:pt x="1836" y="487"/>
                  <a:pt x="2154" y="1473"/>
                  <a:pt x="2004" y="1723"/>
                </a:cubicBezTo>
                <a:cubicBezTo>
                  <a:pt x="1854" y="1973"/>
                  <a:pt x="1198" y="1653"/>
                  <a:pt x="996" y="1807"/>
                </a:cubicBezTo>
                <a:cubicBezTo>
                  <a:pt x="794" y="1961"/>
                  <a:pt x="986" y="2421"/>
                  <a:pt x="816" y="2587"/>
                </a:cubicBezTo>
                <a:cubicBezTo>
                  <a:pt x="646" y="2753"/>
                  <a:pt x="170" y="2701"/>
                  <a:pt x="0" y="2731"/>
                </a:cubicBezTo>
              </a:path>
            </a:pathLst>
          </a:custGeom>
          <a:noFill/>
          <a:ln w="7632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5400000">
            <a:off x="-481320" y="2871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ワームホール男爵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41400" y="7858080"/>
            <a:ext cx="360360" cy="1413000"/>
          </a:xfrm>
          <a:custGeom>
            <a:avLst/>
            <a:gdLst/>
            <a:ahLst/>
            <a:rect l="l" t="t" r="r" b="b"/>
            <a:pathLst>
              <a:path w="227" h="890">
                <a:moveTo>
                  <a:pt x="227" y="0"/>
                </a:moveTo>
                <a:lnTo>
                  <a:pt x="131" y="816"/>
                </a:lnTo>
                <a:lnTo>
                  <a:pt x="0" y="890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42960" y="4400640"/>
            <a:ext cx="2768400" cy="3524040"/>
          </a:xfrm>
          <a:custGeom>
            <a:avLst/>
            <a:gdLst/>
            <a:ahLst/>
            <a:rect l="l" t="t" r="r" b="b"/>
            <a:pathLst>
              <a:path w="1744" h="2220">
                <a:moveTo>
                  <a:pt x="176" y="228"/>
                </a:moveTo>
                <a:lnTo>
                  <a:pt x="592" y="204"/>
                </a:lnTo>
                <a:lnTo>
                  <a:pt x="994" y="0"/>
                </a:lnTo>
                <a:lnTo>
                  <a:pt x="1306" y="84"/>
                </a:lnTo>
                <a:lnTo>
                  <a:pt x="1180" y="486"/>
                </a:lnTo>
                <a:lnTo>
                  <a:pt x="1312" y="636"/>
                </a:lnTo>
                <a:lnTo>
                  <a:pt x="1534" y="642"/>
                </a:lnTo>
                <a:lnTo>
                  <a:pt x="1744" y="1038"/>
                </a:lnTo>
                <a:lnTo>
                  <a:pt x="1222" y="1314"/>
                </a:lnTo>
                <a:lnTo>
                  <a:pt x="1164" y="1708"/>
                </a:lnTo>
                <a:lnTo>
                  <a:pt x="1204" y="1776"/>
                </a:lnTo>
                <a:lnTo>
                  <a:pt x="1148" y="1832"/>
                </a:lnTo>
                <a:lnTo>
                  <a:pt x="1080" y="1804"/>
                </a:lnTo>
                <a:lnTo>
                  <a:pt x="560" y="1940"/>
                </a:lnTo>
                <a:lnTo>
                  <a:pt x="280" y="2220"/>
                </a:lnTo>
                <a:lnTo>
                  <a:pt x="8" y="2132"/>
                </a:lnTo>
                <a:lnTo>
                  <a:pt x="0" y="1716"/>
                </a:lnTo>
                <a:lnTo>
                  <a:pt x="256" y="1516"/>
                </a:lnTo>
                <a:lnTo>
                  <a:pt x="298" y="1362"/>
                </a:lnTo>
                <a:lnTo>
                  <a:pt x="10" y="876"/>
                </a:lnTo>
                <a:lnTo>
                  <a:pt x="154" y="588"/>
                </a:lnTo>
                <a:lnTo>
                  <a:pt x="176" y="228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4236600">
            <a:off x="-437760" y="851184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シールドラン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430280" y="3282840"/>
            <a:ext cx="7632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411360" y="3200400"/>
            <a:ext cx="7632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506600" y="5562720"/>
            <a:ext cx="366480" cy="457200"/>
          </a:xfrm>
          <a:prstGeom prst="irregularSeal1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900600" y="2876400"/>
            <a:ext cx="1911240" cy="4991400"/>
          </a:xfrm>
          <a:custGeom>
            <a:avLst/>
            <a:gdLst/>
            <a:ahLst/>
            <a:rect l="l" t="t" r="r" b="b"/>
            <a:pathLst>
              <a:path w="1204" h="3144">
                <a:moveTo>
                  <a:pt x="0" y="3056"/>
                </a:moveTo>
                <a:lnTo>
                  <a:pt x="106" y="3060"/>
                </a:lnTo>
                <a:lnTo>
                  <a:pt x="424" y="3102"/>
                </a:lnTo>
                <a:lnTo>
                  <a:pt x="658" y="3126"/>
                </a:lnTo>
                <a:lnTo>
                  <a:pt x="862" y="3084"/>
                </a:lnTo>
                <a:lnTo>
                  <a:pt x="969" y="3144"/>
                </a:lnTo>
                <a:cubicBezTo>
                  <a:pt x="995" y="3115"/>
                  <a:pt x="1002" y="3012"/>
                  <a:pt x="1017" y="2910"/>
                </a:cubicBezTo>
                <a:cubicBezTo>
                  <a:pt x="1025" y="2836"/>
                  <a:pt x="1069" y="2634"/>
                  <a:pt x="1059" y="2532"/>
                </a:cubicBezTo>
                <a:cubicBezTo>
                  <a:pt x="1049" y="2430"/>
                  <a:pt x="985" y="2445"/>
                  <a:pt x="957" y="2298"/>
                </a:cubicBezTo>
                <a:cubicBezTo>
                  <a:pt x="929" y="2151"/>
                  <a:pt x="872" y="1786"/>
                  <a:pt x="891" y="1650"/>
                </a:cubicBezTo>
                <a:cubicBezTo>
                  <a:pt x="891" y="1506"/>
                  <a:pt x="1042" y="1603"/>
                  <a:pt x="1071" y="1482"/>
                </a:cubicBezTo>
                <a:lnTo>
                  <a:pt x="1114" y="918"/>
                </a:lnTo>
                <a:lnTo>
                  <a:pt x="1204" y="690"/>
                </a:lnTo>
                <a:lnTo>
                  <a:pt x="1072" y="606"/>
                </a:lnTo>
                <a:lnTo>
                  <a:pt x="736" y="0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411360" y="7877160"/>
            <a:ext cx="1998720" cy="1571760"/>
          </a:xfrm>
          <a:custGeom>
            <a:avLst/>
            <a:gdLst/>
            <a:ahLst/>
            <a:rect l="l" t="t" r="r" b="b"/>
            <a:pathLst>
              <a:path w="1259" h="990">
                <a:moveTo>
                  <a:pt x="1259" y="0"/>
                </a:moveTo>
                <a:cubicBezTo>
                  <a:pt x="1227" y="17"/>
                  <a:pt x="1175" y="60"/>
                  <a:pt x="1067" y="102"/>
                </a:cubicBezTo>
                <a:cubicBezTo>
                  <a:pt x="980" y="143"/>
                  <a:pt x="938" y="290"/>
                  <a:pt x="864" y="414"/>
                </a:cubicBezTo>
                <a:cubicBezTo>
                  <a:pt x="790" y="538"/>
                  <a:pt x="768" y="750"/>
                  <a:pt x="624" y="846"/>
                </a:cubicBezTo>
                <a:cubicBezTo>
                  <a:pt x="480" y="942"/>
                  <a:pt x="130" y="960"/>
                  <a:pt x="0" y="990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36880" y="7689960"/>
            <a:ext cx="76320" cy="75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73680" y="3962520"/>
            <a:ext cx="62712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181480" y="1523880"/>
            <a:ext cx="152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34120" y="14097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道・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181480" y="1228680"/>
            <a:ext cx="152640" cy="152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181480" y="1028880"/>
            <a:ext cx="152640" cy="152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181480" y="847800"/>
            <a:ext cx="152640" cy="152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4120" y="609480"/>
            <a:ext cx="9144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山岳・荒れ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湿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川・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森林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1480" y="614520"/>
            <a:ext cx="152640" cy="152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116080" y="8381880"/>
            <a:ext cx="833400" cy="851040"/>
          </a:xfrm>
          <a:custGeom>
            <a:avLst/>
            <a:gdLst/>
            <a:ahLst/>
            <a:rect l="l" t="t" r="r" b="b"/>
            <a:pathLst>
              <a:path w="525" h="536">
                <a:moveTo>
                  <a:pt x="525" y="126"/>
                </a:moveTo>
                <a:lnTo>
                  <a:pt x="507" y="294"/>
                </a:lnTo>
                <a:cubicBezTo>
                  <a:pt x="483" y="357"/>
                  <a:pt x="456" y="472"/>
                  <a:pt x="381" y="504"/>
                </a:cubicBezTo>
                <a:cubicBezTo>
                  <a:pt x="306" y="536"/>
                  <a:pt x="114" y="531"/>
                  <a:pt x="57" y="486"/>
                </a:cubicBezTo>
                <a:cubicBezTo>
                  <a:pt x="0" y="441"/>
                  <a:pt x="38" y="297"/>
                  <a:pt x="39" y="234"/>
                </a:cubicBezTo>
                <a:cubicBezTo>
                  <a:pt x="40" y="171"/>
                  <a:pt x="42" y="147"/>
                  <a:pt x="63" y="108"/>
                </a:cubicBezTo>
                <a:cubicBezTo>
                  <a:pt x="84" y="69"/>
                  <a:pt x="102" y="14"/>
                  <a:pt x="165" y="0"/>
                </a:cubicBezTo>
                <a:lnTo>
                  <a:pt x="441" y="24"/>
                </a:lnTo>
                <a:lnTo>
                  <a:pt x="525" y="126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96760" y="7529400"/>
            <a:ext cx="1001880" cy="776520"/>
          </a:xfrm>
          <a:custGeom>
            <a:avLst/>
            <a:gdLst/>
            <a:ahLst/>
            <a:rect l="l" t="t" r="r" b="b"/>
            <a:pathLst>
              <a:path w="631" h="489">
                <a:moveTo>
                  <a:pt x="631" y="276"/>
                </a:moveTo>
                <a:lnTo>
                  <a:pt x="628" y="384"/>
                </a:lnTo>
                <a:cubicBezTo>
                  <a:pt x="580" y="419"/>
                  <a:pt x="439" y="483"/>
                  <a:pt x="343" y="486"/>
                </a:cubicBezTo>
                <a:cubicBezTo>
                  <a:pt x="247" y="489"/>
                  <a:pt x="98" y="434"/>
                  <a:pt x="49" y="402"/>
                </a:cubicBezTo>
                <a:cubicBezTo>
                  <a:pt x="0" y="370"/>
                  <a:pt x="27" y="328"/>
                  <a:pt x="49" y="294"/>
                </a:cubicBezTo>
                <a:cubicBezTo>
                  <a:pt x="71" y="260"/>
                  <a:pt x="121" y="247"/>
                  <a:pt x="184" y="198"/>
                </a:cubicBezTo>
                <a:cubicBezTo>
                  <a:pt x="247" y="149"/>
                  <a:pt x="364" y="14"/>
                  <a:pt x="427" y="0"/>
                </a:cubicBezTo>
                <a:lnTo>
                  <a:pt x="562" y="114"/>
                </a:lnTo>
                <a:lnTo>
                  <a:pt x="631" y="276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735200" y="4572000"/>
            <a:ext cx="533160" cy="1066680"/>
          </a:xfrm>
          <a:custGeom>
            <a:avLst/>
            <a:gdLst/>
            <a:ahLst/>
            <a:rect l="l" t="t" r="r" b="b"/>
            <a:pathLst>
              <a:path w="336" h="672">
                <a:moveTo>
                  <a:pt x="0" y="672"/>
                </a:moveTo>
                <a:lnTo>
                  <a:pt x="192" y="528"/>
                </a:lnTo>
                <a:lnTo>
                  <a:pt x="96" y="336"/>
                </a:lnTo>
                <a:lnTo>
                  <a:pt x="336" y="96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2268360" y="46479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049400" y="487692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288" y="432"/>
                </a:moveTo>
                <a:lnTo>
                  <a:pt x="144" y="336"/>
                </a:lnTo>
                <a:lnTo>
                  <a:pt x="144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 flipV="1">
            <a:off x="972720" y="5333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20800" y="57913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0"/>
                </a:moveTo>
                <a:lnTo>
                  <a:pt x="192" y="144"/>
                </a:lnTo>
                <a:lnTo>
                  <a:pt x="384" y="48"/>
                </a:lnTo>
                <a:lnTo>
                  <a:pt x="432" y="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1049040" y="6095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963800" y="5867280"/>
            <a:ext cx="1295280" cy="152640"/>
          </a:xfrm>
          <a:custGeom>
            <a:avLst/>
            <a:gdLst/>
            <a:ahLst/>
            <a:rect l="l" t="t" r="r" b="b"/>
            <a:pathLst>
              <a:path w="816" h="96">
                <a:moveTo>
                  <a:pt x="0" y="0"/>
                </a:moveTo>
                <a:lnTo>
                  <a:pt x="288" y="48"/>
                </a:lnTo>
                <a:lnTo>
                  <a:pt x="528" y="0"/>
                </a:lnTo>
                <a:lnTo>
                  <a:pt x="816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2801880" y="5486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735200" y="6019920"/>
            <a:ext cx="685800" cy="114300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0" y="0"/>
                </a:moveTo>
                <a:lnTo>
                  <a:pt x="48" y="432"/>
                </a:lnTo>
                <a:lnTo>
                  <a:pt x="144" y="576"/>
                </a:lnTo>
                <a:lnTo>
                  <a:pt x="432" y="7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16080" y="6324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30280" y="6502320"/>
            <a:ext cx="152280" cy="507960"/>
          </a:xfrm>
          <a:custGeom>
            <a:avLst/>
            <a:gdLst/>
            <a:ahLst/>
            <a:rect l="l" t="t" r="r" b="b"/>
            <a:pathLst>
              <a:path w="96" h="320">
                <a:moveTo>
                  <a:pt x="37" y="0"/>
                </a:moveTo>
                <a:lnTo>
                  <a:pt x="0" y="219"/>
                </a:lnTo>
                <a:lnTo>
                  <a:pt x="96" y="3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01680" y="6095880"/>
            <a:ext cx="228600" cy="53352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lnTo>
                  <a:pt x="144" y="192"/>
                </a:lnTo>
                <a:lnTo>
                  <a:pt x="48" y="336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44480" y="7162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192" y="144"/>
                </a:moveTo>
                <a:lnTo>
                  <a:pt x="1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973080" y="7315200"/>
            <a:ext cx="76320" cy="533520"/>
          </a:xfrm>
          <a:custGeom>
            <a:avLst/>
            <a:gdLst/>
            <a:ahLst/>
            <a:rect l="l" t="t" r="r" b="b"/>
            <a:pathLst>
              <a:path w="48" h="336">
                <a:moveTo>
                  <a:pt x="48" y="0"/>
                </a:moveTo>
                <a:lnTo>
                  <a:pt x="0" y="192"/>
                </a:lnTo>
                <a:lnTo>
                  <a:pt x="48" y="336"/>
                </a:lnTo>
                <a:lnTo>
                  <a:pt x="48" y="288"/>
                </a:lnTo>
                <a:lnTo>
                  <a:pt x="48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49400" y="7238880"/>
            <a:ext cx="380880" cy="7632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48"/>
                </a:moveTo>
                <a:lnTo>
                  <a:pt x="144" y="0"/>
                </a:lnTo>
                <a:lnTo>
                  <a:pt x="240" y="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1049400" y="685764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116080" y="5334120"/>
            <a:ext cx="457200" cy="152280"/>
          </a:xfrm>
          <a:custGeom>
            <a:avLst/>
            <a:gdLst/>
            <a:ahLst/>
            <a:rect l="l" t="t" r="r" b="b"/>
            <a:pathLst>
              <a:path w="288" h="96">
                <a:moveTo>
                  <a:pt x="0" y="96"/>
                </a:moveTo>
                <a:lnTo>
                  <a:pt x="96" y="96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35000" y="5975280"/>
            <a:ext cx="1066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ターザ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廃墟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049400" y="5997600"/>
            <a:ext cx="13716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白羽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活火山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41200" y="5994360"/>
            <a:ext cx="114480" cy="25560"/>
          </a:xfrm>
          <a:custGeom>
            <a:avLst/>
            <a:gdLst/>
            <a:ahLst/>
            <a:rect l="l" t="t" r="r" b="b"/>
            <a:pathLst>
              <a:path w="72" h="16">
                <a:moveTo>
                  <a:pt x="72" y="0"/>
                </a:moveTo>
                <a:lnTo>
                  <a:pt x="0" y="16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0160" bIns="-20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620720" y="6781680"/>
            <a:ext cx="825480" cy="1314720"/>
          </a:xfrm>
          <a:custGeom>
            <a:avLst/>
            <a:gdLst/>
            <a:ahLst/>
            <a:rect l="l" t="t" r="r" b="b"/>
            <a:pathLst>
              <a:path w="520" h="828">
                <a:moveTo>
                  <a:pt x="24" y="0"/>
                </a:moveTo>
                <a:cubicBezTo>
                  <a:pt x="48" y="48"/>
                  <a:pt x="72" y="96"/>
                  <a:pt x="72" y="144"/>
                </a:cubicBezTo>
                <a:cubicBezTo>
                  <a:pt x="72" y="192"/>
                  <a:pt x="0" y="224"/>
                  <a:pt x="24" y="288"/>
                </a:cubicBezTo>
                <a:cubicBezTo>
                  <a:pt x="48" y="352"/>
                  <a:pt x="152" y="467"/>
                  <a:pt x="216" y="528"/>
                </a:cubicBezTo>
                <a:cubicBezTo>
                  <a:pt x="280" y="589"/>
                  <a:pt x="371" y="616"/>
                  <a:pt x="408" y="652"/>
                </a:cubicBezTo>
                <a:cubicBezTo>
                  <a:pt x="445" y="688"/>
                  <a:pt x="417" y="715"/>
                  <a:pt x="436" y="744"/>
                </a:cubicBezTo>
                <a:cubicBezTo>
                  <a:pt x="455" y="773"/>
                  <a:pt x="503" y="811"/>
                  <a:pt x="520" y="828"/>
                </a:cubicBezTo>
              </a:path>
            </a:pathLst>
          </a:custGeom>
          <a:noFill/>
          <a:ln w="1908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68360" y="5410080"/>
            <a:ext cx="1320840" cy="1079640"/>
          </a:xfrm>
          <a:custGeom>
            <a:avLst/>
            <a:gdLst/>
            <a:ahLst/>
            <a:rect l="l" t="t" r="r" b="b"/>
            <a:pathLst>
              <a:path w="832" h="680">
                <a:moveTo>
                  <a:pt x="0" y="432"/>
                </a:moveTo>
                <a:cubicBezTo>
                  <a:pt x="64" y="436"/>
                  <a:pt x="128" y="440"/>
                  <a:pt x="192" y="480"/>
                </a:cubicBezTo>
                <a:cubicBezTo>
                  <a:pt x="256" y="520"/>
                  <a:pt x="288" y="680"/>
                  <a:pt x="384" y="672"/>
                </a:cubicBezTo>
                <a:cubicBezTo>
                  <a:pt x="480" y="664"/>
                  <a:pt x="704" y="496"/>
                  <a:pt x="768" y="432"/>
                </a:cubicBezTo>
                <a:cubicBezTo>
                  <a:pt x="832" y="368"/>
                  <a:pt x="760" y="328"/>
                  <a:pt x="768" y="288"/>
                </a:cubicBezTo>
                <a:cubicBezTo>
                  <a:pt x="776" y="248"/>
                  <a:pt x="816" y="240"/>
                  <a:pt x="816" y="192"/>
                </a:cubicBezTo>
                <a:cubicBezTo>
                  <a:pt x="816" y="144"/>
                  <a:pt x="792" y="72"/>
                  <a:pt x="768" y="0"/>
                </a:cubicBezTo>
              </a:path>
            </a:pathLst>
          </a:custGeom>
          <a:noFill/>
          <a:ln w="1908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430280" y="4191120"/>
            <a:ext cx="380880" cy="914400"/>
          </a:xfrm>
          <a:custGeom>
            <a:avLst/>
            <a:gdLst/>
            <a:ahLst/>
            <a:rect l="l" t="t" r="r" b="b"/>
            <a:pathLst>
              <a:path w="240" h="576">
                <a:moveTo>
                  <a:pt x="144" y="576"/>
                </a:moveTo>
                <a:cubicBezTo>
                  <a:pt x="108" y="504"/>
                  <a:pt x="72" y="432"/>
                  <a:pt x="48" y="384"/>
                </a:cubicBezTo>
                <a:cubicBezTo>
                  <a:pt x="24" y="336"/>
                  <a:pt x="0" y="336"/>
                  <a:pt x="0" y="288"/>
                </a:cubicBezTo>
                <a:cubicBezTo>
                  <a:pt x="0" y="240"/>
                  <a:pt x="16" y="128"/>
                  <a:pt x="48" y="96"/>
                </a:cubicBezTo>
                <a:cubicBezTo>
                  <a:pt x="80" y="64"/>
                  <a:pt x="160" y="112"/>
                  <a:pt x="192" y="96"/>
                </a:cubicBezTo>
                <a:cubicBezTo>
                  <a:pt x="224" y="80"/>
                  <a:pt x="232" y="40"/>
                  <a:pt x="240" y="0"/>
                </a:cubicBezTo>
              </a:path>
            </a:pathLst>
          </a:custGeom>
          <a:noFill/>
          <a:ln w="1908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87880" y="1785960"/>
            <a:ext cx="434880" cy="1033560"/>
          </a:xfrm>
          <a:custGeom>
            <a:avLst/>
            <a:gdLst/>
            <a:ahLst/>
            <a:rect l="l" t="t" r="r" b="b"/>
            <a:pathLst>
              <a:path w="274" h="651">
                <a:moveTo>
                  <a:pt x="274" y="0"/>
                </a:moveTo>
                <a:lnTo>
                  <a:pt x="274" y="411"/>
                </a:lnTo>
                <a:lnTo>
                  <a:pt x="0" y="651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054760" y="15908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ルークルース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rot="16200000">
            <a:off x="5924880" y="5463720"/>
            <a:ext cx="122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ジェドブリッ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052720" y="6566040"/>
            <a:ext cx="1697040" cy="1073160"/>
          </a:xfrm>
          <a:custGeom>
            <a:avLst/>
            <a:gdLst/>
            <a:ahLst/>
            <a:rect l="l" t="t" r="r" b="b"/>
            <a:pathLst>
              <a:path w="1069" h="676">
                <a:moveTo>
                  <a:pt x="0" y="0"/>
                </a:moveTo>
                <a:cubicBezTo>
                  <a:pt x="16" y="19"/>
                  <a:pt x="40" y="87"/>
                  <a:pt x="96" y="112"/>
                </a:cubicBezTo>
                <a:cubicBezTo>
                  <a:pt x="152" y="137"/>
                  <a:pt x="275" y="124"/>
                  <a:pt x="336" y="152"/>
                </a:cubicBezTo>
                <a:cubicBezTo>
                  <a:pt x="397" y="180"/>
                  <a:pt x="391" y="235"/>
                  <a:pt x="460" y="280"/>
                </a:cubicBezTo>
                <a:cubicBezTo>
                  <a:pt x="529" y="325"/>
                  <a:pt x="675" y="394"/>
                  <a:pt x="752" y="420"/>
                </a:cubicBezTo>
                <a:cubicBezTo>
                  <a:pt x="829" y="446"/>
                  <a:pt x="875" y="405"/>
                  <a:pt x="924" y="436"/>
                </a:cubicBezTo>
                <a:cubicBezTo>
                  <a:pt x="973" y="467"/>
                  <a:pt x="1027" y="564"/>
                  <a:pt x="1048" y="604"/>
                </a:cubicBezTo>
                <a:cubicBezTo>
                  <a:pt x="1069" y="644"/>
                  <a:pt x="1051" y="661"/>
                  <a:pt x="1052" y="676"/>
                </a:cubicBezTo>
              </a:path>
            </a:pathLst>
          </a:custGeom>
          <a:noFill/>
          <a:ln w="1908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6360" y="1752480"/>
            <a:ext cx="3549600" cy="6348600"/>
          </a:xfrm>
          <a:custGeom>
            <a:avLst/>
            <a:gdLst/>
            <a:ahLst/>
            <a:rect l="l" t="t" r="r" b="b"/>
            <a:pathLst>
              <a:path w="2236" h="3999">
                <a:moveTo>
                  <a:pt x="2236" y="3748"/>
                </a:moveTo>
                <a:cubicBezTo>
                  <a:pt x="2180" y="3720"/>
                  <a:pt x="2199" y="3673"/>
                  <a:pt x="2164" y="3664"/>
                </a:cubicBezTo>
                <a:cubicBezTo>
                  <a:pt x="2068" y="3636"/>
                  <a:pt x="1544" y="3999"/>
                  <a:pt x="1228" y="3864"/>
                </a:cubicBezTo>
                <a:cubicBezTo>
                  <a:pt x="876" y="3696"/>
                  <a:pt x="540" y="3024"/>
                  <a:pt x="270" y="2856"/>
                </a:cubicBezTo>
                <a:cubicBezTo>
                  <a:pt x="0" y="2688"/>
                  <a:pt x="74" y="2552"/>
                  <a:pt x="102" y="2328"/>
                </a:cubicBezTo>
                <a:cubicBezTo>
                  <a:pt x="130" y="2104"/>
                  <a:pt x="378" y="1740"/>
                  <a:pt x="438" y="1512"/>
                </a:cubicBezTo>
                <a:lnTo>
                  <a:pt x="460" y="960"/>
                </a:lnTo>
                <a:lnTo>
                  <a:pt x="648" y="324"/>
                </a:lnTo>
                <a:lnTo>
                  <a:pt x="468" y="0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228600" y="1752480"/>
            <a:ext cx="6227280" cy="7696080"/>
            <a:chOff x="228600" y="1752480"/>
            <a:chExt cx="6227280" cy="7696080"/>
          </a:xfrm>
        </p:grpSpPr>
        <p:grpSp>
          <p:nvGrpSpPr>
            <p:cNvPr id="897" name=""/>
            <p:cNvGrpSpPr/>
            <p:nvPr/>
          </p:nvGrpSpPr>
          <p:grpSpPr>
            <a:xfrm>
              <a:off x="228600" y="1752480"/>
              <a:ext cx="6227280" cy="7349040"/>
              <a:chOff x="228600" y="1752480"/>
              <a:chExt cx="6227280" cy="7349040"/>
            </a:xfrm>
          </p:grpSpPr>
          <p:sp>
            <p:nvSpPr>
              <p:cNvPr id="898" name=""/>
              <p:cNvSpPr/>
              <p:nvPr/>
            </p:nvSpPr>
            <p:spPr>
              <a:xfrm>
                <a:off x="2237400" y="21006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437920" y="244224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237400" y="278892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437920" y="175248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437920" y="313092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237400" y="3472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237400" y="41634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437920" y="450972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237400" y="485208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437920" y="3821040"/>
                <a:ext cx="19944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437920" y="520020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237400" y="55418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37080" y="21006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036520" y="24422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837080" y="278892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036520" y="175248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036520" y="3130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837080" y="3472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837080" y="41634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036520" y="45097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837080" y="485208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036520" y="382104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036520" y="520020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837080" y="55418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436760" y="21006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636200" y="24422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436760" y="278892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36200" y="175248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636200" y="3130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436760" y="3472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436760" y="41634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636200" y="45097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436760" y="485208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636200" y="382104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636200" y="520020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436760" y="55418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035000" y="21006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235880" y="244224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035000" y="278892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235880" y="175248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235880" y="313092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035000" y="347292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035000" y="41634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235880" y="450972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035000" y="485208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235880" y="3821040"/>
                <a:ext cx="194400" cy="45864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35880" y="520020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035000" y="554184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28560" y="21006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35560" y="2442240"/>
                <a:ext cx="193320" cy="45828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28560" y="278892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35560" y="1752480"/>
                <a:ext cx="193320" cy="45972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835560" y="3130920"/>
                <a:ext cx="19332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28560" y="3472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28560" y="41634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835560" y="4509720"/>
                <a:ext cx="19332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28560" y="485208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35560" y="3821040"/>
                <a:ext cx="193320" cy="45864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35560" y="5200200"/>
                <a:ext cx="19332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28560" y="55418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21006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29480" y="24422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28600" y="278892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29480" y="175248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9480" y="3130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3472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28600" y="41634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29480" y="45097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28600" y="485208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29480" y="3821040"/>
                <a:ext cx="19908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29480" y="520020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28600" y="55418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646160" y="21006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853520" y="2442240"/>
                <a:ext cx="192960" cy="45828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646160" y="278892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853520" y="1752480"/>
                <a:ext cx="192960" cy="45972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853520" y="313092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646160" y="3472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646160" y="41634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853520" y="450972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646160" y="485208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853520" y="3821040"/>
                <a:ext cx="192960" cy="45864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853520" y="520020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646160" y="55418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246200" y="21006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447080" y="24422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246200" y="278892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447080" y="175248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447080" y="3130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246200" y="3472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246200" y="41634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447080" y="45097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246200" y="485208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447080" y="3821040"/>
                <a:ext cx="19908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447080" y="520020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246200" y="55418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845880" y="210060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045320" y="24422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845880" y="278892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045320" y="175248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045320" y="3130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845880" y="347292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845880" y="416340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045320" y="45097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845880" y="485208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045320" y="3821040"/>
                <a:ext cx="20052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045320" y="520020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845880" y="554184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445560" y="210060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645000" y="24422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445560" y="278892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645000" y="175248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645000" y="3130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445560" y="347292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445560" y="416340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645000" y="45097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445560" y="485208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645000" y="3821040"/>
                <a:ext cx="20052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645000" y="520020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445560" y="554184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043800" y="21006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245040" y="24422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043800" y="278892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245040" y="175248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245040" y="3130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43800" y="347292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043800" y="41634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245040" y="45097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043800" y="485208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45040" y="3821040"/>
                <a:ext cx="20052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45040" y="520020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43800" y="554184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637720" y="21006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844720" y="2442240"/>
                <a:ext cx="192960" cy="45828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637720" y="278892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844720" y="1752480"/>
                <a:ext cx="192960" cy="45972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844720" y="313092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637720" y="3472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637720" y="41634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844720" y="450972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637720" y="485208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44720" y="3821040"/>
                <a:ext cx="192960" cy="45864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4720" y="520020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637720" y="55418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255000" y="21006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255000" y="278892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255000" y="3472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255000" y="41634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255000" y="485208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255000" y="55418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854680" y="21006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054120" y="24422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854680" y="278892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054120" y="175248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054120" y="3130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854680" y="3472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54680" y="41634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054120" y="45097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854680" y="485208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054120" y="382104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054120" y="520020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854680" y="55418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453280" y="21006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653800" y="24422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53280" y="278892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653800" y="175248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653800" y="3130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53280" y="3472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53280" y="41634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653800" y="45097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53280" y="485208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653800" y="382104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653800" y="520020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53280" y="55418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052960" y="21006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253840" y="24422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52960" y="278892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253840" y="175248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253840" y="3130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052960" y="347292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052960" y="41634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253840" y="45097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052960" y="485208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253840" y="3821040"/>
                <a:ext cx="19908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253840" y="520020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052960" y="554184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237400" y="62305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437920" y="65786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237400" y="69206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437920" y="588888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437920" y="7268760"/>
                <a:ext cx="19944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2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7400" y="76093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237400" y="829980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437920" y="86414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437920" y="7957440"/>
                <a:ext cx="199440" cy="453960"/>
              </a:xfrm>
              <a:custGeom>
                <a:avLst/>
                <a:gdLst/>
                <a:ahLst/>
                <a:rect l="l" t="t" r="r" b="b"/>
                <a:pathLst>
                  <a:path w="130" h="296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6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837080" y="62305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036520" y="65786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37080" y="69206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036520" y="588888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036520" y="726876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2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1837080" y="760968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837080" y="8299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036520" y="8641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36520" y="795780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36760" y="623088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636200" y="6579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36760" y="69210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636200" y="5888880"/>
              <a:ext cx="20088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636200" y="72691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436760" y="760968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36760" y="8299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36200" y="8641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36200" y="795780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035000" y="62308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35880" y="65790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035000" y="69210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235880" y="5888880"/>
              <a:ext cx="194400" cy="45972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235880" y="726912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035000" y="76096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35000" y="82998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235880" y="86418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235880" y="7957800"/>
              <a:ext cx="194400" cy="453960"/>
            </a:xfrm>
            <a:custGeom>
              <a:avLst/>
              <a:gdLst/>
              <a:ahLst/>
              <a:rect l="l" t="t" r="r" b="b"/>
              <a:pathLst>
                <a:path w="127" h="296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28560" y="62308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35560" y="6579000"/>
              <a:ext cx="19332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28560" y="6921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35560" y="5888880"/>
              <a:ext cx="193320" cy="45972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35560" y="7269120"/>
              <a:ext cx="19332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28560" y="76096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28560" y="8299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35560" y="8641800"/>
              <a:ext cx="19332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35560" y="7957800"/>
              <a:ext cx="193320" cy="45396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28600" y="62308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9480" y="65790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28600" y="6921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29480" y="5888880"/>
              <a:ext cx="199080" cy="45972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9480" y="72691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28600" y="76096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28600" y="8299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29480" y="8641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9480" y="7957800"/>
              <a:ext cx="199080" cy="45396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646160" y="62308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853520" y="657900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46160" y="6921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53520" y="5888880"/>
              <a:ext cx="192960" cy="45972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853520" y="7269120"/>
              <a:ext cx="19296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46160" y="76096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646160" y="8299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853520" y="864180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853520" y="7957800"/>
              <a:ext cx="192960" cy="45396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246200" y="62308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47080" y="65790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246200" y="6921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47080" y="5888880"/>
              <a:ext cx="199080" cy="45972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447080" y="72691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46200" y="76096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46200" y="8299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447080" y="8641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447080" y="7957800"/>
              <a:ext cx="199080" cy="45396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45880" y="623088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045320" y="6579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45880" y="692100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045320" y="5888880"/>
              <a:ext cx="20052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45320" y="72691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45880" y="760968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45880" y="829980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45320" y="8641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045320" y="7957800"/>
              <a:ext cx="20052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445560" y="623088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645000" y="6579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445560" y="692100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645000" y="5888880"/>
              <a:ext cx="20052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45000" y="72691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445560" y="760968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445560" y="829980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645000" y="8641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45000" y="7957800"/>
              <a:ext cx="20052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043800" y="62308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245040" y="6579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43800" y="69210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245040" y="5888880"/>
              <a:ext cx="20052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245040" y="72691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043800" y="76096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043800" y="82998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45040" y="8641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245040" y="7957800"/>
              <a:ext cx="20052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637720" y="62308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844720" y="657900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637720" y="6921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844720" y="5888880"/>
              <a:ext cx="192960" cy="45972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844720" y="7269120"/>
              <a:ext cx="19296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637720" y="76096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637720" y="8299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844720" y="864180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844720" y="7957800"/>
              <a:ext cx="192960" cy="45396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255000" y="62308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255000" y="6921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255000" y="76096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255000" y="8299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54680" y="623088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054120" y="6579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854680" y="69210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054120" y="5888880"/>
              <a:ext cx="20088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054120" y="72691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854680" y="760968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854680" y="8299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054120" y="8641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054120" y="795780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53280" y="62308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653800" y="6579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453280" y="6921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653800" y="5888880"/>
              <a:ext cx="20088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653800" y="72691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453280" y="76096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453280" y="8299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653800" y="8641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653800" y="795780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052960" y="62308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53840" y="65790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052960" y="69210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53840" y="5888880"/>
              <a:ext cx="199080" cy="45972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53840" y="72691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052960" y="76096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052960" y="82998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53840" y="8641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53840" y="7957800"/>
              <a:ext cx="199080" cy="45396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237400" y="89899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837080" y="89899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436760" y="89899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035000" y="898992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28560" y="89899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28600" y="89899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646160" y="89899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246200" y="89899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845880" y="8989920"/>
              <a:ext cx="19944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445560" y="8989920"/>
              <a:ext cx="19944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043800" y="898992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637720" y="89899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255000" y="89899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54680" y="89899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453280" y="89899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52960" y="898992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" name=""/>
          <p:cNvSpPr/>
          <p:nvPr/>
        </p:nvSpPr>
        <p:spPr>
          <a:xfrm>
            <a:off x="2163600" y="7842240"/>
            <a:ext cx="7632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200400" y="6262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山賊王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433840" y="7867800"/>
            <a:ext cx="1071720" cy="1009440"/>
          </a:xfrm>
          <a:custGeom>
            <a:avLst/>
            <a:gdLst/>
            <a:ahLst/>
            <a:rect l="l" t="t" r="r" b="b"/>
            <a:pathLst>
              <a:path w="675" h="636">
                <a:moveTo>
                  <a:pt x="675" y="594"/>
                </a:moveTo>
                <a:lnTo>
                  <a:pt x="513" y="636"/>
                </a:lnTo>
                <a:cubicBezTo>
                  <a:pt x="458" y="636"/>
                  <a:pt x="384" y="633"/>
                  <a:pt x="345" y="594"/>
                </a:cubicBezTo>
                <a:cubicBezTo>
                  <a:pt x="306" y="555"/>
                  <a:pt x="329" y="490"/>
                  <a:pt x="279" y="402"/>
                </a:cubicBezTo>
                <a:cubicBezTo>
                  <a:pt x="229" y="314"/>
                  <a:pt x="90" y="132"/>
                  <a:pt x="45" y="66"/>
                </a:cubicBezTo>
                <a:cubicBezTo>
                  <a:pt x="0" y="0"/>
                  <a:pt x="16" y="18"/>
                  <a:pt x="9" y="6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219720" y="8839080"/>
            <a:ext cx="7632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rot="19690200">
            <a:off x="4070880" y="84783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ーンスト伯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392800" y="7848720"/>
            <a:ext cx="75960" cy="75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5029200"/>
            <a:ext cx="752400" cy="476280"/>
          </a:xfrm>
          <a:custGeom>
            <a:avLst/>
            <a:gdLst/>
            <a:ahLst/>
            <a:rect l="l" t="t" r="r" b="b"/>
            <a:pathLst>
              <a:path w="474" h="300">
                <a:moveTo>
                  <a:pt x="0" y="0"/>
                </a:moveTo>
                <a:lnTo>
                  <a:pt x="96" y="48"/>
                </a:lnTo>
                <a:lnTo>
                  <a:pt x="144" y="240"/>
                </a:lnTo>
                <a:lnTo>
                  <a:pt x="264" y="300"/>
                </a:lnTo>
                <a:lnTo>
                  <a:pt x="390" y="240"/>
                </a:lnTo>
                <a:lnTo>
                  <a:pt x="474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343400" y="5505480"/>
            <a:ext cx="152280" cy="438120"/>
          </a:xfrm>
          <a:custGeom>
            <a:avLst/>
            <a:gdLst/>
            <a:ahLst/>
            <a:rect l="l" t="t" r="r" b="b"/>
            <a:pathLst>
              <a:path w="96" h="276">
                <a:moveTo>
                  <a:pt x="96" y="276"/>
                </a:moveTo>
                <a:lnTo>
                  <a:pt x="0" y="132"/>
                </a:lnTo>
                <a:lnTo>
                  <a:pt x="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4191120" y="57146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545080" y="3809880"/>
            <a:ext cx="7632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021200" y="4419720"/>
            <a:ext cx="75960" cy="75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935600" y="4343400"/>
            <a:ext cx="7596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233880" y="3675240"/>
            <a:ext cx="95724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リフト峡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087880" y="36576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アリング城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602240" y="2927520"/>
            <a:ext cx="16761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リフトクレイ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000,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gp, 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973080" y="2241720"/>
            <a:ext cx="1981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ハロー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40,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0gp, C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rot="16200000">
            <a:off x="6021000" y="37324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ストイン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125360" y="306216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アリング城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954160" y="29718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アリング城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54360" y="43434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アリング城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64000" y="45100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アリング城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649600" y="1981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ングル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297080" y="92678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オーハスタ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097080" y="93916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ラディカス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648320" y="8915400"/>
            <a:ext cx="1981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ディディルー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00,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gp, N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506600" y="7924680"/>
            <a:ext cx="1981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ボーマン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00,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00gp, C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rot="15634800">
            <a:off x="4387680" y="62622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ートンサメイ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24080" y="7238880"/>
            <a:ext cx="1981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レッシ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600,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gp, C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630680" y="7908840"/>
            <a:ext cx="1981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カポーナ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900,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5000gp, 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2743200" y="9600840"/>
            <a:ext cx="14479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汎用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452520" y="304920"/>
            <a:ext cx="6100560" cy="914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3" name=""/>
          <p:cNvGrpSpPr/>
          <p:nvPr/>
        </p:nvGrpSpPr>
        <p:grpSpPr>
          <a:xfrm>
            <a:off x="-171360" y="28440"/>
            <a:ext cx="7467480" cy="10131480"/>
            <a:chOff x="-171360" y="28440"/>
            <a:chExt cx="7467480" cy="10131480"/>
          </a:xfrm>
        </p:grpSpPr>
        <p:grpSp>
          <p:nvGrpSpPr>
            <p:cNvPr id="3734" name=""/>
            <p:cNvGrpSpPr/>
            <p:nvPr/>
          </p:nvGrpSpPr>
          <p:grpSpPr>
            <a:xfrm>
              <a:off x="433440" y="285480"/>
              <a:ext cx="6176880" cy="9134640"/>
              <a:chOff x="433440" y="285480"/>
              <a:chExt cx="6176880" cy="9134640"/>
            </a:xfrm>
          </p:grpSpPr>
          <p:sp>
            <p:nvSpPr>
              <p:cNvPr id="3735" name=""/>
              <p:cNvSpPr/>
              <p:nvPr/>
            </p:nvSpPr>
            <p:spPr>
              <a:xfrm>
                <a:off x="439560" y="2854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120168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196380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2725560" y="2854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48768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24980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011560" y="2854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77368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653580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 flipH="1">
                <a:off x="433440" y="2980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flipH="1">
                <a:off x="433440" y="10602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 flipH="1">
                <a:off x="433440" y="18223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 flipH="1">
                <a:off x="433440" y="25840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 flipH="1">
                <a:off x="433440" y="33462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>
                <a:off x="433440" y="41083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 flipH="1">
                <a:off x="433440" y="48718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 flipH="1">
                <a:off x="433440" y="56336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flipH="1">
                <a:off x="433440" y="63957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 flipH="1">
                <a:off x="433440" y="71578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 flipH="1">
                <a:off x="433440" y="79196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flipH="1">
                <a:off x="433440" y="86832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 flipH="1">
                <a:off x="433440" y="94136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7" name=""/>
            <p:cNvSpPr/>
            <p:nvPr/>
          </p:nvSpPr>
          <p:spPr>
            <a:xfrm>
              <a:off x="819000" y="619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-171360" y="284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7067520" y="5950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152280" y="3200400"/>
            <a:ext cx="6477120" cy="6248520"/>
          </a:xfrm>
          <a:prstGeom prst="rect">
            <a:avLst/>
          </a:prstGeom>
          <a:solidFill>
            <a:srgbClr val="f8f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80880" y="4194000"/>
            <a:ext cx="871560" cy="1312920"/>
          </a:xfrm>
          <a:custGeom>
            <a:avLst/>
            <a:gdLst/>
            <a:ahLst/>
            <a:rect l="l" t="t" r="r" b="b"/>
            <a:pathLst>
              <a:path w="549" h="827">
                <a:moveTo>
                  <a:pt x="5" y="101"/>
                </a:moveTo>
                <a:cubicBezTo>
                  <a:pt x="133" y="0"/>
                  <a:pt x="331" y="26"/>
                  <a:pt x="416" y="37"/>
                </a:cubicBezTo>
                <a:cubicBezTo>
                  <a:pt x="501" y="48"/>
                  <a:pt x="549" y="97"/>
                  <a:pt x="517" y="165"/>
                </a:cubicBezTo>
                <a:cubicBezTo>
                  <a:pt x="485" y="233"/>
                  <a:pt x="277" y="348"/>
                  <a:pt x="224" y="448"/>
                </a:cubicBezTo>
                <a:cubicBezTo>
                  <a:pt x="171" y="548"/>
                  <a:pt x="229" y="709"/>
                  <a:pt x="197" y="768"/>
                </a:cubicBezTo>
                <a:cubicBezTo>
                  <a:pt x="165" y="827"/>
                  <a:pt x="133" y="805"/>
                  <a:pt x="32" y="805"/>
                </a:cubicBezTo>
                <a:cubicBezTo>
                  <a:pt x="0" y="694"/>
                  <a:pt x="11" y="248"/>
                  <a:pt x="5" y="101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46040" y="7000920"/>
            <a:ext cx="6195960" cy="2330280"/>
          </a:xfrm>
          <a:custGeom>
            <a:avLst/>
            <a:gdLst/>
            <a:ahLst/>
            <a:rect l="l" t="t" r="r" b="b"/>
            <a:pathLst>
              <a:path w="3903" h="1468">
                <a:moveTo>
                  <a:pt x="57" y="998"/>
                </a:moveTo>
                <a:cubicBezTo>
                  <a:pt x="307" y="815"/>
                  <a:pt x="775" y="654"/>
                  <a:pt x="1118" y="587"/>
                </a:cubicBezTo>
                <a:cubicBezTo>
                  <a:pt x="1462" y="520"/>
                  <a:pt x="1816" y="621"/>
                  <a:pt x="2117" y="597"/>
                </a:cubicBezTo>
                <a:cubicBezTo>
                  <a:pt x="2419" y="573"/>
                  <a:pt x="2631" y="536"/>
                  <a:pt x="2929" y="442"/>
                </a:cubicBezTo>
                <a:cubicBezTo>
                  <a:pt x="3227" y="348"/>
                  <a:pt x="3742" y="0"/>
                  <a:pt x="3903" y="30"/>
                </a:cubicBezTo>
                <a:cubicBezTo>
                  <a:pt x="3903" y="222"/>
                  <a:pt x="3903" y="510"/>
                  <a:pt x="3895" y="622"/>
                </a:cubicBezTo>
                <a:cubicBezTo>
                  <a:pt x="3529" y="558"/>
                  <a:pt x="3298" y="901"/>
                  <a:pt x="2991" y="981"/>
                </a:cubicBezTo>
                <a:cubicBezTo>
                  <a:pt x="2684" y="1061"/>
                  <a:pt x="2361" y="1079"/>
                  <a:pt x="2055" y="1099"/>
                </a:cubicBezTo>
                <a:cubicBezTo>
                  <a:pt x="1749" y="1119"/>
                  <a:pt x="1496" y="1040"/>
                  <a:pt x="1154" y="1099"/>
                </a:cubicBezTo>
                <a:cubicBezTo>
                  <a:pt x="812" y="1158"/>
                  <a:pt x="182" y="1468"/>
                  <a:pt x="0" y="1451"/>
                </a:cubicBezTo>
                <a:cubicBezTo>
                  <a:pt x="0" y="1195"/>
                  <a:pt x="57" y="1309"/>
                  <a:pt x="57" y="998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80880" y="5310360"/>
            <a:ext cx="1650960" cy="4138560"/>
          </a:xfrm>
          <a:custGeom>
            <a:avLst/>
            <a:gdLst/>
            <a:ahLst/>
            <a:rect l="l" t="t" r="r" b="b"/>
            <a:pathLst>
              <a:path w="1040" h="2607">
                <a:moveTo>
                  <a:pt x="185" y="2607"/>
                </a:moveTo>
                <a:cubicBezTo>
                  <a:pt x="185" y="2314"/>
                  <a:pt x="558" y="2313"/>
                  <a:pt x="661" y="2196"/>
                </a:cubicBezTo>
                <a:cubicBezTo>
                  <a:pt x="764" y="2079"/>
                  <a:pt x="739" y="1985"/>
                  <a:pt x="800" y="1906"/>
                </a:cubicBezTo>
                <a:cubicBezTo>
                  <a:pt x="861" y="1827"/>
                  <a:pt x="1040" y="1784"/>
                  <a:pt x="1029" y="1720"/>
                </a:cubicBezTo>
                <a:cubicBezTo>
                  <a:pt x="1018" y="1656"/>
                  <a:pt x="821" y="1653"/>
                  <a:pt x="736" y="1519"/>
                </a:cubicBezTo>
                <a:cubicBezTo>
                  <a:pt x="651" y="1385"/>
                  <a:pt x="580" y="1097"/>
                  <a:pt x="517" y="916"/>
                </a:cubicBezTo>
                <a:cubicBezTo>
                  <a:pt x="454" y="735"/>
                  <a:pt x="361" y="576"/>
                  <a:pt x="361" y="431"/>
                </a:cubicBezTo>
                <a:cubicBezTo>
                  <a:pt x="361" y="286"/>
                  <a:pt x="534" y="94"/>
                  <a:pt x="517" y="47"/>
                </a:cubicBezTo>
                <a:cubicBezTo>
                  <a:pt x="500" y="0"/>
                  <a:pt x="346" y="43"/>
                  <a:pt x="261" y="148"/>
                </a:cubicBezTo>
                <a:cubicBezTo>
                  <a:pt x="176" y="253"/>
                  <a:pt x="69" y="266"/>
                  <a:pt x="10" y="676"/>
                </a:cubicBezTo>
                <a:cubicBezTo>
                  <a:pt x="10" y="1391"/>
                  <a:pt x="32" y="1914"/>
                  <a:pt x="0" y="2598"/>
                </a:cubicBezTo>
                <a:cubicBezTo>
                  <a:pt x="389" y="2594"/>
                  <a:pt x="29" y="2595"/>
                  <a:pt x="185" y="2607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27240" y="3340080"/>
            <a:ext cx="2830680" cy="1960560"/>
          </a:xfrm>
          <a:custGeom>
            <a:avLst/>
            <a:gdLst/>
            <a:ahLst/>
            <a:rect l="l" t="t" r="r" b="b"/>
            <a:pathLst>
              <a:path w="1580" h="1076">
                <a:moveTo>
                  <a:pt x="1484" y="1064"/>
                </a:moveTo>
                <a:cubicBezTo>
                  <a:pt x="1430" y="1076"/>
                  <a:pt x="1361" y="930"/>
                  <a:pt x="1292" y="872"/>
                </a:cubicBezTo>
                <a:cubicBezTo>
                  <a:pt x="1223" y="814"/>
                  <a:pt x="1136" y="763"/>
                  <a:pt x="1072" y="716"/>
                </a:cubicBezTo>
                <a:cubicBezTo>
                  <a:pt x="1008" y="669"/>
                  <a:pt x="983" y="626"/>
                  <a:pt x="908" y="588"/>
                </a:cubicBezTo>
                <a:cubicBezTo>
                  <a:pt x="833" y="550"/>
                  <a:pt x="752" y="537"/>
                  <a:pt x="624" y="488"/>
                </a:cubicBezTo>
                <a:cubicBezTo>
                  <a:pt x="496" y="439"/>
                  <a:pt x="227" y="371"/>
                  <a:pt x="140" y="296"/>
                </a:cubicBezTo>
                <a:cubicBezTo>
                  <a:pt x="53" y="221"/>
                  <a:pt x="0" y="80"/>
                  <a:pt x="103" y="40"/>
                </a:cubicBezTo>
                <a:cubicBezTo>
                  <a:pt x="206" y="0"/>
                  <a:pt x="574" y="22"/>
                  <a:pt x="757" y="54"/>
                </a:cubicBezTo>
                <a:cubicBezTo>
                  <a:pt x="940" y="86"/>
                  <a:pt x="1111" y="160"/>
                  <a:pt x="1200" y="232"/>
                </a:cubicBezTo>
                <a:cubicBezTo>
                  <a:pt x="1289" y="304"/>
                  <a:pt x="1234" y="377"/>
                  <a:pt x="1292" y="488"/>
                </a:cubicBezTo>
                <a:cubicBezTo>
                  <a:pt x="1350" y="599"/>
                  <a:pt x="1516" y="803"/>
                  <a:pt x="1548" y="899"/>
                </a:cubicBezTo>
                <a:cubicBezTo>
                  <a:pt x="1580" y="995"/>
                  <a:pt x="1497" y="1030"/>
                  <a:pt x="1484" y="1064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04760" y="20952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レッシュ周辺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所属：山賊王国 レイフー都市連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伝統的権力中枢：山賊王ヴーン（バーバリアン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怪物的権力中枢：夜に町をさまようデーモ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：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,600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ゲーム中の取引上限価格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3,000g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レッシュの主な組織：主な所属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警備兵：警備兵長ジェイキン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ウォリアー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アイウーズ駐留軍：グルックス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ター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レイフー商工組合：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盗賊結社：詳細不明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魔術ギルド：ギルド長ホロン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ウィザー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アイウーズ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嘘と苦痛の邪神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神殿：司祭ンヤダク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レリック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オリダマラ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酒と盗賊の神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神殿：酔いどれナイルシー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レリック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ファラングン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旅の神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社：巡回司祭のカリム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レリック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その他：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宿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amp;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酒場“かがり火と煙”亭：店主ヘイゼ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エキスパー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酒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amp;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賭場 “歌う杯”亭 ：亭主グランネ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バー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雑貨屋“ペリカン屋”：店主ジェンナ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エキスパー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“バリディン鍛冶工房”：バリディン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モナー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：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：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562720" y="57913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カポーナ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52800" y="2286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レッシュ周辺における冒険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380520" y="9601200"/>
            <a:ext cx="58294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57200" y="95248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191120" y="9524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 ft(=900m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351320" y="8070840"/>
            <a:ext cx="2176560" cy="1319400"/>
          </a:xfrm>
          <a:custGeom>
            <a:avLst/>
            <a:gdLst/>
            <a:ahLst/>
            <a:rect l="l" t="t" r="r" b="b"/>
            <a:pathLst>
              <a:path w="1371" h="831">
                <a:moveTo>
                  <a:pt x="548" y="566"/>
                </a:moveTo>
                <a:cubicBezTo>
                  <a:pt x="629" y="501"/>
                  <a:pt x="471" y="395"/>
                  <a:pt x="576" y="310"/>
                </a:cubicBezTo>
                <a:cubicBezTo>
                  <a:pt x="681" y="225"/>
                  <a:pt x="1051" y="101"/>
                  <a:pt x="1179" y="54"/>
                </a:cubicBezTo>
                <a:cubicBezTo>
                  <a:pt x="1307" y="7"/>
                  <a:pt x="1317" y="0"/>
                  <a:pt x="1344" y="27"/>
                </a:cubicBezTo>
                <a:cubicBezTo>
                  <a:pt x="1371" y="54"/>
                  <a:pt x="1355" y="144"/>
                  <a:pt x="1344" y="219"/>
                </a:cubicBezTo>
                <a:cubicBezTo>
                  <a:pt x="1333" y="294"/>
                  <a:pt x="1306" y="396"/>
                  <a:pt x="1280" y="475"/>
                </a:cubicBezTo>
                <a:cubicBezTo>
                  <a:pt x="1254" y="554"/>
                  <a:pt x="1252" y="636"/>
                  <a:pt x="1188" y="694"/>
                </a:cubicBezTo>
                <a:cubicBezTo>
                  <a:pt x="1124" y="752"/>
                  <a:pt x="1088" y="667"/>
                  <a:pt x="896" y="822"/>
                </a:cubicBezTo>
                <a:cubicBezTo>
                  <a:pt x="731" y="822"/>
                  <a:pt x="219" y="822"/>
                  <a:pt x="0" y="831"/>
                </a:cubicBezTo>
                <a:cubicBezTo>
                  <a:pt x="0" y="731"/>
                  <a:pt x="0" y="747"/>
                  <a:pt x="91" y="703"/>
                </a:cubicBezTo>
                <a:cubicBezTo>
                  <a:pt x="182" y="659"/>
                  <a:pt x="479" y="624"/>
                  <a:pt x="548" y="566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86200" y="2133720"/>
            <a:ext cx="2743200" cy="884880"/>
            <a:chOff x="3886200" y="2133720"/>
            <a:chExt cx="2743200" cy="884880"/>
          </a:xfrm>
        </p:grpSpPr>
        <p:grpSp>
          <p:nvGrpSpPr>
            <p:cNvPr id="1281" name=""/>
            <p:cNvGrpSpPr/>
            <p:nvPr/>
          </p:nvGrpSpPr>
          <p:grpSpPr>
            <a:xfrm>
              <a:off x="5791320" y="2362320"/>
              <a:ext cx="838080" cy="648000"/>
              <a:chOff x="5791320" y="2362320"/>
              <a:chExt cx="838080" cy="64800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5791320" y="2476080"/>
                <a:ext cx="152280" cy="414000"/>
                <a:chOff x="5791320" y="2476080"/>
                <a:chExt cx="152280" cy="41400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5791320" y="2476080"/>
                  <a:ext cx="152280" cy="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791320" y="2699640"/>
                  <a:ext cx="152280" cy="0"/>
                </a:xfrm>
                <a:prstGeom prst="line">
                  <a:avLst/>
                </a:prstGeom>
                <a:ln w="1908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791320" y="2890080"/>
                  <a:ext cx="152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6" name=""/>
              <p:cNvSpPr/>
              <p:nvPr/>
            </p:nvSpPr>
            <p:spPr>
              <a:xfrm>
                <a:off x="5877000" y="2362320"/>
                <a:ext cx="752400" cy="64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道・石橋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吊り橋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防壁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7" name=""/>
            <p:cNvSpPr/>
            <p:nvPr/>
          </p:nvSpPr>
          <p:spPr>
            <a:xfrm>
              <a:off x="3886200" y="2809800"/>
              <a:ext cx="152280" cy="1526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81480" y="2781360"/>
              <a:ext cx="152640" cy="152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181480" y="2419200"/>
              <a:ext cx="152640" cy="152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181480" y="2590920"/>
              <a:ext cx="152640" cy="152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886200" y="22050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334120" y="2162160"/>
              <a:ext cx="129528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牧場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湖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湿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森林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86200" y="2400480"/>
              <a:ext cx="15228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886200" y="2590920"/>
              <a:ext cx="152280" cy="152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038480" y="2133720"/>
              <a:ext cx="114300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居住区画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居住区画（富裕層）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居住区画（貧民層）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畑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181480" y="2209680"/>
              <a:ext cx="152640" cy="152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3538440" y="3192480"/>
            <a:ext cx="3090960" cy="765000"/>
          </a:xfrm>
          <a:custGeom>
            <a:avLst/>
            <a:gdLst/>
            <a:ahLst/>
            <a:rect l="l" t="t" r="r" b="b"/>
            <a:pathLst>
              <a:path w="1947" h="482">
                <a:moveTo>
                  <a:pt x="1947" y="192"/>
                </a:moveTo>
                <a:cubicBezTo>
                  <a:pt x="1755" y="220"/>
                  <a:pt x="1782" y="467"/>
                  <a:pt x="1627" y="467"/>
                </a:cubicBezTo>
                <a:cubicBezTo>
                  <a:pt x="1546" y="482"/>
                  <a:pt x="1564" y="330"/>
                  <a:pt x="1462" y="284"/>
                </a:cubicBezTo>
                <a:cubicBezTo>
                  <a:pt x="1360" y="238"/>
                  <a:pt x="1189" y="218"/>
                  <a:pt x="1014" y="192"/>
                </a:cubicBezTo>
                <a:cubicBezTo>
                  <a:pt x="839" y="166"/>
                  <a:pt x="537" y="160"/>
                  <a:pt x="411" y="128"/>
                </a:cubicBezTo>
                <a:cubicBezTo>
                  <a:pt x="285" y="96"/>
                  <a:pt x="0" y="20"/>
                  <a:pt x="255" y="0"/>
                </a:cubicBezTo>
                <a:cubicBezTo>
                  <a:pt x="927" y="0"/>
                  <a:pt x="1290" y="29"/>
                  <a:pt x="1944" y="5"/>
                </a:cubicBezTo>
                <a:cubicBezTo>
                  <a:pt x="1944" y="173"/>
                  <a:pt x="1947" y="30"/>
                  <a:pt x="1947" y="192"/>
                </a:cubicBez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80880" y="6902280"/>
            <a:ext cx="6261120" cy="2578320"/>
          </a:xfrm>
          <a:custGeom>
            <a:avLst/>
            <a:gdLst/>
            <a:ahLst/>
            <a:rect l="l" t="t" r="r" b="b"/>
            <a:pathLst>
              <a:path w="3944" h="1624">
                <a:moveTo>
                  <a:pt x="0" y="994"/>
                </a:moveTo>
                <a:cubicBezTo>
                  <a:pt x="256" y="811"/>
                  <a:pt x="736" y="650"/>
                  <a:pt x="1088" y="583"/>
                </a:cubicBezTo>
                <a:cubicBezTo>
                  <a:pt x="1440" y="516"/>
                  <a:pt x="1803" y="617"/>
                  <a:pt x="2112" y="593"/>
                </a:cubicBezTo>
                <a:cubicBezTo>
                  <a:pt x="2421" y="569"/>
                  <a:pt x="2639" y="531"/>
                  <a:pt x="2944" y="438"/>
                </a:cubicBezTo>
                <a:cubicBezTo>
                  <a:pt x="3249" y="345"/>
                  <a:pt x="3779" y="0"/>
                  <a:pt x="3944" y="36"/>
                </a:cubicBezTo>
                <a:cubicBezTo>
                  <a:pt x="3944" y="228"/>
                  <a:pt x="3944" y="540"/>
                  <a:pt x="3936" y="652"/>
                </a:cubicBezTo>
                <a:cubicBezTo>
                  <a:pt x="3561" y="588"/>
                  <a:pt x="3323" y="903"/>
                  <a:pt x="3008" y="977"/>
                </a:cubicBezTo>
                <a:cubicBezTo>
                  <a:pt x="2693" y="1051"/>
                  <a:pt x="2362" y="1075"/>
                  <a:pt x="2048" y="1095"/>
                </a:cubicBezTo>
                <a:cubicBezTo>
                  <a:pt x="1734" y="1115"/>
                  <a:pt x="1465" y="1010"/>
                  <a:pt x="1124" y="1095"/>
                </a:cubicBezTo>
                <a:cubicBezTo>
                  <a:pt x="783" y="1180"/>
                  <a:pt x="187" y="1624"/>
                  <a:pt x="0" y="1607"/>
                </a:cubicBezTo>
                <a:cubicBezTo>
                  <a:pt x="0" y="1351"/>
                  <a:pt x="0" y="1305"/>
                  <a:pt x="0" y="994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93720" y="3164040"/>
            <a:ext cx="924120" cy="4941720"/>
          </a:xfrm>
          <a:custGeom>
            <a:avLst/>
            <a:gdLst/>
            <a:ahLst/>
            <a:rect l="l" t="t" r="r" b="b"/>
            <a:pathLst>
              <a:path w="582" h="3113">
                <a:moveTo>
                  <a:pt x="0" y="0"/>
                </a:moveTo>
                <a:cubicBezTo>
                  <a:pt x="85" y="116"/>
                  <a:pt x="442" y="525"/>
                  <a:pt x="512" y="732"/>
                </a:cubicBezTo>
                <a:cubicBezTo>
                  <a:pt x="582" y="939"/>
                  <a:pt x="484" y="1089"/>
                  <a:pt x="420" y="1244"/>
                </a:cubicBezTo>
                <a:cubicBezTo>
                  <a:pt x="356" y="1399"/>
                  <a:pt x="181" y="1527"/>
                  <a:pt x="128" y="1664"/>
                </a:cubicBezTo>
                <a:cubicBezTo>
                  <a:pt x="75" y="1801"/>
                  <a:pt x="57" y="1871"/>
                  <a:pt x="100" y="2066"/>
                </a:cubicBezTo>
                <a:cubicBezTo>
                  <a:pt x="143" y="2261"/>
                  <a:pt x="342" y="2660"/>
                  <a:pt x="384" y="2834"/>
                </a:cubicBezTo>
                <a:cubicBezTo>
                  <a:pt x="426" y="3008"/>
                  <a:pt x="361" y="3055"/>
                  <a:pt x="355" y="3113"/>
                </a:cubicBezTo>
              </a:path>
            </a:pathLst>
          </a:custGeom>
          <a:noFill/>
          <a:ln w="7632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rot="5890200">
            <a:off x="1603080" y="4932360"/>
            <a:ext cx="228600" cy="295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rot="6296400">
            <a:off x="1447200" y="5200200"/>
            <a:ext cx="22860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rot="7414200">
            <a:off x="1770840" y="72385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rot="5890200">
            <a:off x="1904760" y="4762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rot="5890200">
            <a:off x="1914120" y="5019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rot="5890200">
            <a:off x="1706400" y="5256000"/>
            <a:ext cx="1904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rot="5890200">
            <a:off x="1628640" y="5503680"/>
            <a:ext cx="24732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rot="5890200">
            <a:off x="1580760" y="5771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7414200">
            <a:off x="1751760" y="6933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7414200">
            <a:off x="1980360" y="70862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5890200">
            <a:off x="1647360" y="4723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rot="5890200">
            <a:off x="1879200" y="533196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rot="5890200">
            <a:off x="1904760" y="56192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rot="5890200">
            <a:off x="1819080" y="5857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3958800">
            <a:off x="5495400" y="6867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rot="7414200">
            <a:off x="2056680" y="6838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rot="7414200">
            <a:off x="2208960" y="72385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7567800">
            <a:off x="2513880" y="5181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6823800">
            <a:off x="2257200" y="5857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rot="7414200">
            <a:off x="2266200" y="6981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rot="7414200">
            <a:off x="2437560" y="7391160"/>
            <a:ext cx="22860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rot="7567800">
            <a:off x="2694960" y="5381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rot="6927000">
            <a:off x="2549520" y="5605920"/>
            <a:ext cx="227160" cy="1652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rot="7135200">
            <a:off x="2533320" y="5914800"/>
            <a:ext cx="22860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rot="8101200">
            <a:off x="3266280" y="4828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rot="7929600">
            <a:off x="3123720" y="5038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rot="6823800">
            <a:off x="2895120" y="6162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rot="6823800">
            <a:off x="2800080" y="639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rot="4587600">
            <a:off x="3171600" y="69627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rot="4587600">
            <a:off x="3152520" y="7210440"/>
            <a:ext cx="22860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8101200">
            <a:off x="3542760" y="4905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rot="8101200">
            <a:off x="3390120" y="51145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7567800">
            <a:off x="2758320" y="5728680"/>
            <a:ext cx="228600" cy="2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rot="7567800">
            <a:off x="3037680" y="5971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rot="6823800">
            <a:off x="3219120" y="61527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rot="4587600">
            <a:off x="3428640" y="69152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rot="4587600">
            <a:off x="3409560" y="7182000"/>
            <a:ext cx="22860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rot="8101200">
            <a:off x="3780720" y="5038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rot="8101200">
            <a:off x="3631680" y="5242680"/>
            <a:ext cx="20664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rot="7567800">
            <a:off x="3171240" y="57621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rot="6823800">
            <a:off x="3419280" y="6286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rot="7567800">
            <a:off x="3351960" y="59432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rot="4531800">
            <a:off x="3676320" y="7153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rot="8101200">
            <a:off x="4439880" y="5473440"/>
            <a:ext cx="342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rot="8101200">
            <a:off x="4104720" y="5143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rot="8101200">
            <a:off x="3904560" y="5314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rot="8101200">
            <a:off x="3837960" y="5657400"/>
            <a:ext cx="228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rot="7567800">
            <a:off x="3561480" y="60861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rot="5805600">
            <a:off x="4075920" y="69055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rot="5805600">
            <a:off x="4075920" y="7153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rot="8101200">
            <a:off x="4266360" y="53337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rot="8101200">
            <a:off x="4037760" y="5866920"/>
            <a:ext cx="228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rot="8101200">
            <a:off x="4056840" y="5505120"/>
            <a:ext cx="228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rot="5805600">
            <a:off x="4342680" y="6934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rot="5805600">
            <a:off x="4342680" y="7162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rot="8101200">
            <a:off x="4247280" y="5686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rot="3958800">
            <a:off x="5752800" y="6781320"/>
            <a:ext cx="22860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rot="4824000">
            <a:off x="5371920" y="6610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rot="4824000">
            <a:off x="5152320" y="66816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190600" y="6467400"/>
            <a:ext cx="371520" cy="324000"/>
          </a:xfrm>
          <a:custGeom>
            <a:avLst/>
            <a:gdLst/>
            <a:ahLst/>
            <a:rect l="l" t="t" r="r" b="b"/>
            <a:pathLst>
              <a:path w="234" h="204">
                <a:moveTo>
                  <a:pt x="60" y="0"/>
                </a:moveTo>
                <a:lnTo>
                  <a:pt x="234" y="102"/>
                </a:lnTo>
                <a:lnTo>
                  <a:pt x="204" y="204"/>
                </a:lnTo>
                <a:lnTo>
                  <a:pt x="84" y="168"/>
                </a:lnTo>
                <a:lnTo>
                  <a:pt x="0" y="42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076640" y="6477120"/>
            <a:ext cx="800280" cy="209520"/>
          </a:xfrm>
          <a:custGeom>
            <a:avLst/>
            <a:gdLst/>
            <a:ahLst/>
            <a:rect l="l" t="t" r="r" b="b"/>
            <a:pathLst>
              <a:path w="504" h="132">
                <a:moveTo>
                  <a:pt x="0" y="90"/>
                </a:moveTo>
                <a:lnTo>
                  <a:pt x="42" y="132"/>
                </a:lnTo>
                <a:lnTo>
                  <a:pt x="504" y="48"/>
                </a:lnTo>
                <a:lnTo>
                  <a:pt x="456" y="0"/>
                </a:lnTo>
                <a:lnTo>
                  <a:pt x="42" y="12"/>
                </a:lnTo>
                <a:lnTo>
                  <a:pt x="0" y="9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790640" y="610560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42"/>
                </a:moveTo>
                <a:lnTo>
                  <a:pt x="168" y="138"/>
                </a:lnTo>
                <a:lnTo>
                  <a:pt x="102" y="168"/>
                </a:lnTo>
                <a:lnTo>
                  <a:pt x="60" y="126"/>
                </a:lnTo>
                <a:lnTo>
                  <a:pt x="0" y="0"/>
                </a:lnTo>
                <a:lnTo>
                  <a:pt x="126" y="18"/>
                </a:lnTo>
                <a:lnTo>
                  <a:pt x="168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990720" y="5524560"/>
            <a:ext cx="533160" cy="933480"/>
          </a:xfrm>
          <a:custGeom>
            <a:avLst/>
            <a:gdLst/>
            <a:ahLst/>
            <a:rect l="l" t="t" r="r" b="b"/>
            <a:pathLst>
              <a:path w="336" h="588">
                <a:moveTo>
                  <a:pt x="240" y="24"/>
                </a:moveTo>
                <a:lnTo>
                  <a:pt x="240" y="168"/>
                </a:lnTo>
                <a:lnTo>
                  <a:pt x="300" y="198"/>
                </a:lnTo>
                <a:lnTo>
                  <a:pt x="282" y="306"/>
                </a:lnTo>
                <a:lnTo>
                  <a:pt x="336" y="360"/>
                </a:lnTo>
                <a:lnTo>
                  <a:pt x="336" y="456"/>
                </a:lnTo>
                <a:lnTo>
                  <a:pt x="192" y="456"/>
                </a:lnTo>
                <a:lnTo>
                  <a:pt x="192" y="552"/>
                </a:lnTo>
                <a:lnTo>
                  <a:pt x="126" y="588"/>
                </a:lnTo>
                <a:lnTo>
                  <a:pt x="48" y="456"/>
                </a:lnTo>
                <a:lnTo>
                  <a:pt x="0" y="312"/>
                </a:lnTo>
                <a:lnTo>
                  <a:pt x="48" y="168"/>
                </a:lnTo>
                <a:lnTo>
                  <a:pt x="168" y="0"/>
                </a:lnTo>
                <a:lnTo>
                  <a:pt x="240" y="24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400640" y="6705720"/>
            <a:ext cx="399960" cy="199800"/>
          </a:xfrm>
          <a:custGeom>
            <a:avLst/>
            <a:gdLst/>
            <a:ahLst/>
            <a:rect l="l" t="t" r="r" b="b"/>
            <a:pathLst>
              <a:path w="252" h="126">
                <a:moveTo>
                  <a:pt x="0" y="60"/>
                </a:moveTo>
                <a:lnTo>
                  <a:pt x="252" y="0"/>
                </a:lnTo>
                <a:lnTo>
                  <a:pt x="234" y="126"/>
                </a:lnTo>
                <a:lnTo>
                  <a:pt x="66" y="84"/>
                </a:lnTo>
                <a:lnTo>
                  <a:pt x="0" y="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657600" y="5810400"/>
            <a:ext cx="457200" cy="447480"/>
          </a:xfrm>
          <a:custGeom>
            <a:avLst/>
            <a:gdLst/>
            <a:ahLst/>
            <a:rect l="l" t="t" r="r" b="b"/>
            <a:pathLst>
              <a:path w="288" h="282">
                <a:moveTo>
                  <a:pt x="288" y="228"/>
                </a:moveTo>
                <a:lnTo>
                  <a:pt x="270" y="282"/>
                </a:lnTo>
                <a:lnTo>
                  <a:pt x="0" y="36"/>
                </a:lnTo>
                <a:lnTo>
                  <a:pt x="66" y="0"/>
                </a:lnTo>
                <a:lnTo>
                  <a:pt x="288" y="2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514600" y="470520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0"/>
                </a:moveTo>
                <a:lnTo>
                  <a:pt x="0" y="96"/>
                </a:lnTo>
                <a:lnTo>
                  <a:pt x="96" y="192"/>
                </a:lnTo>
                <a:lnTo>
                  <a:pt x="192" y="96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876400" y="4724280"/>
            <a:ext cx="428760" cy="238320"/>
          </a:xfrm>
          <a:custGeom>
            <a:avLst/>
            <a:gdLst/>
            <a:ahLst/>
            <a:rect l="l" t="t" r="r" b="b"/>
            <a:pathLst>
              <a:path w="270" h="150">
                <a:moveTo>
                  <a:pt x="12" y="0"/>
                </a:moveTo>
                <a:lnTo>
                  <a:pt x="0" y="108"/>
                </a:lnTo>
                <a:lnTo>
                  <a:pt x="186" y="150"/>
                </a:lnTo>
                <a:lnTo>
                  <a:pt x="270" y="42"/>
                </a:lnTo>
                <a:lnTo>
                  <a:pt x="270" y="6"/>
                </a:lnTo>
                <a:lnTo>
                  <a:pt x="12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714760" y="493380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84" y="0"/>
                </a:moveTo>
                <a:lnTo>
                  <a:pt x="294" y="42"/>
                </a:lnTo>
                <a:lnTo>
                  <a:pt x="162" y="204"/>
                </a:lnTo>
                <a:lnTo>
                  <a:pt x="0" y="84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000240" y="5229360"/>
            <a:ext cx="895320" cy="628560"/>
          </a:xfrm>
          <a:custGeom>
            <a:avLst/>
            <a:gdLst/>
            <a:ahLst/>
            <a:rect l="l" t="t" r="r" b="b"/>
            <a:pathLst>
              <a:path w="564" h="396">
                <a:moveTo>
                  <a:pt x="0" y="84"/>
                </a:moveTo>
                <a:lnTo>
                  <a:pt x="210" y="276"/>
                </a:lnTo>
                <a:lnTo>
                  <a:pt x="354" y="396"/>
                </a:lnTo>
                <a:lnTo>
                  <a:pt x="462" y="360"/>
                </a:lnTo>
                <a:lnTo>
                  <a:pt x="564" y="258"/>
                </a:lnTo>
                <a:lnTo>
                  <a:pt x="504" y="210"/>
                </a:lnTo>
                <a:lnTo>
                  <a:pt x="360" y="90"/>
                </a:lnTo>
                <a:lnTo>
                  <a:pt x="306" y="126"/>
                </a:lnTo>
                <a:lnTo>
                  <a:pt x="240" y="42"/>
                </a:lnTo>
                <a:lnTo>
                  <a:pt x="180" y="84"/>
                </a:lnTo>
                <a:lnTo>
                  <a:pt x="54" y="0"/>
                </a:lnTo>
                <a:lnTo>
                  <a:pt x="0" y="8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rot="8101200">
            <a:off x="4571280" y="5790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rot="8101200">
            <a:off x="4342680" y="59432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114800" y="6095880"/>
            <a:ext cx="419040" cy="304920"/>
          </a:xfrm>
          <a:custGeom>
            <a:avLst/>
            <a:gdLst/>
            <a:ahLst/>
            <a:rect l="l" t="t" r="r" b="b"/>
            <a:pathLst>
              <a:path w="264" h="192">
                <a:moveTo>
                  <a:pt x="96" y="192"/>
                </a:moveTo>
                <a:lnTo>
                  <a:pt x="0" y="96"/>
                </a:lnTo>
                <a:lnTo>
                  <a:pt x="48" y="48"/>
                </a:lnTo>
                <a:lnTo>
                  <a:pt x="96" y="0"/>
                </a:lnTo>
                <a:lnTo>
                  <a:pt x="264" y="168"/>
                </a:lnTo>
                <a:lnTo>
                  <a:pt x="96" y="192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724280" y="5638680"/>
            <a:ext cx="542880" cy="457200"/>
          </a:xfrm>
          <a:custGeom>
            <a:avLst/>
            <a:gdLst/>
            <a:ahLst/>
            <a:rect l="l" t="t" r="r" b="b"/>
            <a:pathLst>
              <a:path w="342" h="288">
                <a:moveTo>
                  <a:pt x="48" y="0"/>
                </a:moveTo>
                <a:lnTo>
                  <a:pt x="0" y="48"/>
                </a:lnTo>
                <a:lnTo>
                  <a:pt x="96" y="162"/>
                </a:lnTo>
                <a:lnTo>
                  <a:pt x="48" y="240"/>
                </a:lnTo>
                <a:lnTo>
                  <a:pt x="114" y="288"/>
                </a:lnTo>
                <a:lnTo>
                  <a:pt x="342" y="204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4280" y="6000840"/>
            <a:ext cx="542880" cy="323640"/>
          </a:xfrm>
          <a:custGeom>
            <a:avLst/>
            <a:gdLst/>
            <a:ahLst/>
            <a:rect l="l" t="t" r="r" b="b"/>
            <a:pathLst>
              <a:path w="342" h="204">
                <a:moveTo>
                  <a:pt x="336" y="204"/>
                </a:moveTo>
                <a:lnTo>
                  <a:pt x="48" y="204"/>
                </a:lnTo>
                <a:lnTo>
                  <a:pt x="0" y="60"/>
                </a:lnTo>
                <a:lnTo>
                  <a:pt x="48" y="60"/>
                </a:lnTo>
                <a:lnTo>
                  <a:pt x="114" y="84"/>
                </a:lnTo>
                <a:lnTo>
                  <a:pt x="342" y="0"/>
                </a:lnTo>
                <a:lnTo>
                  <a:pt x="336" y="20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495680" y="6095880"/>
            <a:ext cx="238320" cy="266760"/>
          </a:xfrm>
          <a:custGeom>
            <a:avLst/>
            <a:gdLst/>
            <a:ahLst/>
            <a:rect l="l" t="t" r="r" b="b"/>
            <a:pathLst>
              <a:path w="150" h="168">
                <a:moveTo>
                  <a:pt x="96" y="0"/>
                </a:moveTo>
                <a:lnTo>
                  <a:pt x="0" y="96"/>
                </a:lnTo>
                <a:lnTo>
                  <a:pt x="66" y="168"/>
                </a:lnTo>
                <a:lnTo>
                  <a:pt x="150" y="144"/>
                </a:lnTo>
                <a:lnTo>
                  <a:pt x="132" y="60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933720" y="4924440"/>
            <a:ext cx="276480" cy="257040"/>
          </a:xfrm>
          <a:custGeom>
            <a:avLst/>
            <a:gdLst/>
            <a:ahLst/>
            <a:rect l="l" t="t" r="r" b="b"/>
            <a:pathLst>
              <a:path w="174" h="162">
                <a:moveTo>
                  <a:pt x="174" y="90"/>
                </a:moveTo>
                <a:lnTo>
                  <a:pt x="114" y="162"/>
                </a:lnTo>
                <a:lnTo>
                  <a:pt x="0" y="42"/>
                </a:lnTo>
                <a:lnTo>
                  <a:pt x="84" y="0"/>
                </a:lnTo>
                <a:lnTo>
                  <a:pt x="174" y="9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705120" y="4762440"/>
            <a:ext cx="333360" cy="228600"/>
          </a:xfrm>
          <a:custGeom>
            <a:avLst/>
            <a:gdLst/>
            <a:ahLst/>
            <a:rect l="l" t="t" r="r" b="b"/>
            <a:pathLst>
              <a:path w="210" h="144">
                <a:moveTo>
                  <a:pt x="0" y="66"/>
                </a:moveTo>
                <a:lnTo>
                  <a:pt x="84" y="144"/>
                </a:lnTo>
                <a:lnTo>
                  <a:pt x="210" y="84"/>
                </a:lnTo>
                <a:lnTo>
                  <a:pt x="150" y="0"/>
                </a:lnTo>
                <a:lnTo>
                  <a:pt x="0" y="0"/>
                </a:lnTo>
                <a:lnTo>
                  <a:pt x="0" y="6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371760" y="4734000"/>
            <a:ext cx="304920" cy="162000"/>
          </a:xfrm>
          <a:custGeom>
            <a:avLst/>
            <a:gdLst/>
            <a:ahLst/>
            <a:rect l="l" t="t" r="r" b="b"/>
            <a:pathLst>
              <a:path w="192" h="102">
                <a:moveTo>
                  <a:pt x="0" y="0"/>
                </a:moveTo>
                <a:lnTo>
                  <a:pt x="126" y="102"/>
                </a:lnTo>
                <a:lnTo>
                  <a:pt x="186" y="6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362320" y="4038480"/>
            <a:ext cx="304560" cy="352440"/>
          </a:xfrm>
          <a:custGeom>
            <a:avLst/>
            <a:gdLst/>
            <a:ahLst/>
            <a:rect l="l" t="t" r="r" b="b"/>
            <a:pathLst>
              <a:path w="192" h="222">
                <a:moveTo>
                  <a:pt x="48" y="0"/>
                </a:moveTo>
                <a:lnTo>
                  <a:pt x="0" y="48"/>
                </a:lnTo>
                <a:lnTo>
                  <a:pt x="48" y="222"/>
                </a:lnTo>
                <a:lnTo>
                  <a:pt x="156" y="162"/>
                </a:lnTo>
                <a:lnTo>
                  <a:pt x="192" y="48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476440" y="4343400"/>
            <a:ext cx="343080" cy="228600"/>
          </a:xfrm>
          <a:custGeom>
            <a:avLst/>
            <a:gdLst/>
            <a:ahLst/>
            <a:rect l="l" t="t" r="r" b="b"/>
            <a:pathLst>
              <a:path w="216" h="144">
                <a:moveTo>
                  <a:pt x="0" y="54"/>
                </a:moveTo>
                <a:lnTo>
                  <a:pt x="120" y="0"/>
                </a:lnTo>
                <a:lnTo>
                  <a:pt x="216" y="48"/>
                </a:lnTo>
                <a:lnTo>
                  <a:pt x="216" y="144"/>
                </a:lnTo>
                <a:lnTo>
                  <a:pt x="24" y="144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666880" y="4133880"/>
            <a:ext cx="533520" cy="26676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42" y="0"/>
                </a:moveTo>
                <a:lnTo>
                  <a:pt x="0" y="84"/>
                </a:lnTo>
                <a:lnTo>
                  <a:pt x="90" y="144"/>
                </a:lnTo>
                <a:lnTo>
                  <a:pt x="240" y="132"/>
                </a:lnTo>
                <a:lnTo>
                  <a:pt x="318" y="168"/>
                </a:lnTo>
                <a:lnTo>
                  <a:pt x="336" y="84"/>
                </a:lnTo>
                <a:lnTo>
                  <a:pt x="42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4295880"/>
            <a:ext cx="152280" cy="276120"/>
          </a:xfrm>
          <a:custGeom>
            <a:avLst/>
            <a:gdLst/>
            <a:ahLst/>
            <a:rect l="l" t="t" r="r" b="b"/>
            <a:pathLst>
              <a:path w="96" h="174">
                <a:moveTo>
                  <a:pt x="96" y="174"/>
                </a:moveTo>
                <a:lnTo>
                  <a:pt x="96" y="30"/>
                </a:lnTo>
                <a:lnTo>
                  <a:pt x="24" y="0"/>
                </a:lnTo>
                <a:lnTo>
                  <a:pt x="0" y="78"/>
                </a:lnTo>
                <a:lnTo>
                  <a:pt x="0" y="174"/>
                </a:lnTo>
                <a:lnTo>
                  <a:pt x="96" y="174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819520" y="4419720"/>
            <a:ext cx="38088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48" y="0"/>
                </a:moveTo>
                <a:lnTo>
                  <a:pt x="192" y="0"/>
                </a:lnTo>
                <a:lnTo>
                  <a:pt x="240" y="48"/>
                </a:lnTo>
                <a:lnTo>
                  <a:pt x="240" y="96"/>
                </a:lnTo>
                <a:lnTo>
                  <a:pt x="0" y="96"/>
                </a:lnTo>
                <a:lnTo>
                  <a:pt x="48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90560" y="5029200"/>
            <a:ext cx="399960" cy="266760"/>
          </a:xfrm>
          <a:custGeom>
            <a:avLst/>
            <a:gdLst/>
            <a:ahLst/>
            <a:rect l="l" t="t" r="r" b="b"/>
            <a:pathLst>
              <a:path w="252" h="168">
                <a:moveTo>
                  <a:pt x="0" y="144"/>
                </a:moveTo>
                <a:lnTo>
                  <a:pt x="60" y="168"/>
                </a:lnTo>
                <a:lnTo>
                  <a:pt x="174" y="144"/>
                </a:lnTo>
                <a:lnTo>
                  <a:pt x="252" y="66"/>
                </a:lnTo>
                <a:lnTo>
                  <a:pt x="126" y="0"/>
                </a:lnTo>
                <a:lnTo>
                  <a:pt x="30" y="0"/>
                </a:lnTo>
                <a:lnTo>
                  <a:pt x="0" y="144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828720" y="4695840"/>
            <a:ext cx="314280" cy="295200"/>
          </a:xfrm>
          <a:custGeom>
            <a:avLst/>
            <a:gdLst/>
            <a:ahLst/>
            <a:rect l="l" t="t" r="r" b="b"/>
            <a:pathLst>
              <a:path w="198" h="186">
                <a:moveTo>
                  <a:pt x="0" y="186"/>
                </a:moveTo>
                <a:lnTo>
                  <a:pt x="84" y="186"/>
                </a:lnTo>
                <a:lnTo>
                  <a:pt x="198" y="66"/>
                </a:lnTo>
                <a:lnTo>
                  <a:pt x="144" y="0"/>
                </a:lnTo>
                <a:lnTo>
                  <a:pt x="6" y="114"/>
                </a:lnTo>
                <a:lnTo>
                  <a:pt x="0" y="18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085760" y="4533840"/>
            <a:ext cx="285840" cy="295200"/>
          </a:xfrm>
          <a:custGeom>
            <a:avLst/>
            <a:gdLst/>
            <a:ahLst/>
            <a:rect l="l" t="t" r="r" b="b"/>
            <a:pathLst>
              <a:path w="180" h="186">
                <a:moveTo>
                  <a:pt x="150" y="186"/>
                </a:moveTo>
                <a:lnTo>
                  <a:pt x="180" y="24"/>
                </a:lnTo>
                <a:lnTo>
                  <a:pt x="108" y="0"/>
                </a:lnTo>
                <a:lnTo>
                  <a:pt x="0" y="102"/>
                </a:lnTo>
                <a:lnTo>
                  <a:pt x="66" y="168"/>
                </a:lnTo>
                <a:lnTo>
                  <a:pt x="150" y="18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990720" y="4829040"/>
            <a:ext cx="304560" cy="276480"/>
          </a:xfrm>
          <a:custGeom>
            <a:avLst/>
            <a:gdLst/>
            <a:ahLst/>
            <a:rect l="l" t="t" r="r" b="b"/>
            <a:pathLst>
              <a:path w="192" h="174">
                <a:moveTo>
                  <a:pt x="126" y="0"/>
                </a:moveTo>
                <a:lnTo>
                  <a:pt x="0" y="102"/>
                </a:lnTo>
                <a:lnTo>
                  <a:pt x="144" y="174"/>
                </a:lnTo>
                <a:lnTo>
                  <a:pt x="192" y="30"/>
                </a:lnTo>
                <a:lnTo>
                  <a:pt x="126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619600" y="6591240"/>
            <a:ext cx="276480" cy="200160"/>
          </a:xfrm>
          <a:custGeom>
            <a:avLst/>
            <a:gdLst/>
            <a:ahLst/>
            <a:rect l="l" t="t" r="r" b="b"/>
            <a:pathLst>
              <a:path w="174" h="126">
                <a:moveTo>
                  <a:pt x="0" y="0"/>
                </a:moveTo>
                <a:lnTo>
                  <a:pt x="12" y="120"/>
                </a:lnTo>
                <a:lnTo>
                  <a:pt x="84" y="126"/>
                </a:lnTo>
                <a:lnTo>
                  <a:pt x="174" y="84"/>
                </a:lnTo>
                <a:lnTo>
                  <a:pt x="108" y="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000760" y="6896160"/>
            <a:ext cx="523800" cy="371520"/>
          </a:xfrm>
          <a:custGeom>
            <a:avLst/>
            <a:gdLst/>
            <a:ahLst/>
            <a:rect l="l" t="t" r="r" b="b"/>
            <a:pathLst>
              <a:path w="330" h="234">
                <a:moveTo>
                  <a:pt x="0" y="72"/>
                </a:moveTo>
                <a:lnTo>
                  <a:pt x="264" y="0"/>
                </a:lnTo>
                <a:lnTo>
                  <a:pt x="330" y="168"/>
                </a:lnTo>
                <a:lnTo>
                  <a:pt x="84" y="234"/>
                </a:lnTo>
                <a:lnTo>
                  <a:pt x="0" y="7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829040" y="6696000"/>
            <a:ext cx="266760" cy="276480"/>
          </a:xfrm>
          <a:custGeom>
            <a:avLst/>
            <a:gdLst/>
            <a:ahLst/>
            <a:rect l="l" t="t" r="r" b="b"/>
            <a:pathLst>
              <a:path w="168" h="174">
                <a:moveTo>
                  <a:pt x="0" y="18"/>
                </a:moveTo>
                <a:lnTo>
                  <a:pt x="144" y="0"/>
                </a:lnTo>
                <a:lnTo>
                  <a:pt x="168" y="156"/>
                </a:lnTo>
                <a:lnTo>
                  <a:pt x="90" y="174"/>
                </a:lnTo>
                <a:lnTo>
                  <a:pt x="0" y="126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666960" y="6848640"/>
            <a:ext cx="400320" cy="419040"/>
          </a:xfrm>
          <a:custGeom>
            <a:avLst/>
            <a:gdLst/>
            <a:ahLst/>
            <a:rect l="l" t="t" r="r" b="b"/>
            <a:pathLst>
              <a:path w="252" h="264">
                <a:moveTo>
                  <a:pt x="0" y="24"/>
                </a:moveTo>
                <a:lnTo>
                  <a:pt x="24" y="144"/>
                </a:lnTo>
                <a:lnTo>
                  <a:pt x="162" y="156"/>
                </a:lnTo>
                <a:lnTo>
                  <a:pt x="180" y="264"/>
                </a:lnTo>
                <a:lnTo>
                  <a:pt x="222" y="246"/>
                </a:lnTo>
                <a:lnTo>
                  <a:pt x="252" y="18"/>
                </a:lnTo>
                <a:lnTo>
                  <a:pt x="168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895480" y="7010280"/>
            <a:ext cx="228600" cy="324000"/>
          </a:xfrm>
          <a:custGeom>
            <a:avLst/>
            <a:gdLst/>
            <a:ahLst/>
            <a:rect l="l" t="t" r="r" b="b"/>
            <a:pathLst>
              <a:path w="144" h="204">
                <a:moveTo>
                  <a:pt x="144" y="144"/>
                </a:moveTo>
                <a:lnTo>
                  <a:pt x="144" y="0"/>
                </a:lnTo>
                <a:lnTo>
                  <a:pt x="48" y="0"/>
                </a:lnTo>
                <a:lnTo>
                  <a:pt x="0" y="192"/>
                </a:lnTo>
                <a:lnTo>
                  <a:pt x="132" y="204"/>
                </a:lnTo>
                <a:lnTo>
                  <a:pt x="126" y="162"/>
                </a:lnTo>
                <a:lnTo>
                  <a:pt x="144" y="1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876400" y="7391520"/>
            <a:ext cx="552600" cy="571320"/>
          </a:xfrm>
          <a:custGeom>
            <a:avLst/>
            <a:gdLst/>
            <a:ahLst/>
            <a:rect l="l" t="t" r="r" b="b"/>
            <a:pathLst>
              <a:path w="348" h="360">
                <a:moveTo>
                  <a:pt x="162" y="192"/>
                </a:moveTo>
                <a:lnTo>
                  <a:pt x="0" y="174"/>
                </a:lnTo>
                <a:lnTo>
                  <a:pt x="12" y="0"/>
                </a:lnTo>
                <a:lnTo>
                  <a:pt x="156" y="0"/>
                </a:lnTo>
                <a:lnTo>
                  <a:pt x="198" y="72"/>
                </a:lnTo>
                <a:lnTo>
                  <a:pt x="348" y="54"/>
                </a:lnTo>
                <a:lnTo>
                  <a:pt x="312" y="360"/>
                </a:lnTo>
                <a:lnTo>
                  <a:pt x="144" y="342"/>
                </a:lnTo>
                <a:lnTo>
                  <a:pt x="162" y="192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76520" y="7372440"/>
            <a:ext cx="552600" cy="333360"/>
          </a:xfrm>
          <a:custGeom>
            <a:avLst/>
            <a:gdLst/>
            <a:ahLst/>
            <a:rect l="l" t="t" r="r" b="b"/>
            <a:pathLst>
              <a:path w="348" h="210">
                <a:moveTo>
                  <a:pt x="144" y="42"/>
                </a:moveTo>
                <a:lnTo>
                  <a:pt x="330" y="0"/>
                </a:lnTo>
                <a:lnTo>
                  <a:pt x="348" y="42"/>
                </a:lnTo>
                <a:lnTo>
                  <a:pt x="288" y="210"/>
                </a:lnTo>
                <a:lnTo>
                  <a:pt x="162" y="204"/>
                </a:lnTo>
                <a:lnTo>
                  <a:pt x="0" y="186"/>
                </a:lnTo>
                <a:lnTo>
                  <a:pt x="18" y="60"/>
                </a:lnTo>
                <a:lnTo>
                  <a:pt x="144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7391520"/>
            <a:ext cx="609480" cy="53316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96" y="0"/>
                </a:moveTo>
                <a:lnTo>
                  <a:pt x="360" y="12"/>
                </a:lnTo>
                <a:lnTo>
                  <a:pt x="360" y="132"/>
                </a:lnTo>
                <a:lnTo>
                  <a:pt x="384" y="144"/>
                </a:lnTo>
                <a:lnTo>
                  <a:pt x="384" y="288"/>
                </a:lnTo>
                <a:lnTo>
                  <a:pt x="48" y="336"/>
                </a:lnTo>
                <a:lnTo>
                  <a:pt x="0" y="192"/>
                </a:lnTo>
                <a:lnTo>
                  <a:pt x="48" y="48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572000" y="6943680"/>
            <a:ext cx="380880" cy="295200"/>
          </a:xfrm>
          <a:custGeom>
            <a:avLst/>
            <a:gdLst/>
            <a:ahLst/>
            <a:rect l="l" t="t" r="r" b="b"/>
            <a:pathLst>
              <a:path w="240" h="186">
                <a:moveTo>
                  <a:pt x="18" y="0"/>
                </a:moveTo>
                <a:lnTo>
                  <a:pt x="18" y="162"/>
                </a:lnTo>
                <a:lnTo>
                  <a:pt x="0" y="186"/>
                </a:lnTo>
                <a:lnTo>
                  <a:pt x="240" y="138"/>
                </a:lnTo>
                <a:lnTo>
                  <a:pt x="192" y="42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562640" y="7201080"/>
            <a:ext cx="466560" cy="399960"/>
          </a:xfrm>
          <a:custGeom>
            <a:avLst/>
            <a:gdLst/>
            <a:ahLst/>
            <a:rect l="l" t="t" r="r" b="b"/>
            <a:pathLst>
              <a:path w="294" h="252">
                <a:moveTo>
                  <a:pt x="294" y="72"/>
                </a:moveTo>
                <a:lnTo>
                  <a:pt x="24" y="252"/>
                </a:lnTo>
                <a:lnTo>
                  <a:pt x="0" y="192"/>
                </a:lnTo>
                <a:lnTo>
                  <a:pt x="6" y="42"/>
                </a:lnTo>
                <a:lnTo>
                  <a:pt x="234" y="0"/>
                </a:lnTo>
                <a:lnTo>
                  <a:pt x="294" y="7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rot="7567800">
            <a:off x="2894760" y="5533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581280" y="6229440"/>
            <a:ext cx="381240" cy="476280"/>
          </a:xfrm>
          <a:custGeom>
            <a:avLst/>
            <a:gdLst/>
            <a:ahLst/>
            <a:rect l="l" t="t" r="r" b="b"/>
            <a:pathLst>
              <a:path w="240" h="300">
                <a:moveTo>
                  <a:pt x="162" y="0"/>
                </a:moveTo>
                <a:lnTo>
                  <a:pt x="240" y="60"/>
                </a:lnTo>
                <a:lnTo>
                  <a:pt x="144" y="300"/>
                </a:lnTo>
                <a:lnTo>
                  <a:pt x="0" y="300"/>
                </a:lnTo>
                <a:lnTo>
                  <a:pt x="0" y="252"/>
                </a:lnTo>
                <a:lnTo>
                  <a:pt x="78" y="90"/>
                </a:lnTo>
                <a:lnTo>
                  <a:pt x="16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305080" y="5010120"/>
            <a:ext cx="295200" cy="380880"/>
          </a:xfrm>
          <a:custGeom>
            <a:avLst/>
            <a:gdLst/>
            <a:ahLst/>
            <a:rect l="l" t="t" r="r" b="b"/>
            <a:pathLst>
              <a:path w="186" h="240">
                <a:moveTo>
                  <a:pt x="96" y="0"/>
                </a:moveTo>
                <a:lnTo>
                  <a:pt x="186" y="42"/>
                </a:lnTo>
                <a:lnTo>
                  <a:pt x="96" y="192"/>
                </a:lnTo>
                <a:lnTo>
                  <a:pt x="0" y="240"/>
                </a:lnTo>
                <a:lnTo>
                  <a:pt x="0" y="96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286000" y="5362560"/>
            <a:ext cx="333360" cy="276120"/>
          </a:xfrm>
          <a:custGeom>
            <a:avLst/>
            <a:gdLst/>
            <a:ahLst/>
            <a:rect l="l" t="t" r="r" b="b"/>
            <a:pathLst>
              <a:path w="210" h="174">
                <a:moveTo>
                  <a:pt x="126" y="0"/>
                </a:moveTo>
                <a:lnTo>
                  <a:pt x="210" y="90"/>
                </a:lnTo>
                <a:lnTo>
                  <a:pt x="168" y="174"/>
                </a:lnTo>
                <a:lnTo>
                  <a:pt x="0" y="174"/>
                </a:lnTo>
                <a:lnTo>
                  <a:pt x="0" y="30"/>
                </a:lnTo>
                <a:lnTo>
                  <a:pt x="24" y="48"/>
                </a:lnTo>
                <a:lnTo>
                  <a:pt x="12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86000" y="5667480"/>
            <a:ext cx="361800" cy="228600"/>
          </a:xfrm>
          <a:custGeom>
            <a:avLst/>
            <a:gdLst/>
            <a:ahLst/>
            <a:rect l="l" t="t" r="r" b="b"/>
            <a:pathLst>
              <a:path w="228" h="144">
                <a:moveTo>
                  <a:pt x="0" y="78"/>
                </a:moveTo>
                <a:lnTo>
                  <a:pt x="168" y="144"/>
                </a:lnTo>
                <a:lnTo>
                  <a:pt x="228" y="108"/>
                </a:lnTo>
                <a:lnTo>
                  <a:pt x="144" y="84"/>
                </a:lnTo>
                <a:lnTo>
                  <a:pt x="144" y="0"/>
                </a:lnTo>
                <a:lnTo>
                  <a:pt x="18" y="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0320" y="6048360"/>
            <a:ext cx="361800" cy="399960"/>
          </a:xfrm>
          <a:custGeom>
            <a:avLst/>
            <a:gdLst/>
            <a:ahLst/>
            <a:rect l="l" t="t" r="r" b="b"/>
            <a:pathLst>
              <a:path w="228" h="252">
                <a:moveTo>
                  <a:pt x="0" y="126"/>
                </a:moveTo>
                <a:lnTo>
                  <a:pt x="18" y="0"/>
                </a:lnTo>
                <a:lnTo>
                  <a:pt x="144" y="54"/>
                </a:lnTo>
                <a:lnTo>
                  <a:pt x="228" y="78"/>
                </a:lnTo>
                <a:lnTo>
                  <a:pt x="210" y="252"/>
                </a:lnTo>
                <a:lnTo>
                  <a:pt x="0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71840" y="6134040"/>
            <a:ext cx="237960" cy="362160"/>
          </a:xfrm>
          <a:custGeom>
            <a:avLst/>
            <a:gdLst/>
            <a:ahLst/>
            <a:rect l="l" t="t" r="r" b="b"/>
            <a:pathLst>
              <a:path w="150" h="228">
                <a:moveTo>
                  <a:pt x="126" y="0"/>
                </a:moveTo>
                <a:lnTo>
                  <a:pt x="84" y="42"/>
                </a:lnTo>
                <a:lnTo>
                  <a:pt x="12" y="24"/>
                </a:lnTo>
                <a:lnTo>
                  <a:pt x="0" y="192"/>
                </a:lnTo>
                <a:lnTo>
                  <a:pt x="84" y="228"/>
                </a:lnTo>
                <a:lnTo>
                  <a:pt x="150" y="18"/>
                </a:lnTo>
                <a:lnTo>
                  <a:pt x="12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581200" y="6620040"/>
            <a:ext cx="505080" cy="237960"/>
          </a:xfrm>
          <a:custGeom>
            <a:avLst/>
            <a:gdLst/>
            <a:ahLst/>
            <a:rect l="l" t="t" r="r" b="b"/>
            <a:pathLst>
              <a:path w="318" h="150">
                <a:moveTo>
                  <a:pt x="18" y="18"/>
                </a:moveTo>
                <a:lnTo>
                  <a:pt x="126" y="0"/>
                </a:lnTo>
                <a:lnTo>
                  <a:pt x="318" y="102"/>
                </a:lnTo>
                <a:lnTo>
                  <a:pt x="276" y="150"/>
                </a:lnTo>
                <a:lnTo>
                  <a:pt x="84" y="144"/>
                </a:lnTo>
                <a:lnTo>
                  <a:pt x="0" y="114"/>
                </a:lnTo>
                <a:lnTo>
                  <a:pt x="18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670200" y="8140680"/>
            <a:ext cx="800280" cy="136440"/>
          </a:xfrm>
          <a:custGeom>
            <a:avLst/>
            <a:gdLst/>
            <a:ahLst/>
            <a:rect l="l" t="t" r="r" b="b"/>
            <a:pathLst>
              <a:path w="504" h="86">
                <a:moveTo>
                  <a:pt x="40" y="56"/>
                </a:moveTo>
                <a:cubicBezTo>
                  <a:pt x="68" y="43"/>
                  <a:pt x="160" y="16"/>
                  <a:pt x="232" y="8"/>
                </a:cubicBezTo>
                <a:cubicBezTo>
                  <a:pt x="304" y="0"/>
                  <a:pt x="440" y="0"/>
                  <a:pt x="472" y="8"/>
                </a:cubicBezTo>
                <a:cubicBezTo>
                  <a:pt x="504" y="16"/>
                  <a:pt x="492" y="43"/>
                  <a:pt x="424" y="56"/>
                </a:cubicBezTo>
                <a:cubicBezTo>
                  <a:pt x="356" y="69"/>
                  <a:pt x="128" y="86"/>
                  <a:pt x="64" y="86"/>
                </a:cubicBezTo>
                <a:cubicBezTo>
                  <a:pt x="0" y="86"/>
                  <a:pt x="45" y="62"/>
                  <a:pt x="40" y="56"/>
                </a:cubicBezTo>
                <a:close/>
              </a:path>
            </a:pathLst>
          </a:custGeom>
          <a:solidFill>
            <a:srgbClr val="f3f2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009960" y="6343560"/>
            <a:ext cx="361800" cy="362160"/>
          </a:xfrm>
          <a:custGeom>
            <a:avLst/>
            <a:gdLst/>
            <a:ahLst/>
            <a:rect l="l" t="t" r="r" b="b"/>
            <a:pathLst>
              <a:path w="228" h="228">
                <a:moveTo>
                  <a:pt x="72" y="228"/>
                </a:moveTo>
                <a:lnTo>
                  <a:pt x="168" y="228"/>
                </a:lnTo>
                <a:lnTo>
                  <a:pt x="228" y="60"/>
                </a:lnTo>
                <a:lnTo>
                  <a:pt x="84" y="0"/>
                </a:lnTo>
                <a:lnTo>
                  <a:pt x="0" y="186"/>
                </a:lnTo>
                <a:lnTo>
                  <a:pt x="72" y="2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305160" y="6505560"/>
            <a:ext cx="266760" cy="20016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42"/>
                </a:moveTo>
                <a:lnTo>
                  <a:pt x="168" y="126"/>
                </a:lnTo>
                <a:lnTo>
                  <a:pt x="0" y="126"/>
                </a:lnTo>
                <a:lnTo>
                  <a:pt x="42" y="0"/>
                </a:lnTo>
                <a:lnTo>
                  <a:pt x="168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6238800"/>
            <a:ext cx="479520" cy="1127160"/>
          </a:xfrm>
          <a:custGeom>
            <a:avLst/>
            <a:gdLst/>
            <a:ahLst/>
            <a:rect l="l" t="t" r="r" b="b"/>
            <a:pathLst>
              <a:path w="302" h="710">
                <a:moveTo>
                  <a:pt x="66" y="0"/>
                </a:moveTo>
                <a:cubicBezTo>
                  <a:pt x="50" y="8"/>
                  <a:pt x="59" y="221"/>
                  <a:pt x="48" y="294"/>
                </a:cubicBezTo>
                <a:cubicBezTo>
                  <a:pt x="37" y="367"/>
                  <a:pt x="0" y="390"/>
                  <a:pt x="0" y="438"/>
                </a:cubicBezTo>
                <a:cubicBezTo>
                  <a:pt x="0" y="486"/>
                  <a:pt x="30" y="550"/>
                  <a:pt x="48" y="582"/>
                </a:cubicBezTo>
                <a:cubicBezTo>
                  <a:pt x="66" y="614"/>
                  <a:pt x="84" y="629"/>
                  <a:pt x="108" y="630"/>
                </a:cubicBezTo>
                <a:cubicBezTo>
                  <a:pt x="132" y="631"/>
                  <a:pt x="161" y="584"/>
                  <a:pt x="192" y="588"/>
                </a:cubicBezTo>
                <a:cubicBezTo>
                  <a:pt x="216" y="596"/>
                  <a:pt x="302" y="710"/>
                  <a:pt x="294" y="654"/>
                </a:cubicBezTo>
                <a:lnTo>
                  <a:pt x="144" y="246"/>
                </a:lnTo>
                <a:lnTo>
                  <a:pt x="66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257480" y="7772400"/>
            <a:ext cx="161640" cy="466560"/>
          </a:xfrm>
          <a:custGeom>
            <a:avLst/>
            <a:gdLst/>
            <a:ahLst/>
            <a:rect l="l" t="t" r="r" b="b"/>
            <a:pathLst>
              <a:path w="102" h="294">
                <a:moveTo>
                  <a:pt x="60" y="0"/>
                </a:moveTo>
                <a:lnTo>
                  <a:pt x="102" y="294"/>
                </a:lnTo>
                <a:lnTo>
                  <a:pt x="0" y="210"/>
                </a:lnTo>
                <a:lnTo>
                  <a:pt x="60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533520" y="7143840"/>
            <a:ext cx="392040" cy="1390680"/>
          </a:xfrm>
          <a:custGeom>
            <a:avLst/>
            <a:gdLst/>
            <a:ahLst/>
            <a:rect l="l" t="t" r="r" b="b"/>
            <a:pathLst>
              <a:path w="247" h="876">
                <a:moveTo>
                  <a:pt x="186" y="0"/>
                </a:moveTo>
                <a:cubicBezTo>
                  <a:pt x="192" y="42"/>
                  <a:pt x="247" y="186"/>
                  <a:pt x="240" y="252"/>
                </a:cubicBezTo>
                <a:cubicBezTo>
                  <a:pt x="233" y="318"/>
                  <a:pt x="168" y="332"/>
                  <a:pt x="144" y="396"/>
                </a:cubicBezTo>
                <a:cubicBezTo>
                  <a:pt x="120" y="460"/>
                  <a:pt x="104" y="572"/>
                  <a:pt x="96" y="636"/>
                </a:cubicBezTo>
                <a:cubicBezTo>
                  <a:pt x="88" y="700"/>
                  <a:pt x="112" y="740"/>
                  <a:pt x="96" y="780"/>
                </a:cubicBezTo>
                <a:cubicBezTo>
                  <a:pt x="80" y="820"/>
                  <a:pt x="16" y="860"/>
                  <a:pt x="0" y="876"/>
                </a:cubicBezTo>
              </a:path>
            </a:pathLst>
          </a:custGeom>
          <a:noFill/>
          <a:ln w="2844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762200" y="646740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126" y="0"/>
                </a:moveTo>
                <a:lnTo>
                  <a:pt x="144" y="42"/>
                </a:lnTo>
                <a:lnTo>
                  <a:pt x="138" y="102"/>
                </a:lnTo>
                <a:lnTo>
                  <a:pt x="234" y="198"/>
                </a:lnTo>
                <a:lnTo>
                  <a:pt x="144" y="318"/>
                </a:lnTo>
                <a:lnTo>
                  <a:pt x="42" y="246"/>
                </a:lnTo>
                <a:lnTo>
                  <a:pt x="0" y="84"/>
                </a:lnTo>
                <a:lnTo>
                  <a:pt x="0" y="42"/>
                </a:lnTo>
                <a:lnTo>
                  <a:pt x="12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419120" y="6600960"/>
            <a:ext cx="371520" cy="333360"/>
          </a:xfrm>
          <a:custGeom>
            <a:avLst/>
            <a:gdLst/>
            <a:ahLst/>
            <a:rect l="l" t="t" r="r" b="b"/>
            <a:pathLst>
              <a:path w="234" h="210">
                <a:moveTo>
                  <a:pt x="0" y="72"/>
                </a:moveTo>
                <a:lnTo>
                  <a:pt x="48" y="210"/>
                </a:lnTo>
                <a:lnTo>
                  <a:pt x="234" y="150"/>
                </a:lnTo>
                <a:lnTo>
                  <a:pt x="192" y="0"/>
                </a:lnTo>
                <a:lnTo>
                  <a:pt x="0" y="7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457280" y="6867360"/>
            <a:ext cx="333360" cy="276480"/>
          </a:xfrm>
          <a:custGeom>
            <a:avLst/>
            <a:gdLst/>
            <a:ahLst/>
            <a:rect l="l" t="t" r="r" b="b"/>
            <a:pathLst>
              <a:path w="210" h="174">
                <a:moveTo>
                  <a:pt x="210" y="0"/>
                </a:moveTo>
                <a:lnTo>
                  <a:pt x="144" y="108"/>
                </a:lnTo>
                <a:lnTo>
                  <a:pt x="18" y="174"/>
                </a:lnTo>
                <a:lnTo>
                  <a:pt x="0" y="72"/>
                </a:lnTo>
                <a:lnTo>
                  <a:pt x="21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523880" y="7105680"/>
            <a:ext cx="266760" cy="438120"/>
          </a:xfrm>
          <a:custGeom>
            <a:avLst/>
            <a:gdLst/>
            <a:ahLst/>
            <a:rect l="l" t="t" r="r" b="b"/>
            <a:pathLst>
              <a:path w="168" h="276">
                <a:moveTo>
                  <a:pt x="168" y="60"/>
                </a:moveTo>
                <a:lnTo>
                  <a:pt x="96" y="180"/>
                </a:lnTo>
                <a:lnTo>
                  <a:pt x="144" y="228"/>
                </a:lnTo>
                <a:lnTo>
                  <a:pt x="96" y="276"/>
                </a:lnTo>
                <a:lnTo>
                  <a:pt x="48" y="228"/>
                </a:lnTo>
                <a:lnTo>
                  <a:pt x="0" y="36"/>
                </a:lnTo>
                <a:lnTo>
                  <a:pt x="102" y="0"/>
                </a:lnTo>
                <a:lnTo>
                  <a:pt x="168" y="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724040" y="7372440"/>
            <a:ext cx="609480" cy="361800"/>
          </a:xfrm>
          <a:custGeom>
            <a:avLst/>
            <a:gdLst/>
            <a:ahLst/>
            <a:rect l="l" t="t" r="r" b="b"/>
            <a:pathLst>
              <a:path w="384" h="228">
                <a:moveTo>
                  <a:pt x="270" y="186"/>
                </a:moveTo>
                <a:lnTo>
                  <a:pt x="384" y="102"/>
                </a:lnTo>
                <a:lnTo>
                  <a:pt x="234" y="0"/>
                </a:lnTo>
                <a:lnTo>
                  <a:pt x="114" y="108"/>
                </a:lnTo>
                <a:lnTo>
                  <a:pt x="42" y="78"/>
                </a:lnTo>
                <a:lnTo>
                  <a:pt x="0" y="144"/>
                </a:lnTo>
                <a:lnTo>
                  <a:pt x="126" y="228"/>
                </a:lnTo>
                <a:lnTo>
                  <a:pt x="270" y="18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3720" y="7543800"/>
            <a:ext cx="380880" cy="200160"/>
          </a:xfrm>
          <a:custGeom>
            <a:avLst/>
            <a:gdLst/>
            <a:ahLst/>
            <a:rect l="l" t="t" r="r" b="b"/>
            <a:pathLst>
              <a:path w="240" h="126">
                <a:moveTo>
                  <a:pt x="240" y="96"/>
                </a:moveTo>
                <a:lnTo>
                  <a:pt x="144" y="0"/>
                </a:lnTo>
                <a:lnTo>
                  <a:pt x="0" y="96"/>
                </a:lnTo>
                <a:lnTo>
                  <a:pt x="60" y="126"/>
                </a:lnTo>
                <a:lnTo>
                  <a:pt x="240" y="9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448000" y="7020000"/>
            <a:ext cx="38088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96" y="0"/>
                </a:moveTo>
                <a:lnTo>
                  <a:pt x="240" y="0"/>
                </a:lnTo>
                <a:lnTo>
                  <a:pt x="192" y="288"/>
                </a:lnTo>
                <a:lnTo>
                  <a:pt x="0" y="144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371600" y="5410080"/>
            <a:ext cx="22860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48" y="0"/>
                </a:moveTo>
                <a:lnTo>
                  <a:pt x="144" y="48"/>
                </a:lnTo>
                <a:lnTo>
                  <a:pt x="96" y="288"/>
                </a:lnTo>
                <a:lnTo>
                  <a:pt x="0" y="240"/>
                </a:lnTo>
                <a:lnTo>
                  <a:pt x="0" y="48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314360" y="6267600"/>
            <a:ext cx="371520" cy="371160"/>
          </a:xfrm>
          <a:custGeom>
            <a:avLst/>
            <a:gdLst/>
            <a:ahLst/>
            <a:rect l="l" t="t" r="r" b="b"/>
            <a:pathLst>
              <a:path w="234" h="234">
                <a:moveTo>
                  <a:pt x="48" y="234"/>
                </a:moveTo>
                <a:lnTo>
                  <a:pt x="0" y="144"/>
                </a:lnTo>
                <a:lnTo>
                  <a:pt x="0" y="0"/>
                </a:lnTo>
                <a:lnTo>
                  <a:pt x="126" y="0"/>
                </a:lnTo>
                <a:lnTo>
                  <a:pt x="174" y="36"/>
                </a:lnTo>
                <a:lnTo>
                  <a:pt x="234" y="168"/>
                </a:lnTo>
                <a:lnTo>
                  <a:pt x="48" y="2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552680" y="6029280"/>
            <a:ext cx="352440" cy="438120"/>
          </a:xfrm>
          <a:custGeom>
            <a:avLst/>
            <a:gdLst/>
            <a:ahLst/>
            <a:rect l="l" t="t" r="r" b="b"/>
            <a:pathLst>
              <a:path w="222" h="276">
                <a:moveTo>
                  <a:pt x="0" y="0"/>
                </a:moveTo>
                <a:lnTo>
                  <a:pt x="126" y="6"/>
                </a:lnTo>
                <a:lnTo>
                  <a:pt x="132" y="66"/>
                </a:lnTo>
                <a:lnTo>
                  <a:pt x="222" y="234"/>
                </a:lnTo>
                <a:lnTo>
                  <a:pt x="108" y="276"/>
                </a:lnTo>
                <a:lnTo>
                  <a:pt x="0" y="1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rot="5890200">
            <a:off x="4041360" y="8194680"/>
            <a:ext cx="8568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H="1" flipV="1">
            <a:off x="4105440" y="7924320"/>
            <a:ext cx="9360" cy="30492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4038480" y="8305920"/>
            <a:ext cx="47880" cy="45720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809880" y="876312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96" y="0"/>
                </a:moveTo>
                <a:lnTo>
                  <a:pt x="240" y="0"/>
                </a:lnTo>
                <a:lnTo>
                  <a:pt x="288" y="96"/>
                </a:lnTo>
                <a:lnTo>
                  <a:pt x="288" y="240"/>
                </a:lnTo>
                <a:lnTo>
                  <a:pt x="240" y="240"/>
                </a:lnTo>
                <a:lnTo>
                  <a:pt x="0" y="192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457440" y="8810640"/>
            <a:ext cx="40032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252" y="48"/>
                </a:moveTo>
                <a:lnTo>
                  <a:pt x="168" y="192"/>
                </a:lnTo>
                <a:lnTo>
                  <a:pt x="0" y="114"/>
                </a:lnTo>
                <a:lnTo>
                  <a:pt x="24" y="0"/>
                </a:lnTo>
                <a:lnTo>
                  <a:pt x="210" y="6"/>
                </a:lnTo>
                <a:lnTo>
                  <a:pt x="252" y="48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334040" y="8753400"/>
            <a:ext cx="799920" cy="238320"/>
          </a:xfrm>
          <a:custGeom>
            <a:avLst/>
            <a:gdLst/>
            <a:ahLst/>
            <a:rect l="l" t="t" r="r" b="b"/>
            <a:pathLst>
              <a:path w="504" h="150">
                <a:moveTo>
                  <a:pt x="44" y="42"/>
                </a:moveTo>
                <a:lnTo>
                  <a:pt x="0" y="74"/>
                </a:lnTo>
                <a:lnTo>
                  <a:pt x="0" y="131"/>
                </a:lnTo>
                <a:lnTo>
                  <a:pt x="185" y="150"/>
                </a:lnTo>
                <a:lnTo>
                  <a:pt x="504" y="66"/>
                </a:lnTo>
                <a:lnTo>
                  <a:pt x="462" y="0"/>
                </a:lnTo>
                <a:lnTo>
                  <a:pt x="44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133720" y="4038480"/>
            <a:ext cx="3429000" cy="2286000"/>
          </a:xfrm>
          <a:custGeom>
            <a:avLst/>
            <a:gdLst/>
            <a:ahLst/>
            <a:rect l="l" t="t" r="r" b="b"/>
            <a:pathLst>
              <a:path w="2160" h="1440">
                <a:moveTo>
                  <a:pt x="0" y="48"/>
                </a:moveTo>
                <a:lnTo>
                  <a:pt x="192" y="0"/>
                </a:lnTo>
                <a:lnTo>
                  <a:pt x="672" y="144"/>
                </a:lnTo>
                <a:lnTo>
                  <a:pt x="768" y="192"/>
                </a:lnTo>
                <a:lnTo>
                  <a:pt x="1200" y="432"/>
                </a:lnTo>
                <a:lnTo>
                  <a:pt x="1680" y="960"/>
                </a:lnTo>
                <a:lnTo>
                  <a:pt x="1680" y="1008"/>
                </a:lnTo>
                <a:lnTo>
                  <a:pt x="1968" y="1200"/>
                </a:lnTo>
                <a:lnTo>
                  <a:pt x="2052" y="1242"/>
                </a:lnTo>
                <a:lnTo>
                  <a:pt x="2160" y="14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219320" y="4191120"/>
            <a:ext cx="761760" cy="1295280"/>
          </a:xfrm>
          <a:custGeom>
            <a:avLst/>
            <a:gdLst/>
            <a:ahLst/>
            <a:rect l="l" t="t" r="r" b="b"/>
            <a:pathLst>
              <a:path w="480" h="816">
                <a:moveTo>
                  <a:pt x="480" y="0"/>
                </a:moveTo>
                <a:lnTo>
                  <a:pt x="432" y="48"/>
                </a:lnTo>
                <a:lnTo>
                  <a:pt x="240" y="192"/>
                </a:lnTo>
                <a:lnTo>
                  <a:pt x="240" y="336"/>
                </a:lnTo>
                <a:lnTo>
                  <a:pt x="144" y="576"/>
                </a:lnTo>
                <a:lnTo>
                  <a:pt x="48" y="768"/>
                </a:lnTo>
                <a:lnTo>
                  <a:pt x="0" y="8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15000" y="647712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0"/>
                </a:moveTo>
                <a:lnTo>
                  <a:pt x="144" y="144"/>
                </a:lnTo>
                <a:lnTo>
                  <a:pt x="288" y="4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676520" y="4419720"/>
            <a:ext cx="419040" cy="304560"/>
          </a:xfrm>
          <a:custGeom>
            <a:avLst/>
            <a:gdLst/>
            <a:ahLst/>
            <a:rect l="l" t="t" r="r" b="b"/>
            <a:pathLst>
              <a:path w="264" h="192">
                <a:moveTo>
                  <a:pt x="0" y="144"/>
                </a:moveTo>
                <a:lnTo>
                  <a:pt x="258" y="192"/>
                </a:lnTo>
                <a:lnTo>
                  <a:pt x="264" y="108"/>
                </a:lnTo>
                <a:lnTo>
                  <a:pt x="240" y="0"/>
                </a:lnTo>
                <a:lnTo>
                  <a:pt x="0" y="48"/>
                </a:lnTo>
                <a:lnTo>
                  <a:pt x="0" y="1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rot="1624200">
            <a:off x="4833720" y="7481880"/>
            <a:ext cx="85680" cy="228600"/>
          </a:xfrm>
          <a:custGeom>
            <a:avLst/>
            <a:gdLst/>
            <a:ahLst/>
            <a:rect l="l" t="t" r="r" b="b"/>
            <a:pathLst>
              <a:path w="256" h="594">
                <a:moveTo>
                  <a:pt x="133" y="0"/>
                </a:moveTo>
                <a:cubicBezTo>
                  <a:pt x="165" y="1"/>
                  <a:pt x="209" y="159"/>
                  <a:pt x="224" y="258"/>
                </a:cubicBezTo>
                <a:cubicBezTo>
                  <a:pt x="239" y="357"/>
                  <a:pt x="256" y="538"/>
                  <a:pt x="224" y="594"/>
                </a:cubicBezTo>
                <a:lnTo>
                  <a:pt x="32" y="594"/>
                </a:lnTo>
                <a:cubicBezTo>
                  <a:pt x="0" y="537"/>
                  <a:pt x="15" y="351"/>
                  <a:pt x="32" y="252"/>
                </a:cubicBezTo>
                <a:cubicBezTo>
                  <a:pt x="49" y="153"/>
                  <a:pt x="112" y="52"/>
                  <a:pt x="133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rot="3793800">
            <a:off x="3576240" y="7691400"/>
            <a:ext cx="85680" cy="228600"/>
          </a:xfrm>
          <a:custGeom>
            <a:avLst/>
            <a:gdLst/>
            <a:ahLst/>
            <a:rect l="l" t="t" r="r" b="b"/>
            <a:pathLst>
              <a:path w="256" h="594">
                <a:moveTo>
                  <a:pt x="133" y="0"/>
                </a:moveTo>
                <a:cubicBezTo>
                  <a:pt x="165" y="1"/>
                  <a:pt x="209" y="159"/>
                  <a:pt x="224" y="258"/>
                </a:cubicBezTo>
                <a:cubicBezTo>
                  <a:pt x="239" y="357"/>
                  <a:pt x="256" y="538"/>
                  <a:pt x="224" y="594"/>
                </a:cubicBezTo>
                <a:lnTo>
                  <a:pt x="32" y="594"/>
                </a:lnTo>
                <a:cubicBezTo>
                  <a:pt x="0" y="537"/>
                  <a:pt x="15" y="351"/>
                  <a:pt x="32" y="252"/>
                </a:cubicBezTo>
                <a:cubicBezTo>
                  <a:pt x="49" y="153"/>
                  <a:pt x="112" y="52"/>
                  <a:pt x="133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rot="1141800">
            <a:off x="4986000" y="7443720"/>
            <a:ext cx="85680" cy="228600"/>
          </a:xfrm>
          <a:custGeom>
            <a:avLst/>
            <a:gdLst/>
            <a:ahLst/>
            <a:rect l="l" t="t" r="r" b="b"/>
            <a:pathLst>
              <a:path w="256" h="594">
                <a:moveTo>
                  <a:pt x="133" y="0"/>
                </a:moveTo>
                <a:cubicBezTo>
                  <a:pt x="165" y="1"/>
                  <a:pt x="209" y="159"/>
                  <a:pt x="224" y="258"/>
                </a:cubicBezTo>
                <a:cubicBezTo>
                  <a:pt x="239" y="357"/>
                  <a:pt x="256" y="538"/>
                  <a:pt x="224" y="594"/>
                </a:cubicBezTo>
                <a:lnTo>
                  <a:pt x="32" y="594"/>
                </a:lnTo>
                <a:cubicBezTo>
                  <a:pt x="0" y="537"/>
                  <a:pt x="15" y="351"/>
                  <a:pt x="32" y="252"/>
                </a:cubicBezTo>
                <a:cubicBezTo>
                  <a:pt x="49" y="153"/>
                  <a:pt x="112" y="52"/>
                  <a:pt x="133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rot="11877600">
            <a:off x="4376520" y="8557560"/>
            <a:ext cx="85680" cy="228600"/>
          </a:xfrm>
          <a:custGeom>
            <a:avLst/>
            <a:gdLst/>
            <a:ahLst/>
            <a:rect l="l" t="t" r="r" b="b"/>
            <a:pathLst>
              <a:path w="256" h="594">
                <a:moveTo>
                  <a:pt x="133" y="0"/>
                </a:moveTo>
                <a:cubicBezTo>
                  <a:pt x="165" y="1"/>
                  <a:pt x="209" y="159"/>
                  <a:pt x="224" y="258"/>
                </a:cubicBezTo>
                <a:cubicBezTo>
                  <a:pt x="239" y="357"/>
                  <a:pt x="256" y="538"/>
                  <a:pt x="224" y="594"/>
                </a:cubicBezTo>
                <a:lnTo>
                  <a:pt x="32" y="594"/>
                </a:lnTo>
                <a:cubicBezTo>
                  <a:pt x="0" y="537"/>
                  <a:pt x="15" y="351"/>
                  <a:pt x="32" y="252"/>
                </a:cubicBezTo>
                <a:cubicBezTo>
                  <a:pt x="49" y="153"/>
                  <a:pt x="112" y="52"/>
                  <a:pt x="133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52280" y="3925800"/>
            <a:ext cx="1947960" cy="341280"/>
          </a:xfrm>
          <a:custGeom>
            <a:avLst/>
            <a:gdLst/>
            <a:ahLst/>
            <a:rect l="l" t="t" r="r" b="b"/>
            <a:pathLst>
              <a:path w="1227" h="215">
                <a:moveTo>
                  <a:pt x="0" y="119"/>
                </a:moveTo>
                <a:cubicBezTo>
                  <a:pt x="79" y="119"/>
                  <a:pt x="347" y="138"/>
                  <a:pt x="472" y="119"/>
                </a:cubicBezTo>
                <a:cubicBezTo>
                  <a:pt x="597" y="100"/>
                  <a:pt x="641" y="14"/>
                  <a:pt x="752" y="7"/>
                </a:cubicBezTo>
                <a:cubicBezTo>
                  <a:pt x="863" y="0"/>
                  <a:pt x="1057" y="43"/>
                  <a:pt x="1136" y="78"/>
                </a:cubicBezTo>
                <a:cubicBezTo>
                  <a:pt x="1227" y="151"/>
                  <a:pt x="1208" y="187"/>
                  <a:pt x="1227" y="215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570640" y="6032520"/>
            <a:ext cx="1058760" cy="411120"/>
          </a:xfrm>
          <a:custGeom>
            <a:avLst/>
            <a:gdLst/>
            <a:ahLst/>
            <a:rect l="l" t="t" r="r" b="b"/>
            <a:pathLst>
              <a:path w="667" h="259">
                <a:moveTo>
                  <a:pt x="0" y="259"/>
                </a:moveTo>
                <a:cubicBezTo>
                  <a:pt x="55" y="235"/>
                  <a:pt x="220" y="197"/>
                  <a:pt x="331" y="154"/>
                </a:cubicBezTo>
                <a:cubicBezTo>
                  <a:pt x="442" y="111"/>
                  <a:pt x="597" y="32"/>
                  <a:pt x="667" y="0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590920" y="9144000"/>
            <a:ext cx="1371600" cy="228600"/>
          </a:xfrm>
          <a:custGeom>
            <a:avLst/>
            <a:gdLst/>
            <a:ahLst/>
            <a:rect l="l" t="t" r="r" b="b"/>
            <a:pathLst>
              <a:path w="864" h="144">
                <a:moveTo>
                  <a:pt x="864" y="0"/>
                </a:moveTo>
                <a:cubicBezTo>
                  <a:pt x="836" y="9"/>
                  <a:pt x="785" y="47"/>
                  <a:pt x="697" y="55"/>
                </a:cubicBezTo>
                <a:cubicBezTo>
                  <a:pt x="609" y="63"/>
                  <a:pt x="472" y="40"/>
                  <a:pt x="336" y="48"/>
                </a:cubicBezTo>
                <a:cubicBezTo>
                  <a:pt x="200" y="56"/>
                  <a:pt x="70" y="124"/>
                  <a:pt x="0" y="144"/>
                </a:cubicBez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454040" y="8670960"/>
            <a:ext cx="1924200" cy="525600"/>
          </a:xfrm>
          <a:custGeom>
            <a:avLst/>
            <a:gdLst/>
            <a:ahLst/>
            <a:rect l="l" t="t" r="r" b="b"/>
            <a:pathLst>
              <a:path w="1212" h="331">
                <a:moveTo>
                  <a:pt x="33" y="261"/>
                </a:moveTo>
                <a:cubicBezTo>
                  <a:pt x="48" y="299"/>
                  <a:pt x="300" y="331"/>
                  <a:pt x="417" y="325"/>
                </a:cubicBezTo>
                <a:cubicBezTo>
                  <a:pt x="534" y="319"/>
                  <a:pt x="605" y="268"/>
                  <a:pt x="737" y="225"/>
                </a:cubicBezTo>
                <a:cubicBezTo>
                  <a:pt x="869" y="182"/>
                  <a:pt x="1212" y="106"/>
                  <a:pt x="1212" y="69"/>
                </a:cubicBezTo>
                <a:cubicBezTo>
                  <a:pt x="1212" y="32"/>
                  <a:pt x="885" y="0"/>
                  <a:pt x="737" y="5"/>
                </a:cubicBezTo>
                <a:cubicBezTo>
                  <a:pt x="589" y="10"/>
                  <a:pt x="442" y="54"/>
                  <a:pt x="325" y="97"/>
                </a:cubicBezTo>
                <a:cubicBezTo>
                  <a:pt x="208" y="140"/>
                  <a:pt x="0" y="212"/>
                  <a:pt x="33" y="261"/>
                </a:cubicBez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93720" y="7345440"/>
            <a:ext cx="609480" cy="968400"/>
          </a:xfrm>
          <a:custGeom>
            <a:avLst/>
            <a:gdLst/>
            <a:ahLst/>
            <a:rect l="l" t="t" r="r" b="b"/>
            <a:pathLst>
              <a:path w="384" h="610">
                <a:moveTo>
                  <a:pt x="384" y="392"/>
                </a:moveTo>
                <a:cubicBezTo>
                  <a:pt x="320" y="484"/>
                  <a:pt x="226" y="558"/>
                  <a:pt x="164" y="584"/>
                </a:cubicBezTo>
                <a:cubicBezTo>
                  <a:pt x="102" y="610"/>
                  <a:pt x="15" y="603"/>
                  <a:pt x="14" y="550"/>
                </a:cubicBezTo>
                <a:cubicBezTo>
                  <a:pt x="0" y="365"/>
                  <a:pt x="125" y="348"/>
                  <a:pt x="155" y="264"/>
                </a:cubicBezTo>
                <a:cubicBezTo>
                  <a:pt x="185" y="180"/>
                  <a:pt x="164" y="62"/>
                  <a:pt x="192" y="45"/>
                </a:cubicBezTo>
                <a:cubicBezTo>
                  <a:pt x="234" y="39"/>
                  <a:pt x="256" y="0"/>
                  <a:pt x="320" y="164"/>
                </a:cubicBezTo>
                <a:cubicBezTo>
                  <a:pt x="384" y="328"/>
                  <a:pt x="383" y="230"/>
                  <a:pt x="384" y="392"/>
                </a:cubicBez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87480" y="3936960"/>
            <a:ext cx="10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ボーマン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47800" y="5942160"/>
            <a:ext cx="336600" cy="1054080"/>
          </a:xfrm>
          <a:custGeom>
            <a:avLst/>
            <a:gdLst/>
            <a:ahLst/>
            <a:rect l="l" t="t" r="r" b="b"/>
            <a:pathLst>
              <a:path w="212" h="664">
                <a:moveTo>
                  <a:pt x="195" y="664"/>
                </a:moveTo>
                <a:cubicBezTo>
                  <a:pt x="212" y="664"/>
                  <a:pt x="207" y="561"/>
                  <a:pt x="195" y="508"/>
                </a:cubicBezTo>
                <a:cubicBezTo>
                  <a:pt x="183" y="455"/>
                  <a:pt x="143" y="408"/>
                  <a:pt x="122" y="344"/>
                </a:cubicBezTo>
                <a:cubicBezTo>
                  <a:pt x="101" y="280"/>
                  <a:pt x="83" y="181"/>
                  <a:pt x="71" y="125"/>
                </a:cubicBezTo>
                <a:cubicBezTo>
                  <a:pt x="59" y="69"/>
                  <a:pt x="61" y="10"/>
                  <a:pt x="50" y="5"/>
                </a:cubicBezTo>
                <a:cubicBezTo>
                  <a:pt x="39" y="0"/>
                  <a:pt x="6" y="45"/>
                  <a:pt x="3" y="97"/>
                </a:cubicBezTo>
                <a:cubicBezTo>
                  <a:pt x="0" y="149"/>
                  <a:pt x="16" y="248"/>
                  <a:pt x="31" y="316"/>
                </a:cubicBezTo>
                <a:cubicBezTo>
                  <a:pt x="46" y="384"/>
                  <a:pt x="68" y="450"/>
                  <a:pt x="95" y="508"/>
                </a:cubicBezTo>
                <a:cubicBezTo>
                  <a:pt x="122" y="566"/>
                  <a:pt x="169" y="659"/>
                  <a:pt x="195" y="664"/>
                </a:cubicBez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3301800">
            <a:off x="5689800" y="6457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rot="3301800">
            <a:off x="5505120" y="627336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rot="3748800">
            <a:off x="1929960" y="417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rot="3748800">
            <a:off x="2120760" y="407016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rot="3754800">
            <a:off x="5295240" y="4654440"/>
            <a:ext cx="393840" cy="393480"/>
          </a:xfrm>
          <a:custGeom>
            <a:avLst/>
            <a:gdLst/>
            <a:ahLst/>
            <a:rect l="l" t="t" r="r" b="b"/>
            <a:pathLst>
              <a:path w="268" h="228">
                <a:moveTo>
                  <a:pt x="28" y="195"/>
                </a:moveTo>
                <a:cubicBezTo>
                  <a:pt x="44" y="208"/>
                  <a:pt x="72" y="228"/>
                  <a:pt x="108" y="202"/>
                </a:cubicBezTo>
                <a:cubicBezTo>
                  <a:pt x="144" y="176"/>
                  <a:pt x="124" y="163"/>
                  <a:pt x="148" y="156"/>
                </a:cubicBezTo>
                <a:cubicBezTo>
                  <a:pt x="220" y="156"/>
                  <a:pt x="268" y="156"/>
                  <a:pt x="268" y="156"/>
                </a:cubicBezTo>
                <a:lnTo>
                  <a:pt x="268" y="0"/>
                </a:lnTo>
                <a:cubicBezTo>
                  <a:pt x="268" y="0"/>
                  <a:pt x="172" y="0"/>
                  <a:pt x="76" y="0"/>
                </a:cubicBezTo>
                <a:cubicBezTo>
                  <a:pt x="72" y="42"/>
                  <a:pt x="80" y="101"/>
                  <a:pt x="80" y="101"/>
                </a:cubicBezTo>
                <a:cubicBezTo>
                  <a:pt x="80" y="101"/>
                  <a:pt x="32" y="84"/>
                  <a:pt x="16" y="128"/>
                </a:cubicBezTo>
                <a:cubicBezTo>
                  <a:pt x="0" y="172"/>
                  <a:pt x="12" y="182"/>
                  <a:pt x="28" y="19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157720" y="4545000"/>
            <a:ext cx="609840" cy="577800"/>
          </a:xfrm>
          <a:custGeom>
            <a:avLst/>
            <a:gdLst/>
            <a:ahLst/>
            <a:rect l="l" t="t" r="r" b="b"/>
            <a:pathLst>
              <a:path w="384" h="364">
                <a:moveTo>
                  <a:pt x="12" y="196"/>
                </a:moveTo>
                <a:lnTo>
                  <a:pt x="0" y="152"/>
                </a:lnTo>
                <a:lnTo>
                  <a:pt x="68" y="56"/>
                </a:lnTo>
                <a:lnTo>
                  <a:pt x="236" y="0"/>
                </a:lnTo>
                <a:lnTo>
                  <a:pt x="384" y="248"/>
                </a:lnTo>
                <a:lnTo>
                  <a:pt x="140" y="364"/>
                </a:lnTo>
                <a:lnTo>
                  <a:pt x="40" y="2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737240" y="4876920"/>
            <a:ext cx="596880" cy="672840"/>
          </a:xfrm>
          <a:custGeom>
            <a:avLst/>
            <a:gdLst/>
            <a:ahLst/>
            <a:rect l="l" t="t" r="r" b="b"/>
            <a:pathLst>
              <a:path w="416" h="500">
                <a:moveTo>
                  <a:pt x="0" y="500"/>
                </a:moveTo>
                <a:lnTo>
                  <a:pt x="416" y="0"/>
                </a:lnTo>
              </a:path>
            </a:pathLst>
          </a:cu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200400" y="541008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領主の館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133720" y="4572000"/>
            <a:ext cx="457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北広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200400" y="6095880"/>
            <a:ext cx="28440" cy="2286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819520" y="388620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宿と酒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「かがり火と煙」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2590920" y="6781320"/>
            <a:ext cx="152280" cy="1143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95680" y="7696080"/>
            <a:ext cx="457200" cy="152640"/>
          </a:xfrm>
          <a:custGeom>
            <a:avLst/>
            <a:gdLst/>
            <a:ahLst/>
            <a:rect l="l" t="t" r="r" b="b"/>
            <a:pathLst>
              <a:path w="288" h="96">
                <a:moveTo>
                  <a:pt x="288" y="96"/>
                </a:moveTo>
                <a:lnTo>
                  <a:pt x="96" y="0"/>
                </a:lnTo>
                <a:lnTo>
                  <a:pt x="0" y="48"/>
                </a:lnTo>
              </a:path>
            </a:pathLst>
          </a:custGeom>
          <a:noFill/>
          <a:ln w="9360">
            <a:solidFill>
              <a:srgbClr val="00008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000160" y="782964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雑貨店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「ペリカン屋」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038480" y="6124680"/>
            <a:ext cx="5335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レイフー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商工組合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91200" y="469584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アイウー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駐留軍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800600" y="778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ファラングンの廟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(</a:t>
            </a: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宿を兼ねる</a:t>
            </a: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047600" y="597204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墓地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2742840" y="4114800"/>
            <a:ext cx="304920" cy="6858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200240" y="62676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アイウーズ神殿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743280" y="6620040"/>
            <a:ext cx="457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東広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933640" y="58770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魔術師ギル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029200" y="6934320"/>
            <a:ext cx="533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警備兵の詰め所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52280" y="3200400"/>
            <a:ext cx="152640" cy="228600"/>
          </a:xfrm>
          <a:custGeom>
            <a:avLst/>
            <a:gdLst/>
            <a:ahLst/>
            <a:rect l="l" t="t" r="r" b="b"/>
            <a:pathLst>
              <a:path w="96" h="144">
                <a:moveTo>
                  <a:pt x="0" y="144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rot="10800000">
            <a:off x="6553080" y="9143640"/>
            <a:ext cx="152640" cy="228600"/>
          </a:xfrm>
          <a:custGeom>
            <a:avLst/>
            <a:gdLst/>
            <a:ahLst/>
            <a:rect l="l" t="t" r="r" b="b"/>
            <a:pathLst>
              <a:path w="96" h="144">
                <a:moveTo>
                  <a:pt x="0" y="144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704880" y="3214800"/>
            <a:ext cx="123840" cy="10944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17520" y="3403440"/>
            <a:ext cx="787320" cy="641520"/>
          </a:xfrm>
          <a:custGeom>
            <a:avLst/>
            <a:gdLst/>
            <a:ahLst/>
            <a:rect l="l" t="t" r="r" b="b"/>
            <a:pathLst>
              <a:path w="496" h="404">
                <a:moveTo>
                  <a:pt x="496" y="312"/>
                </a:moveTo>
                <a:cubicBezTo>
                  <a:pt x="432" y="404"/>
                  <a:pt x="443" y="364"/>
                  <a:pt x="360" y="336"/>
                </a:cubicBezTo>
                <a:cubicBezTo>
                  <a:pt x="277" y="308"/>
                  <a:pt x="28" y="185"/>
                  <a:pt x="0" y="144"/>
                </a:cubicBezTo>
                <a:cubicBezTo>
                  <a:pt x="104" y="0"/>
                  <a:pt x="141" y="103"/>
                  <a:pt x="192" y="88"/>
                </a:cubicBezTo>
                <a:cubicBezTo>
                  <a:pt x="243" y="73"/>
                  <a:pt x="268" y="41"/>
                  <a:pt x="304" y="56"/>
                </a:cubicBezTo>
                <a:cubicBezTo>
                  <a:pt x="346" y="50"/>
                  <a:pt x="344" y="16"/>
                  <a:pt x="408" y="180"/>
                </a:cubicBezTo>
                <a:cubicBezTo>
                  <a:pt x="472" y="344"/>
                  <a:pt x="495" y="150"/>
                  <a:pt x="496" y="312"/>
                </a:cubicBez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343320"/>
            <a:ext cx="166680" cy="156960"/>
          </a:xfrm>
          <a:custGeom>
            <a:avLst/>
            <a:gdLst/>
            <a:ahLst/>
            <a:rect l="l" t="t" r="r" b="b"/>
            <a:pathLst>
              <a:path w="105" h="99">
                <a:moveTo>
                  <a:pt x="0" y="57"/>
                </a:moveTo>
                <a:lnTo>
                  <a:pt x="54" y="0"/>
                </a:lnTo>
                <a:lnTo>
                  <a:pt x="105" y="57"/>
                </a:lnTo>
                <a:lnTo>
                  <a:pt x="42" y="99"/>
                </a:lnTo>
                <a:lnTo>
                  <a:pt x="0" y="5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57200" y="3457440"/>
            <a:ext cx="533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水車小屋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00200" y="406728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北門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486400" y="620064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東門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143000" y="794376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宿と酒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「歌う杯」亭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676520" y="6781320"/>
            <a:ext cx="380880" cy="1219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/>
          <p:nvPr/>
        </p:nvSpPr>
        <p:spPr>
          <a:xfrm>
            <a:off x="228600" y="3581280"/>
            <a:ext cx="838080" cy="1067040"/>
          </a:xfrm>
          <a:custGeom>
            <a:avLst/>
            <a:gdLst/>
            <a:ahLst/>
            <a:rect l="l" t="t" r="r" b="b"/>
            <a:pathLst>
              <a:path w="528" h="672">
                <a:moveTo>
                  <a:pt x="0" y="144"/>
                </a:moveTo>
                <a:lnTo>
                  <a:pt x="0" y="672"/>
                </a:lnTo>
                <a:lnTo>
                  <a:pt x="96" y="480"/>
                </a:lnTo>
                <a:lnTo>
                  <a:pt x="288" y="384"/>
                </a:lnTo>
                <a:lnTo>
                  <a:pt x="384" y="384"/>
                </a:lnTo>
                <a:lnTo>
                  <a:pt x="480" y="336"/>
                </a:lnTo>
                <a:lnTo>
                  <a:pt x="528" y="240"/>
                </a:lnTo>
                <a:lnTo>
                  <a:pt x="480" y="144"/>
                </a:lnTo>
                <a:lnTo>
                  <a:pt x="528" y="0"/>
                </a:lnTo>
                <a:lnTo>
                  <a:pt x="0" y="14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679840" y="7023240"/>
            <a:ext cx="749160" cy="825480"/>
          </a:xfrm>
          <a:custGeom>
            <a:avLst/>
            <a:gdLst/>
            <a:ahLst/>
            <a:rect l="l" t="t" r="r" b="b"/>
            <a:pathLst>
              <a:path w="472" h="520">
                <a:moveTo>
                  <a:pt x="248" y="0"/>
                </a:moveTo>
                <a:lnTo>
                  <a:pt x="424" y="88"/>
                </a:lnTo>
                <a:lnTo>
                  <a:pt x="472" y="280"/>
                </a:lnTo>
                <a:lnTo>
                  <a:pt x="360" y="336"/>
                </a:lnTo>
                <a:lnTo>
                  <a:pt x="248" y="336"/>
                </a:lnTo>
                <a:lnTo>
                  <a:pt x="88" y="520"/>
                </a:lnTo>
                <a:lnTo>
                  <a:pt x="0" y="448"/>
                </a:lnTo>
                <a:lnTo>
                  <a:pt x="24" y="304"/>
                </a:lnTo>
                <a:lnTo>
                  <a:pt x="136" y="40"/>
                </a:lnTo>
                <a:lnTo>
                  <a:pt x="248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641680" y="6959520"/>
            <a:ext cx="749160" cy="825480"/>
          </a:xfrm>
          <a:custGeom>
            <a:avLst/>
            <a:gdLst/>
            <a:ahLst/>
            <a:rect l="l" t="t" r="r" b="b"/>
            <a:pathLst>
              <a:path w="472" h="520">
                <a:moveTo>
                  <a:pt x="248" y="0"/>
                </a:moveTo>
                <a:lnTo>
                  <a:pt x="424" y="88"/>
                </a:lnTo>
                <a:lnTo>
                  <a:pt x="472" y="280"/>
                </a:lnTo>
                <a:lnTo>
                  <a:pt x="360" y="336"/>
                </a:lnTo>
                <a:lnTo>
                  <a:pt x="248" y="336"/>
                </a:lnTo>
                <a:lnTo>
                  <a:pt x="88" y="520"/>
                </a:lnTo>
                <a:lnTo>
                  <a:pt x="0" y="448"/>
                </a:lnTo>
                <a:lnTo>
                  <a:pt x="24" y="304"/>
                </a:lnTo>
                <a:lnTo>
                  <a:pt x="136" y="40"/>
                </a:lnTo>
                <a:lnTo>
                  <a:pt x="2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782800" y="2743200"/>
            <a:ext cx="3694320" cy="3772080"/>
          </a:xfrm>
          <a:custGeom>
            <a:avLst/>
            <a:gdLst/>
            <a:ahLst/>
            <a:rect l="l" t="t" r="r" b="b"/>
            <a:pathLst>
              <a:path w="2327" h="2376">
                <a:moveTo>
                  <a:pt x="347" y="318"/>
                </a:moveTo>
                <a:cubicBezTo>
                  <a:pt x="617" y="276"/>
                  <a:pt x="1997" y="36"/>
                  <a:pt x="2327" y="0"/>
                </a:cubicBezTo>
                <a:lnTo>
                  <a:pt x="2321" y="1686"/>
                </a:lnTo>
                <a:cubicBezTo>
                  <a:pt x="2257" y="2047"/>
                  <a:pt x="2153" y="1956"/>
                  <a:pt x="1943" y="2166"/>
                </a:cubicBezTo>
                <a:cubicBezTo>
                  <a:pt x="1733" y="2376"/>
                  <a:pt x="1194" y="2093"/>
                  <a:pt x="1019" y="2082"/>
                </a:cubicBezTo>
                <a:cubicBezTo>
                  <a:pt x="844" y="2071"/>
                  <a:pt x="761" y="1287"/>
                  <a:pt x="599" y="1200"/>
                </a:cubicBezTo>
                <a:cubicBezTo>
                  <a:pt x="437" y="1113"/>
                  <a:pt x="155" y="1148"/>
                  <a:pt x="95" y="1098"/>
                </a:cubicBezTo>
                <a:cubicBezTo>
                  <a:pt x="0" y="1118"/>
                  <a:pt x="96" y="843"/>
                  <a:pt x="137" y="738"/>
                </a:cubicBezTo>
                <a:cubicBezTo>
                  <a:pt x="148" y="626"/>
                  <a:pt x="179" y="468"/>
                  <a:pt x="347" y="318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rot="10800000">
            <a:off x="3962520" y="5867280"/>
            <a:ext cx="2768400" cy="3524400"/>
          </a:xfrm>
          <a:custGeom>
            <a:avLst/>
            <a:gdLst/>
            <a:ahLst/>
            <a:rect l="l" t="t" r="r" b="b"/>
            <a:pathLst>
              <a:path w="1744" h="2220">
                <a:moveTo>
                  <a:pt x="176" y="228"/>
                </a:moveTo>
                <a:lnTo>
                  <a:pt x="592" y="204"/>
                </a:lnTo>
                <a:lnTo>
                  <a:pt x="994" y="0"/>
                </a:lnTo>
                <a:lnTo>
                  <a:pt x="1306" y="84"/>
                </a:lnTo>
                <a:lnTo>
                  <a:pt x="1180" y="486"/>
                </a:lnTo>
                <a:lnTo>
                  <a:pt x="1312" y="636"/>
                </a:lnTo>
                <a:lnTo>
                  <a:pt x="1534" y="642"/>
                </a:lnTo>
                <a:lnTo>
                  <a:pt x="1744" y="1038"/>
                </a:lnTo>
                <a:lnTo>
                  <a:pt x="1222" y="1314"/>
                </a:lnTo>
                <a:lnTo>
                  <a:pt x="1164" y="1708"/>
                </a:lnTo>
                <a:lnTo>
                  <a:pt x="1204" y="1776"/>
                </a:lnTo>
                <a:lnTo>
                  <a:pt x="1148" y="1832"/>
                </a:lnTo>
                <a:lnTo>
                  <a:pt x="1080" y="1804"/>
                </a:lnTo>
                <a:lnTo>
                  <a:pt x="560" y="1940"/>
                </a:lnTo>
                <a:lnTo>
                  <a:pt x="280" y="2220"/>
                </a:lnTo>
                <a:lnTo>
                  <a:pt x="8" y="2132"/>
                </a:lnTo>
                <a:lnTo>
                  <a:pt x="0" y="1716"/>
                </a:lnTo>
                <a:lnTo>
                  <a:pt x="256" y="1516"/>
                </a:lnTo>
                <a:lnTo>
                  <a:pt x="298" y="1362"/>
                </a:lnTo>
                <a:lnTo>
                  <a:pt x="10" y="876"/>
                </a:lnTo>
                <a:lnTo>
                  <a:pt x="154" y="588"/>
                </a:lnTo>
                <a:lnTo>
                  <a:pt x="176" y="2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28600" y="6858000"/>
            <a:ext cx="2076480" cy="2438280"/>
          </a:xfrm>
          <a:custGeom>
            <a:avLst/>
            <a:gdLst/>
            <a:ahLst/>
            <a:rect l="l" t="t" r="r" b="b"/>
            <a:pathLst>
              <a:path w="1308" h="1536">
                <a:moveTo>
                  <a:pt x="12" y="0"/>
                </a:moveTo>
                <a:lnTo>
                  <a:pt x="96" y="192"/>
                </a:lnTo>
                <a:lnTo>
                  <a:pt x="240" y="288"/>
                </a:lnTo>
                <a:lnTo>
                  <a:pt x="432" y="96"/>
                </a:lnTo>
                <a:lnTo>
                  <a:pt x="768" y="72"/>
                </a:lnTo>
                <a:lnTo>
                  <a:pt x="1056" y="288"/>
                </a:lnTo>
                <a:lnTo>
                  <a:pt x="1080" y="672"/>
                </a:lnTo>
                <a:lnTo>
                  <a:pt x="1308" y="774"/>
                </a:lnTo>
                <a:lnTo>
                  <a:pt x="1284" y="990"/>
                </a:lnTo>
                <a:lnTo>
                  <a:pt x="1044" y="1344"/>
                </a:lnTo>
                <a:lnTo>
                  <a:pt x="1026" y="1536"/>
                </a:lnTo>
                <a:lnTo>
                  <a:pt x="0" y="1536"/>
                </a:lnTo>
                <a:lnTo>
                  <a:pt x="12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19240" y="228600"/>
            <a:ext cx="6257880" cy="3562200"/>
          </a:xfrm>
          <a:custGeom>
            <a:avLst/>
            <a:gdLst/>
            <a:ahLst/>
            <a:rect l="l" t="t" r="r" b="b"/>
            <a:pathLst>
              <a:path w="4038" h="2244">
                <a:moveTo>
                  <a:pt x="6" y="0"/>
                </a:moveTo>
                <a:lnTo>
                  <a:pt x="4038" y="0"/>
                </a:lnTo>
                <a:lnTo>
                  <a:pt x="4038" y="1536"/>
                </a:lnTo>
                <a:lnTo>
                  <a:pt x="0" y="2244"/>
                </a:lnTo>
                <a:lnTo>
                  <a:pt x="6" y="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04920" y="952488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105520" y="932184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0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イ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=192km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990800" y="3314880"/>
            <a:ext cx="1171440" cy="5952960"/>
          </a:xfrm>
          <a:custGeom>
            <a:avLst/>
            <a:gdLst/>
            <a:ahLst/>
            <a:rect l="l" t="t" r="r" b="b"/>
            <a:pathLst>
              <a:path w="738" h="3750">
                <a:moveTo>
                  <a:pt x="660" y="0"/>
                </a:moveTo>
                <a:cubicBezTo>
                  <a:pt x="632" y="136"/>
                  <a:pt x="489" y="497"/>
                  <a:pt x="492" y="816"/>
                </a:cubicBezTo>
                <a:cubicBezTo>
                  <a:pt x="408" y="1068"/>
                  <a:pt x="738" y="1656"/>
                  <a:pt x="678" y="1914"/>
                </a:cubicBezTo>
                <a:cubicBezTo>
                  <a:pt x="618" y="2172"/>
                  <a:pt x="540" y="2186"/>
                  <a:pt x="402" y="2472"/>
                </a:cubicBezTo>
                <a:cubicBezTo>
                  <a:pt x="264" y="2758"/>
                  <a:pt x="300" y="3151"/>
                  <a:pt x="200" y="3370"/>
                </a:cubicBezTo>
                <a:cubicBezTo>
                  <a:pt x="100" y="3589"/>
                  <a:pt x="42" y="3671"/>
                  <a:pt x="0" y="3750"/>
                </a:cubicBezTo>
              </a:path>
            </a:pathLst>
          </a:custGeom>
          <a:noFill/>
          <a:ln w="7632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209600" y="927720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ハデス第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層、冥府プルト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438280" y="1752480"/>
            <a:ext cx="3451320" cy="1739880"/>
          </a:xfrm>
          <a:custGeom>
            <a:avLst/>
            <a:gdLst/>
            <a:ahLst/>
            <a:rect l="l" t="t" r="r" b="b"/>
            <a:pathLst>
              <a:path w="2174" h="1000">
                <a:moveTo>
                  <a:pt x="560" y="858"/>
                </a:moveTo>
                <a:cubicBezTo>
                  <a:pt x="281" y="907"/>
                  <a:pt x="76" y="1000"/>
                  <a:pt x="38" y="949"/>
                </a:cubicBezTo>
                <a:cubicBezTo>
                  <a:pt x="0" y="898"/>
                  <a:pt x="242" y="665"/>
                  <a:pt x="332" y="553"/>
                </a:cubicBezTo>
                <a:cubicBezTo>
                  <a:pt x="422" y="441"/>
                  <a:pt x="529" y="364"/>
                  <a:pt x="578" y="277"/>
                </a:cubicBezTo>
                <a:cubicBezTo>
                  <a:pt x="627" y="190"/>
                  <a:pt x="549" y="62"/>
                  <a:pt x="626" y="31"/>
                </a:cubicBezTo>
                <a:cubicBezTo>
                  <a:pt x="703" y="0"/>
                  <a:pt x="904" y="32"/>
                  <a:pt x="1040" y="91"/>
                </a:cubicBezTo>
                <a:cubicBezTo>
                  <a:pt x="1176" y="150"/>
                  <a:pt x="1309" y="347"/>
                  <a:pt x="1442" y="385"/>
                </a:cubicBezTo>
                <a:cubicBezTo>
                  <a:pt x="1575" y="423"/>
                  <a:pt x="1747" y="322"/>
                  <a:pt x="1838" y="319"/>
                </a:cubicBezTo>
                <a:cubicBezTo>
                  <a:pt x="1929" y="316"/>
                  <a:pt x="1939" y="349"/>
                  <a:pt x="1988" y="367"/>
                </a:cubicBezTo>
                <a:cubicBezTo>
                  <a:pt x="2037" y="385"/>
                  <a:pt x="2174" y="372"/>
                  <a:pt x="2132" y="427"/>
                </a:cubicBezTo>
                <a:cubicBezTo>
                  <a:pt x="2090" y="482"/>
                  <a:pt x="1998" y="625"/>
                  <a:pt x="1736" y="697"/>
                </a:cubicBezTo>
                <a:cubicBezTo>
                  <a:pt x="1474" y="769"/>
                  <a:pt x="805" y="825"/>
                  <a:pt x="560" y="858"/>
                </a:cubicBez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924360" y="5761080"/>
            <a:ext cx="2768400" cy="3524040"/>
          </a:xfrm>
          <a:custGeom>
            <a:avLst/>
            <a:gdLst/>
            <a:ahLst/>
            <a:rect l="l" t="t" r="r" b="b"/>
            <a:pathLst>
              <a:path w="1744" h="2220">
                <a:moveTo>
                  <a:pt x="1568" y="1992"/>
                </a:moveTo>
                <a:lnTo>
                  <a:pt x="1152" y="2016"/>
                </a:lnTo>
                <a:lnTo>
                  <a:pt x="750" y="2220"/>
                </a:lnTo>
                <a:lnTo>
                  <a:pt x="438" y="2136"/>
                </a:lnTo>
                <a:lnTo>
                  <a:pt x="564" y="1734"/>
                </a:lnTo>
                <a:lnTo>
                  <a:pt x="432" y="1584"/>
                </a:lnTo>
                <a:lnTo>
                  <a:pt x="210" y="1578"/>
                </a:lnTo>
                <a:lnTo>
                  <a:pt x="0" y="1182"/>
                </a:lnTo>
                <a:lnTo>
                  <a:pt x="240" y="995"/>
                </a:lnTo>
                <a:lnTo>
                  <a:pt x="522" y="906"/>
                </a:lnTo>
                <a:lnTo>
                  <a:pt x="580" y="512"/>
                </a:lnTo>
                <a:lnTo>
                  <a:pt x="540" y="444"/>
                </a:lnTo>
                <a:lnTo>
                  <a:pt x="632" y="379"/>
                </a:lnTo>
                <a:lnTo>
                  <a:pt x="1184" y="280"/>
                </a:lnTo>
                <a:lnTo>
                  <a:pt x="1464" y="0"/>
                </a:lnTo>
                <a:lnTo>
                  <a:pt x="1736" y="88"/>
                </a:lnTo>
                <a:lnTo>
                  <a:pt x="1744" y="504"/>
                </a:lnTo>
                <a:lnTo>
                  <a:pt x="1488" y="704"/>
                </a:lnTo>
                <a:lnTo>
                  <a:pt x="1446" y="858"/>
                </a:lnTo>
                <a:lnTo>
                  <a:pt x="1734" y="1344"/>
                </a:lnTo>
                <a:lnTo>
                  <a:pt x="1590" y="1632"/>
                </a:lnTo>
                <a:lnTo>
                  <a:pt x="1568" y="199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133720" y="5653080"/>
            <a:ext cx="2314440" cy="3643200"/>
          </a:xfrm>
          <a:custGeom>
            <a:avLst/>
            <a:gdLst/>
            <a:ahLst/>
            <a:rect l="l" t="t" r="r" b="b"/>
            <a:pathLst>
              <a:path w="1458" h="2295">
                <a:moveTo>
                  <a:pt x="1458" y="21"/>
                </a:moveTo>
                <a:cubicBezTo>
                  <a:pt x="1413" y="18"/>
                  <a:pt x="1251" y="0"/>
                  <a:pt x="1188" y="21"/>
                </a:cubicBezTo>
                <a:cubicBezTo>
                  <a:pt x="1125" y="42"/>
                  <a:pt x="1167" y="81"/>
                  <a:pt x="1080" y="147"/>
                </a:cubicBezTo>
                <a:cubicBezTo>
                  <a:pt x="993" y="213"/>
                  <a:pt x="732" y="291"/>
                  <a:pt x="666" y="417"/>
                </a:cubicBezTo>
                <a:cubicBezTo>
                  <a:pt x="600" y="543"/>
                  <a:pt x="600" y="591"/>
                  <a:pt x="558" y="693"/>
                </a:cubicBezTo>
                <a:cubicBezTo>
                  <a:pt x="506" y="781"/>
                  <a:pt x="856" y="824"/>
                  <a:pt x="870" y="993"/>
                </a:cubicBezTo>
                <a:cubicBezTo>
                  <a:pt x="884" y="1162"/>
                  <a:pt x="719" y="1554"/>
                  <a:pt x="642" y="1707"/>
                </a:cubicBezTo>
                <a:cubicBezTo>
                  <a:pt x="565" y="1860"/>
                  <a:pt x="491" y="1861"/>
                  <a:pt x="408" y="1911"/>
                </a:cubicBezTo>
                <a:cubicBezTo>
                  <a:pt x="325" y="1961"/>
                  <a:pt x="212" y="1943"/>
                  <a:pt x="144" y="2007"/>
                </a:cubicBezTo>
                <a:cubicBezTo>
                  <a:pt x="56" y="2071"/>
                  <a:pt x="30" y="2235"/>
                  <a:pt x="0" y="229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076560" y="5559480"/>
            <a:ext cx="2874960" cy="1873080"/>
          </a:xfrm>
          <a:custGeom>
            <a:avLst/>
            <a:gdLst/>
            <a:ahLst/>
            <a:rect l="l" t="t" r="r" b="b"/>
            <a:pathLst>
              <a:path w="1811" h="1180">
                <a:moveTo>
                  <a:pt x="0" y="466"/>
                </a:moveTo>
                <a:cubicBezTo>
                  <a:pt x="17" y="446"/>
                  <a:pt x="46" y="388"/>
                  <a:pt x="101" y="347"/>
                </a:cubicBezTo>
                <a:cubicBezTo>
                  <a:pt x="156" y="306"/>
                  <a:pt x="261" y="266"/>
                  <a:pt x="329" y="219"/>
                </a:cubicBezTo>
                <a:cubicBezTo>
                  <a:pt x="397" y="172"/>
                  <a:pt x="427" y="96"/>
                  <a:pt x="512" y="64"/>
                </a:cubicBezTo>
                <a:cubicBezTo>
                  <a:pt x="597" y="32"/>
                  <a:pt x="742" y="0"/>
                  <a:pt x="841" y="27"/>
                </a:cubicBezTo>
                <a:cubicBezTo>
                  <a:pt x="940" y="54"/>
                  <a:pt x="1055" y="182"/>
                  <a:pt x="1104" y="227"/>
                </a:cubicBezTo>
                <a:cubicBezTo>
                  <a:pt x="1153" y="272"/>
                  <a:pt x="1109" y="274"/>
                  <a:pt x="1137" y="299"/>
                </a:cubicBezTo>
                <a:cubicBezTo>
                  <a:pt x="1165" y="324"/>
                  <a:pt x="1222" y="330"/>
                  <a:pt x="1271" y="375"/>
                </a:cubicBezTo>
                <a:cubicBezTo>
                  <a:pt x="1320" y="420"/>
                  <a:pt x="1385" y="455"/>
                  <a:pt x="1434" y="572"/>
                </a:cubicBezTo>
                <a:cubicBezTo>
                  <a:pt x="1483" y="689"/>
                  <a:pt x="1501" y="978"/>
                  <a:pt x="1564" y="1079"/>
                </a:cubicBezTo>
                <a:cubicBezTo>
                  <a:pt x="1627" y="1180"/>
                  <a:pt x="1760" y="1158"/>
                  <a:pt x="1811" y="1179"/>
                </a:cubicBezTo>
              </a:path>
            </a:pathLst>
          </a:custGeom>
          <a:noFill/>
          <a:ln w="2844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09520" y="6781680"/>
            <a:ext cx="2076480" cy="2438640"/>
          </a:xfrm>
          <a:custGeom>
            <a:avLst/>
            <a:gdLst/>
            <a:ahLst/>
            <a:rect l="l" t="t" r="r" b="b"/>
            <a:pathLst>
              <a:path w="1308" h="1536">
                <a:moveTo>
                  <a:pt x="12" y="0"/>
                </a:moveTo>
                <a:lnTo>
                  <a:pt x="96" y="192"/>
                </a:lnTo>
                <a:lnTo>
                  <a:pt x="240" y="288"/>
                </a:lnTo>
                <a:lnTo>
                  <a:pt x="432" y="96"/>
                </a:lnTo>
                <a:lnTo>
                  <a:pt x="768" y="72"/>
                </a:lnTo>
                <a:lnTo>
                  <a:pt x="1056" y="288"/>
                </a:lnTo>
                <a:lnTo>
                  <a:pt x="1080" y="672"/>
                </a:lnTo>
                <a:lnTo>
                  <a:pt x="1308" y="774"/>
                </a:lnTo>
                <a:lnTo>
                  <a:pt x="1284" y="990"/>
                </a:lnTo>
                <a:lnTo>
                  <a:pt x="1044" y="1344"/>
                </a:lnTo>
                <a:lnTo>
                  <a:pt x="1026" y="1536"/>
                </a:lnTo>
                <a:lnTo>
                  <a:pt x="0" y="1536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076400" y="3429000"/>
            <a:ext cx="1927080" cy="4562640"/>
          </a:xfrm>
          <a:custGeom>
            <a:avLst/>
            <a:gdLst/>
            <a:ahLst/>
            <a:rect l="l" t="t" r="r" b="b"/>
            <a:pathLst>
              <a:path w="1214" h="2874">
                <a:moveTo>
                  <a:pt x="1098" y="0"/>
                </a:moveTo>
                <a:cubicBezTo>
                  <a:pt x="1098" y="0"/>
                  <a:pt x="1002" y="384"/>
                  <a:pt x="1002" y="384"/>
                </a:cubicBezTo>
                <a:cubicBezTo>
                  <a:pt x="1002" y="384"/>
                  <a:pt x="954" y="768"/>
                  <a:pt x="954" y="768"/>
                </a:cubicBezTo>
                <a:cubicBezTo>
                  <a:pt x="954" y="768"/>
                  <a:pt x="1002" y="1152"/>
                  <a:pt x="1002" y="1152"/>
                </a:cubicBezTo>
                <a:cubicBezTo>
                  <a:pt x="1002" y="1152"/>
                  <a:pt x="1114" y="1488"/>
                  <a:pt x="1146" y="1584"/>
                </a:cubicBezTo>
                <a:cubicBezTo>
                  <a:pt x="1178" y="1680"/>
                  <a:pt x="1214" y="1762"/>
                  <a:pt x="1206" y="1818"/>
                </a:cubicBezTo>
                <a:cubicBezTo>
                  <a:pt x="1198" y="1874"/>
                  <a:pt x="1188" y="1897"/>
                  <a:pt x="1146" y="1962"/>
                </a:cubicBezTo>
                <a:cubicBezTo>
                  <a:pt x="1104" y="2027"/>
                  <a:pt x="1002" y="2111"/>
                  <a:pt x="954" y="2208"/>
                </a:cubicBezTo>
                <a:cubicBezTo>
                  <a:pt x="954" y="2208"/>
                  <a:pt x="858" y="2544"/>
                  <a:pt x="858" y="2544"/>
                </a:cubicBezTo>
                <a:cubicBezTo>
                  <a:pt x="858" y="2544"/>
                  <a:pt x="714" y="2704"/>
                  <a:pt x="618" y="2736"/>
                </a:cubicBezTo>
                <a:cubicBezTo>
                  <a:pt x="522" y="2768"/>
                  <a:pt x="386" y="2768"/>
                  <a:pt x="282" y="2736"/>
                </a:cubicBezTo>
                <a:cubicBezTo>
                  <a:pt x="178" y="2704"/>
                  <a:pt x="59" y="2845"/>
                  <a:pt x="0" y="287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915080" y="5248440"/>
            <a:ext cx="952200" cy="637920"/>
          </a:xfrm>
          <a:custGeom>
            <a:avLst/>
            <a:gdLst/>
            <a:ahLst/>
            <a:rect l="l" t="t" r="r" b="b"/>
            <a:pathLst>
              <a:path w="600" h="402">
                <a:moveTo>
                  <a:pt x="0" y="402"/>
                </a:moveTo>
                <a:cubicBezTo>
                  <a:pt x="26" y="398"/>
                  <a:pt x="96" y="390"/>
                  <a:pt x="159" y="378"/>
                </a:cubicBezTo>
                <a:cubicBezTo>
                  <a:pt x="222" y="366"/>
                  <a:pt x="336" y="360"/>
                  <a:pt x="381" y="327"/>
                </a:cubicBezTo>
                <a:cubicBezTo>
                  <a:pt x="426" y="294"/>
                  <a:pt x="413" y="208"/>
                  <a:pt x="432" y="180"/>
                </a:cubicBezTo>
                <a:cubicBezTo>
                  <a:pt x="451" y="152"/>
                  <a:pt x="467" y="189"/>
                  <a:pt x="495" y="159"/>
                </a:cubicBezTo>
                <a:cubicBezTo>
                  <a:pt x="523" y="129"/>
                  <a:pt x="578" y="33"/>
                  <a:pt x="600" y="0"/>
                </a:cubicBezTo>
              </a:path>
            </a:pathLst>
          </a:custGeom>
          <a:noFill/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3" name=""/>
          <p:cNvGrpSpPr/>
          <p:nvPr/>
        </p:nvGrpSpPr>
        <p:grpSpPr>
          <a:xfrm>
            <a:off x="233280" y="228600"/>
            <a:ext cx="6227640" cy="7695720"/>
            <a:chOff x="233280" y="228600"/>
            <a:chExt cx="6227640" cy="7695720"/>
          </a:xfrm>
        </p:grpSpPr>
        <p:grpSp>
          <p:nvGrpSpPr>
            <p:cNvPr id="1494" name=""/>
            <p:cNvGrpSpPr/>
            <p:nvPr/>
          </p:nvGrpSpPr>
          <p:grpSpPr>
            <a:xfrm>
              <a:off x="233280" y="228600"/>
              <a:ext cx="6227640" cy="7348680"/>
              <a:chOff x="233280" y="228600"/>
              <a:chExt cx="6227640" cy="7348680"/>
            </a:xfrm>
          </p:grpSpPr>
          <p:sp>
            <p:nvSpPr>
              <p:cNvPr id="1495" name=""/>
              <p:cNvSpPr/>
              <p:nvPr/>
            </p:nvSpPr>
            <p:spPr>
              <a:xfrm>
                <a:off x="2242080" y="57672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442960" y="91836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242080" y="126504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442960" y="22860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442960" y="16070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242080" y="19490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242080" y="26391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442960" y="29858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242080" y="33278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442960" y="2297160"/>
                <a:ext cx="19944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442960" y="367596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242080" y="40179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841760" y="57672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041200" y="9183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841760" y="126504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041200" y="22860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041200" y="16070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841760" y="19490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841760" y="26391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041200" y="29858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841760" y="33278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041200" y="229716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041200" y="367596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841760" y="40179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441800" y="57672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40880" y="9183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441800" y="126504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40880" y="22860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640880" y="16070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441800" y="19490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441800" y="26391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640880" y="29858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441800" y="33278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640880" y="229716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640880" y="367596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441800" y="40179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039680" y="57672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240560" y="91836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039680" y="126504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240560" y="22860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240560" y="160704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039680" y="194904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039680" y="263916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240560" y="298584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039680" y="332784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240560" y="2297160"/>
                <a:ext cx="194400" cy="45864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240560" y="367596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039680" y="401796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33240" y="57672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840240" y="918360"/>
                <a:ext cx="193320" cy="45828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33240" y="126504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840240" y="228600"/>
                <a:ext cx="193320" cy="45972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40240" y="1607040"/>
                <a:ext cx="19332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3240" y="19490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3240" y="26391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840240" y="2985840"/>
                <a:ext cx="19332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33240" y="33278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840240" y="2297160"/>
                <a:ext cx="193320" cy="45864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840240" y="3675960"/>
                <a:ext cx="19332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33240" y="40179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33280" y="57672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34160" y="9183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33280" y="126504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434160" y="22860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34160" y="16070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33280" y="19490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33280" y="26391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434160" y="29858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33280" y="33278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34160" y="2297160"/>
                <a:ext cx="19908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34160" y="367596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33280" y="40179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651200" y="57672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858560" y="918360"/>
                <a:ext cx="192960" cy="45828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651200" y="126504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858560" y="228600"/>
                <a:ext cx="192960" cy="45972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858560" y="160704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651200" y="19490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651200" y="26391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858560" y="298584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651200" y="33278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858560" y="2297160"/>
                <a:ext cx="192960" cy="45864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858560" y="367596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651200" y="40179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250880" y="57672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452120" y="9183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250880" y="126504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452120" y="22860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452120" y="16070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250880" y="19490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250880" y="26391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452120" y="29858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250880" y="33278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452120" y="2297160"/>
                <a:ext cx="19908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452120" y="367596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250880" y="40179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850560" y="57672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050360" y="9183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850560" y="126504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050360" y="22860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050360" y="16070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850560" y="19490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850560" y="263916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050360" y="29858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850560" y="33278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050360" y="2297160"/>
                <a:ext cx="20052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050360" y="367596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850560" y="401796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450240" y="57672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650040" y="9183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450240" y="126504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650040" y="22860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650040" y="16070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450240" y="19490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450240" y="263916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650040" y="29858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450240" y="33278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650040" y="2297160"/>
                <a:ext cx="20052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650040" y="367596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450240" y="401796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048840" y="57672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249720" y="9183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048840" y="126504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249720" y="22860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249720" y="16070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048840" y="194904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048840" y="263916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249720" y="29858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048840" y="332784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249720" y="2297160"/>
                <a:ext cx="20052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249720" y="367596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048840" y="401796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642400" y="57672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849400" y="918360"/>
                <a:ext cx="192960" cy="45828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642400" y="126504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849400" y="228600"/>
                <a:ext cx="192960" cy="45972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849400" y="160704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642400" y="19490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642400" y="26391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849400" y="298584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642400" y="33278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2849400" y="2297160"/>
                <a:ext cx="192960" cy="45864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849400" y="367596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642400" y="40179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260040" y="57672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260040" y="126504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260040" y="19490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260040" y="26391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260040" y="33278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260040" y="40179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859720" y="57672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059160" y="9183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859720" y="126504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059160" y="22860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059160" y="16070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859720" y="19490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859720" y="26391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059160" y="29858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859720" y="33278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059160" y="229716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059160" y="367596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859720" y="40179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457960" y="57672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658840" y="91836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457960" y="126504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658840" y="22860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658840" y="16070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457960" y="19490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457960" y="26391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658840" y="29858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457960" y="33278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658840" y="229716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658840" y="367596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457960" y="401796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058000" y="57672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258880" y="91836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058000" y="126504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258880" y="22860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258880" y="16070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058000" y="194904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058000" y="263916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58880" y="29858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058000" y="332784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258880" y="2297160"/>
                <a:ext cx="19908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258880" y="367596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058000" y="401796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242080" y="47066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442960" y="505476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242080" y="539640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442960" y="436464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442960" y="5744520"/>
                <a:ext cx="19944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2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242080" y="608508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242080" y="677556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442960" y="711720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442960" y="6433200"/>
                <a:ext cx="199440" cy="453960"/>
              </a:xfrm>
              <a:custGeom>
                <a:avLst/>
                <a:gdLst/>
                <a:ahLst/>
                <a:rect l="l" t="t" r="r" b="b"/>
                <a:pathLst>
                  <a:path w="130" h="296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6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841760" y="47066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041200" y="505476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841760" y="539640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041200" y="436464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041200" y="574452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2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>
              <a:off x="1841760" y="608544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841760" y="67755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041200" y="71175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041200" y="643356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441800" y="470664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640880" y="50547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441800" y="53967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640880" y="4364640"/>
              <a:ext cx="20088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640880" y="574488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441800" y="608544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441800" y="67755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640880" y="71175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640880" y="643356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039680" y="470664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240560" y="505476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039680" y="539676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240560" y="4364640"/>
              <a:ext cx="194400" cy="45972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240560" y="574488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039680" y="608544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039680" y="677556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240560" y="711756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240560" y="6433560"/>
              <a:ext cx="194400" cy="453960"/>
            </a:xfrm>
            <a:custGeom>
              <a:avLst/>
              <a:gdLst/>
              <a:ahLst/>
              <a:rect l="l" t="t" r="r" b="b"/>
              <a:pathLst>
                <a:path w="127" h="296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33240" y="470664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40240" y="5054760"/>
              <a:ext cx="19332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3240" y="53967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40240" y="4364640"/>
              <a:ext cx="193320" cy="45972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40240" y="5744880"/>
              <a:ext cx="19332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3240" y="608544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3240" y="67755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40240" y="7117560"/>
              <a:ext cx="19332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40240" y="6433560"/>
              <a:ext cx="193320" cy="45396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33280" y="470664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34160" y="50547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33280" y="53967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34160" y="4364640"/>
              <a:ext cx="199080" cy="45972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34160" y="574488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33280" y="608544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33280" y="67755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34160" y="71175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34160" y="6433560"/>
              <a:ext cx="199080" cy="45396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651200" y="470664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858560" y="505476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651200" y="53967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858560" y="4364640"/>
              <a:ext cx="192960" cy="45972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858560" y="5744880"/>
              <a:ext cx="19296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651200" y="608544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651200" y="67755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858560" y="711756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858560" y="6433560"/>
              <a:ext cx="192960" cy="45396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250880" y="470664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452120" y="50547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250880" y="53967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452120" y="4364640"/>
              <a:ext cx="199080" cy="45972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452120" y="574488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250880" y="608544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250880" y="67755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452120" y="71175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452120" y="6433560"/>
              <a:ext cx="199080" cy="45396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850560" y="470664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050360" y="50547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850560" y="539676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050360" y="4364640"/>
              <a:ext cx="20052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050360" y="574488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850560" y="608544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850560" y="677556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050360" y="71175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050360" y="6433560"/>
              <a:ext cx="20052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450240" y="470664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650040" y="50547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450240" y="539676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650040" y="4364640"/>
              <a:ext cx="20052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650040" y="574488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450240" y="608544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450240" y="677556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650040" y="71175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650040" y="6433560"/>
              <a:ext cx="20052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048840" y="470664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249720" y="50547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048840" y="539676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249720" y="4364640"/>
              <a:ext cx="20052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249720" y="574488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048840" y="608544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048840" y="677556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249720" y="71175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49720" y="6433560"/>
              <a:ext cx="20052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642400" y="470664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849400" y="505476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642400" y="53967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849400" y="4364640"/>
              <a:ext cx="192960" cy="45972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849400" y="5744880"/>
              <a:ext cx="19296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642400" y="608544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642400" y="67755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849400" y="711756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849400" y="6433560"/>
              <a:ext cx="192960" cy="45396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260040" y="470664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260040" y="53967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260040" y="608544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260040" y="67755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859720" y="470664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059160" y="50547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859720" y="53967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059160" y="4364640"/>
              <a:ext cx="20088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059160" y="574488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859720" y="608544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859720" y="67755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059160" y="71175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059160" y="643356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457960" y="470664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658840" y="50547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457960" y="53967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658840" y="4364640"/>
              <a:ext cx="20088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658840" y="574488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457960" y="608544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457960" y="677556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658840" y="711756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658840" y="643356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058000" y="470664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258880" y="50547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058000" y="539676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258880" y="4364640"/>
              <a:ext cx="199080" cy="45972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258880" y="574488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058000" y="608544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058000" y="677556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258880" y="711756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258880" y="6433560"/>
              <a:ext cx="199080" cy="45396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242080" y="746568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841760" y="746568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441800" y="746568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039680" y="746568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33240" y="746568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33280" y="746568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651200" y="746568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250880" y="746568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850560" y="7465680"/>
              <a:ext cx="19944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450240" y="7465680"/>
              <a:ext cx="19944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048840" y="746568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642400" y="746568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260040" y="746568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859720" y="746568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457960" y="746568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058000" y="746568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6" name=""/>
          <p:cNvGrpSpPr/>
          <p:nvPr/>
        </p:nvGrpSpPr>
        <p:grpSpPr>
          <a:xfrm>
            <a:off x="228600" y="7124760"/>
            <a:ext cx="6227640" cy="2179080"/>
            <a:chOff x="228600" y="7124760"/>
            <a:chExt cx="6227640" cy="2179080"/>
          </a:xfrm>
        </p:grpSpPr>
        <p:sp>
          <p:nvSpPr>
            <p:cNvPr id="1837" name=""/>
            <p:cNvSpPr/>
            <p:nvPr/>
          </p:nvSpPr>
          <p:spPr>
            <a:xfrm>
              <a:off x="2438280" y="7124760"/>
              <a:ext cx="20016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236680" y="7466040"/>
              <a:ext cx="20160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236680" y="815652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438280" y="8497800"/>
              <a:ext cx="20016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438280" y="7813440"/>
              <a:ext cx="200160" cy="45360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036520" y="7124760"/>
              <a:ext cx="20016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836720" y="7466040"/>
              <a:ext cx="199800" cy="4582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836720" y="8154720"/>
              <a:ext cx="19980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036520" y="8497800"/>
              <a:ext cx="20016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036520" y="7813440"/>
              <a:ext cx="200160" cy="45360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636560" y="7124760"/>
              <a:ext cx="20016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436400" y="7466040"/>
              <a:ext cx="200160" cy="4582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436400" y="8154720"/>
              <a:ext cx="20016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636560" y="8497800"/>
              <a:ext cx="20016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636560" y="7813440"/>
              <a:ext cx="200160" cy="45360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236600" y="7124760"/>
              <a:ext cx="19368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035000" y="7466040"/>
              <a:ext cx="195120" cy="4582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035000" y="8154720"/>
              <a:ext cx="19512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236600" y="8497800"/>
              <a:ext cx="19368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236600" y="7813440"/>
              <a:ext cx="193680" cy="453600"/>
            </a:xfrm>
            <a:custGeom>
              <a:avLst/>
              <a:gdLst/>
              <a:ahLst/>
              <a:rect l="l" t="t" r="r" b="b"/>
              <a:pathLst>
                <a:path w="127" h="296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36640" y="7124760"/>
              <a:ext cx="19188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28560" y="746604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28560" y="815472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36640" y="8497800"/>
              <a:ext cx="19188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36640" y="7813440"/>
              <a:ext cx="191880" cy="45360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30200" y="7124760"/>
              <a:ext cx="19836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28600" y="746604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28600" y="815472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30200" y="8497800"/>
              <a:ext cx="19836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30200" y="7813440"/>
              <a:ext cx="198360" cy="45360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854600" y="7124760"/>
              <a:ext cx="19188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646520" y="746604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646520" y="815472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854600" y="8497800"/>
              <a:ext cx="19188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854600" y="7813440"/>
              <a:ext cx="191880" cy="45360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448160" y="7124760"/>
              <a:ext cx="19836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246560" y="746604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246560" y="815472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448160" y="8497800"/>
              <a:ext cx="19836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448160" y="7813440"/>
              <a:ext cx="198360" cy="45360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044960" y="7124760"/>
              <a:ext cx="20160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846240" y="7466040"/>
              <a:ext cx="198720" cy="4582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846240" y="8154720"/>
              <a:ext cx="19872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044960" y="849780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044960" y="7813440"/>
              <a:ext cx="201600" cy="45360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644640" y="7124760"/>
              <a:ext cx="20160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446280" y="7466040"/>
              <a:ext cx="198360" cy="4582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446280" y="8154720"/>
              <a:ext cx="19836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644640" y="849780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644640" y="7813440"/>
              <a:ext cx="201600" cy="45360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244680" y="7124760"/>
              <a:ext cx="20160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44880" y="7466040"/>
              <a:ext cx="193680" cy="4582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44880" y="8154720"/>
              <a:ext cx="19368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244680" y="849780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44680" y="7813440"/>
              <a:ext cx="201600" cy="45360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844720" y="7124760"/>
              <a:ext cx="19368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638440" y="7466040"/>
              <a:ext cx="199800" cy="4582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638440" y="8154720"/>
              <a:ext cx="1998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844720" y="8497800"/>
              <a:ext cx="19368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844720" y="7813440"/>
              <a:ext cx="193680" cy="45360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254640" y="746604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254640" y="815472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054480" y="7124760"/>
              <a:ext cx="20016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854680" y="7466040"/>
              <a:ext cx="199800" cy="4582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854680" y="8154720"/>
              <a:ext cx="19980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054480" y="8497800"/>
              <a:ext cx="20016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054480" y="7813440"/>
              <a:ext cx="200160" cy="45360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654520" y="7124760"/>
              <a:ext cx="20016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452920" y="746604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452920" y="8154720"/>
              <a:ext cx="20160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654520" y="8497800"/>
              <a:ext cx="20016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654520" y="7813440"/>
              <a:ext cx="200160" cy="45360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254560" y="7124760"/>
              <a:ext cx="19836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052960" y="7466040"/>
              <a:ext cx="195120" cy="4582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052960" y="8154720"/>
              <a:ext cx="19512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254560" y="8497800"/>
              <a:ext cx="19836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254560" y="7813440"/>
              <a:ext cx="198360" cy="45360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236680" y="884556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836720" y="8845560"/>
              <a:ext cx="199800" cy="45828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36400" y="8845560"/>
              <a:ext cx="200160" cy="45828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035000" y="8845560"/>
              <a:ext cx="195120" cy="45828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28560" y="884556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28600" y="884556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646520" y="884556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246560" y="884556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846240" y="8845560"/>
              <a:ext cx="198720" cy="45828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446280" y="8845560"/>
              <a:ext cx="198360" cy="45828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44880" y="8845560"/>
              <a:ext cx="193680" cy="45828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638440" y="8845560"/>
              <a:ext cx="199800" cy="45828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254640" y="884556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854680" y="8845560"/>
              <a:ext cx="199800" cy="45828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452920" y="8845560"/>
              <a:ext cx="201600" cy="45828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052960" y="8845560"/>
              <a:ext cx="195120" cy="45828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"/>
          <p:cNvSpPr/>
          <p:nvPr/>
        </p:nvSpPr>
        <p:spPr>
          <a:xfrm>
            <a:off x="4419720" y="5638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rot="4222800">
            <a:off x="2309040" y="55576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テュクス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576360" y="8067600"/>
            <a:ext cx="12952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物質界サレッシュ近郊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への次元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015920" y="795168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791320" y="2057400"/>
            <a:ext cx="75960" cy="76320"/>
          </a:xfrm>
          <a:prstGeom prst="ellipse">
            <a:avLst/>
          </a:prstGeom>
          <a:solidFill>
            <a:srgbClr val="7c5f4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486400" y="22096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ハデスへの次元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038480" y="60948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809880" y="68580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ウトランズへの次元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28600" y="228600"/>
            <a:ext cx="3276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ストラル界（ハデスとの次元門周辺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重力：主観的重力方向。任意の方向に通常速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で移動、あるいは直線的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50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～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ft/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で落下可能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属性：軽度の中立属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規模：次元界の広さは無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光源：常に柔らかな光に包まれてい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その他：任意の呪文や疑似呪文能力を高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したかのように使用でき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54160" y="2857680"/>
            <a:ext cx="228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物質界のサレッシュ近郊との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重複エリア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2819520"/>
            <a:ext cx="7632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3048120" y="3352680"/>
            <a:ext cx="3657600" cy="1371600"/>
            <a:chOff x="3048120" y="3352680"/>
            <a:chExt cx="3657600" cy="1371600"/>
          </a:xfrm>
        </p:grpSpPr>
        <p:sp>
          <p:nvSpPr>
            <p:cNvPr id="1942" name=""/>
            <p:cNvSpPr/>
            <p:nvPr/>
          </p:nvSpPr>
          <p:spPr>
            <a:xfrm>
              <a:off x="3124440" y="3409920"/>
              <a:ext cx="3504960" cy="13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48120" y="3352680"/>
              <a:ext cx="365760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“</a:t>
              </a:r>
              <a:r>
                <a:rPr b="1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灰色の荒野”ハデス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	</a:t>
              </a:r>
              <a:r>
                <a:rPr b="1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第二層“霧の国”ニブルヘイ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重力：通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属性：重度の悪属性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(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悪でない者は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[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知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]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と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[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判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],[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魅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]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判定に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-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規模：水平方向に無限に広がっている様に見える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光源：常に薄暗く、霧に包まれている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(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最大視認範囲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0ft)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その他：「幽閉」の特性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(7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日間留まるたびに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[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難易度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+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日数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/7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　の意志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T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を行い、失敗すると請願者となって拘留される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4" name=""/>
          <p:cNvSpPr/>
          <p:nvPr/>
        </p:nvSpPr>
        <p:spPr>
          <a:xfrm>
            <a:off x="4500720" y="5586480"/>
            <a:ext cx="1233360" cy="1200240"/>
          </a:xfrm>
          <a:custGeom>
            <a:avLst/>
            <a:gdLst/>
            <a:ahLst/>
            <a:rect l="l" t="t" r="r" b="b"/>
            <a:pathLst>
              <a:path w="777" h="756">
                <a:moveTo>
                  <a:pt x="0" y="42"/>
                </a:moveTo>
                <a:cubicBezTo>
                  <a:pt x="23" y="39"/>
                  <a:pt x="84" y="0"/>
                  <a:pt x="126" y="21"/>
                </a:cubicBezTo>
                <a:cubicBezTo>
                  <a:pt x="168" y="42"/>
                  <a:pt x="228" y="132"/>
                  <a:pt x="252" y="168"/>
                </a:cubicBezTo>
                <a:cubicBezTo>
                  <a:pt x="276" y="204"/>
                  <a:pt x="249" y="212"/>
                  <a:pt x="273" y="240"/>
                </a:cubicBezTo>
                <a:cubicBezTo>
                  <a:pt x="297" y="268"/>
                  <a:pt x="355" y="299"/>
                  <a:pt x="399" y="336"/>
                </a:cubicBezTo>
                <a:cubicBezTo>
                  <a:pt x="443" y="373"/>
                  <a:pt x="503" y="414"/>
                  <a:pt x="534" y="462"/>
                </a:cubicBezTo>
                <a:cubicBezTo>
                  <a:pt x="565" y="510"/>
                  <a:pt x="574" y="597"/>
                  <a:pt x="588" y="627"/>
                </a:cubicBezTo>
                <a:cubicBezTo>
                  <a:pt x="602" y="657"/>
                  <a:pt x="615" y="625"/>
                  <a:pt x="618" y="639"/>
                </a:cubicBezTo>
                <a:cubicBezTo>
                  <a:pt x="621" y="653"/>
                  <a:pt x="600" y="704"/>
                  <a:pt x="609" y="711"/>
                </a:cubicBezTo>
                <a:cubicBezTo>
                  <a:pt x="618" y="718"/>
                  <a:pt x="660" y="678"/>
                  <a:pt x="672" y="681"/>
                </a:cubicBezTo>
                <a:cubicBezTo>
                  <a:pt x="684" y="684"/>
                  <a:pt x="664" y="720"/>
                  <a:pt x="681" y="732"/>
                </a:cubicBezTo>
                <a:cubicBezTo>
                  <a:pt x="698" y="744"/>
                  <a:pt x="757" y="751"/>
                  <a:pt x="777" y="75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529160" y="5643720"/>
            <a:ext cx="314280" cy="280800"/>
          </a:xfrm>
          <a:custGeom>
            <a:avLst/>
            <a:gdLst/>
            <a:ahLst/>
            <a:rect l="l" t="t" r="r" b="b"/>
            <a:pathLst>
              <a:path w="198" h="177">
                <a:moveTo>
                  <a:pt x="72" y="0"/>
                </a:moveTo>
                <a:lnTo>
                  <a:pt x="135" y="21"/>
                </a:lnTo>
                <a:lnTo>
                  <a:pt x="198" y="123"/>
                </a:lnTo>
                <a:lnTo>
                  <a:pt x="189" y="177"/>
                </a:lnTo>
                <a:lnTo>
                  <a:pt x="21" y="57"/>
                </a:lnTo>
                <a:lnTo>
                  <a:pt x="0" y="24"/>
                </a:lnTo>
              </a:path>
            </a:pathLst>
          </a:custGeom>
          <a:solidFill>
            <a:srgbClr val="5f5f5f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257800" y="49528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ストラル界への次元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5824440" y="5181480"/>
            <a:ext cx="76320" cy="76320"/>
          </a:xfrm>
          <a:prstGeom prst="ellipse">
            <a:avLst/>
          </a:prstGeom>
          <a:solidFill>
            <a:srgbClr val="0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029200" y="8991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800600" y="876312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イ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=12.8Km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626080" y="67438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657600" y="24382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海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464160" y="5334120"/>
            <a:ext cx="2797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228600" y="2590920"/>
            <a:ext cx="6248520" cy="1295280"/>
          </a:xfrm>
          <a:custGeom>
            <a:avLst/>
            <a:gdLst/>
            <a:ahLst/>
            <a:rect l="l" t="t" r="r" b="b"/>
            <a:pathLst>
              <a:path w="3936" h="816">
                <a:moveTo>
                  <a:pt x="0" y="672"/>
                </a:moveTo>
                <a:lnTo>
                  <a:pt x="3936" y="0"/>
                </a:lnTo>
                <a:lnTo>
                  <a:pt x="3936" y="144"/>
                </a:lnTo>
                <a:lnTo>
                  <a:pt x="0" y="816"/>
                </a:lnTo>
                <a:lnTo>
                  <a:pt x="0" y="6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rot="21033600">
            <a:off x="2219400" y="3162240"/>
            <a:ext cx="251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ハデス第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層、魔族の戦場オイノ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5181480" y="7848720"/>
            <a:ext cx="1143000" cy="916920"/>
            <a:chOff x="5181480" y="7848720"/>
            <a:chExt cx="1143000" cy="916920"/>
          </a:xfrm>
        </p:grpSpPr>
        <p:sp>
          <p:nvSpPr>
            <p:cNvPr id="1956" name=""/>
            <p:cNvSpPr/>
            <p:nvPr/>
          </p:nvSpPr>
          <p:spPr>
            <a:xfrm>
              <a:off x="5181480" y="7848720"/>
              <a:ext cx="10670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7" name=""/>
            <p:cNvGrpSpPr/>
            <p:nvPr/>
          </p:nvGrpSpPr>
          <p:grpSpPr>
            <a:xfrm>
              <a:off x="5257800" y="7925040"/>
              <a:ext cx="1066680" cy="840600"/>
              <a:chOff x="5257800" y="7925040"/>
              <a:chExt cx="1066680" cy="840600"/>
            </a:xfrm>
          </p:grpSpPr>
          <p:sp>
            <p:nvSpPr>
              <p:cNvPr id="1958" name=""/>
              <p:cNvSpPr/>
              <p:nvPr/>
            </p:nvSpPr>
            <p:spPr>
              <a:xfrm>
                <a:off x="5257800" y="868680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410080" y="8534520"/>
                <a:ext cx="752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道・橋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257800" y="8391600"/>
                <a:ext cx="152280" cy="1522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257800" y="8191800"/>
                <a:ext cx="152280" cy="15228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410080" y="7925040"/>
                <a:ext cx="914400" cy="64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山岳・荒れ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川・湖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森林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257800" y="7967880"/>
                <a:ext cx="152280" cy="1522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4" name=""/>
          <p:cNvSpPr/>
          <p:nvPr/>
        </p:nvSpPr>
        <p:spPr>
          <a:xfrm>
            <a:off x="5410080" y="681372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“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魂の回廊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572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28600" y="167652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イ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=12.8Km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266720" y="151920"/>
            <a:ext cx="2211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 rot="19644000">
            <a:off x="3119760" y="5589360"/>
            <a:ext cx="112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エリヴァル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657600" y="5207040"/>
            <a:ext cx="1676520" cy="304920"/>
          </a:xfrm>
          <a:custGeom>
            <a:avLst/>
            <a:gdLst/>
            <a:ahLst/>
            <a:rect l="l" t="t" r="r" b="b"/>
            <a:pathLst>
              <a:path w="1056" h="192">
                <a:moveTo>
                  <a:pt x="0" y="192"/>
                </a:moveTo>
                <a:lnTo>
                  <a:pt x="1056" y="192"/>
                </a:lnTo>
                <a:lnTo>
                  <a:pt x="1056" y="96"/>
                </a:lnTo>
                <a:lnTo>
                  <a:pt x="384" y="96"/>
                </a:lnTo>
                <a:lnTo>
                  <a:pt x="384" y="0"/>
                </a:lnTo>
                <a:lnTo>
                  <a:pt x="0" y="0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581280" y="5181480"/>
            <a:ext cx="1981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“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実の死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600,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5,000gp, 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038480" y="483084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殺者の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/>
          <p:nvPr/>
        </p:nvSpPr>
        <p:spPr>
          <a:xfrm>
            <a:off x="152280" y="3219480"/>
            <a:ext cx="6553440" cy="6172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715000" y="4419720"/>
            <a:ext cx="990720" cy="2438280"/>
          </a:xfrm>
          <a:custGeom>
            <a:avLst/>
            <a:gdLst/>
            <a:ahLst/>
            <a:rect l="l" t="t" r="r" b="b"/>
            <a:pathLst>
              <a:path w="624" h="1536">
                <a:moveTo>
                  <a:pt x="624" y="432"/>
                </a:moveTo>
                <a:lnTo>
                  <a:pt x="432" y="144"/>
                </a:lnTo>
                <a:lnTo>
                  <a:pt x="240" y="0"/>
                </a:lnTo>
                <a:lnTo>
                  <a:pt x="144" y="0"/>
                </a:lnTo>
                <a:lnTo>
                  <a:pt x="96" y="144"/>
                </a:lnTo>
                <a:lnTo>
                  <a:pt x="0" y="240"/>
                </a:lnTo>
                <a:lnTo>
                  <a:pt x="48" y="480"/>
                </a:lnTo>
                <a:lnTo>
                  <a:pt x="336" y="912"/>
                </a:lnTo>
                <a:lnTo>
                  <a:pt x="528" y="1440"/>
                </a:lnTo>
                <a:lnTo>
                  <a:pt x="576" y="1488"/>
                </a:lnTo>
                <a:lnTo>
                  <a:pt x="624" y="1536"/>
                </a:lnTo>
                <a:lnTo>
                  <a:pt x="624" y="432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52280" y="3200400"/>
            <a:ext cx="6553440" cy="1523880"/>
          </a:xfrm>
          <a:custGeom>
            <a:avLst/>
            <a:gdLst/>
            <a:ahLst/>
            <a:rect l="l" t="t" r="r" b="b"/>
            <a:pathLst>
              <a:path w="4128" h="960">
                <a:moveTo>
                  <a:pt x="0" y="0"/>
                </a:moveTo>
                <a:lnTo>
                  <a:pt x="4128" y="0"/>
                </a:lnTo>
                <a:lnTo>
                  <a:pt x="4128" y="960"/>
                </a:lnTo>
                <a:lnTo>
                  <a:pt x="4080" y="864"/>
                </a:lnTo>
                <a:lnTo>
                  <a:pt x="3792" y="624"/>
                </a:lnTo>
                <a:lnTo>
                  <a:pt x="3504" y="624"/>
                </a:lnTo>
                <a:lnTo>
                  <a:pt x="3408" y="672"/>
                </a:lnTo>
                <a:lnTo>
                  <a:pt x="3264" y="576"/>
                </a:lnTo>
                <a:lnTo>
                  <a:pt x="3168" y="288"/>
                </a:lnTo>
                <a:lnTo>
                  <a:pt x="2448" y="144"/>
                </a:lnTo>
                <a:lnTo>
                  <a:pt x="1680" y="192"/>
                </a:lnTo>
                <a:lnTo>
                  <a:pt x="1488" y="288"/>
                </a:lnTo>
                <a:lnTo>
                  <a:pt x="960" y="144"/>
                </a:lnTo>
                <a:lnTo>
                  <a:pt x="480" y="144"/>
                </a:lnTo>
                <a:lnTo>
                  <a:pt x="144" y="144"/>
                </a:lnTo>
                <a:lnTo>
                  <a:pt x="96" y="192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42920" y="3467160"/>
            <a:ext cx="6562800" cy="5933880"/>
          </a:xfrm>
          <a:custGeom>
            <a:avLst/>
            <a:gdLst/>
            <a:ahLst/>
            <a:rect l="l" t="t" r="r" b="b"/>
            <a:pathLst>
              <a:path w="4134" h="3738">
                <a:moveTo>
                  <a:pt x="3252" y="486"/>
                </a:moveTo>
                <a:lnTo>
                  <a:pt x="3144" y="168"/>
                </a:lnTo>
                <a:lnTo>
                  <a:pt x="2814" y="102"/>
                </a:lnTo>
                <a:lnTo>
                  <a:pt x="2436" y="42"/>
                </a:lnTo>
                <a:lnTo>
                  <a:pt x="1572" y="84"/>
                </a:lnTo>
                <a:lnTo>
                  <a:pt x="564" y="0"/>
                </a:lnTo>
                <a:lnTo>
                  <a:pt x="186" y="24"/>
                </a:lnTo>
                <a:lnTo>
                  <a:pt x="84" y="102"/>
                </a:lnTo>
                <a:lnTo>
                  <a:pt x="0" y="108"/>
                </a:lnTo>
                <a:lnTo>
                  <a:pt x="0" y="378"/>
                </a:lnTo>
                <a:lnTo>
                  <a:pt x="492" y="408"/>
                </a:lnTo>
                <a:lnTo>
                  <a:pt x="810" y="390"/>
                </a:lnTo>
                <a:lnTo>
                  <a:pt x="1104" y="432"/>
                </a:lnTo>
                <a:lnTo>
                  <a:pt x="1209" y="378"/>
                </a:lnTo>
                <a:lnTo>
                  <a:pt x="1353" y="426"/>
                </a:lnTo>
                <a:lnTo>
                  <a:pt x="1638" y="432"/>
                </a:lnTo>
                <a:lnTo>
                  <a:pt x="1638" y="492"/>
                </a:lnTo>
                <a:lnTo>
                  <a:pt x="1866" y="492"/>
                </a:lnTo>
                <a:lnTo>
                  <a:pt x="1866" y="432"/>
                </a:lnTo>
                <a:lnTo>
                  <a:pt x="2073" y="426"/>
                </a:lnTo>
                <a:lnTo>
                  <a:pt x="2169" y="378"/>
                </a:lnTo>
                <a:lnTo>
                  <a:pt x="2697" y="378"/>
                </a:lnTo>
                <a:lnTo>
                  <a:pt x="2940" y="672"/>
                </a:lnTo>
                <a:lnTo>
                  <a:pt x="2958" y="756"/>
                </a:lnTo>
                <a:lnTo>
                  <a:pt x="2874" y="798"/>
                </a:lnTo>
                <a:lnTo>
                  <a:pt x="2874" y="948"/>
                </a:lnTo>
                <a:lnTo>
                  <a:pt x="2916" y="1068"/>
                </a:lnTo>
                <a:lnTo>
                  <a:pt x="2982" y="1092"/>
                </a:lnTo>
                <a:lnTo>
                  <a:pt x="3033" y="1098"/>
                </a:lnTo>
                <a:lnTo>
                  <a:pt x="3177" y="1290"/>
                </a:lnTo>
                <a:lnTo>
                  <a:pt x="3273" y="1530"/>
                </a:lnTo>
                <a:lnTo>
                  <a:pt x="3465" y="1626"/>
                </a:lnTo>
                <a:lnTo>
                  <a:pt x="3465" y="1770"/>
                </a:lnTo>
                <a:lnTo>
                  <a:pt x="3561" y="1818"/>
                </a:lnTo>
                <a:lnTo>
                  <a:pt x="3561" y="2010"/>
                </a:lnTo>
                <a:lnTo>
                  <a:pt x="3657" y="2346"/>
                </a:lnTo>
                <a:lnTo>
                  <a:pt x="3705" y="2394"/>
                </a:lnTo>
                <a:cubicBezTo>
                  <a:pt x="3712" y="2450"/>
                  <a:pt x="3697" y="2587"/>
                  <a:pt x="3696" y="2682"/>
                </a:cubicBezTo>
                <a:cubicBezTo>
                  <a:pt x="3694" y="2737"/>
                  <a:pt x="3707" y="2723"/>
                  <a:pt x="3696" y="2724"/>
                </a:cubicBezTo>
                <a:cubicBezTo>
                  <a:pt x="3685" y="2725"/>
                  <a:pt x="3641" y="2663"/>
                  <a:pt x="3630" y="2688"/>
                </a:cubicBezTo>
                <a:cubicBezTo>
                  <a:pt x="3619" y="2713"/>
                  <a:pt x="3619" y="2843"/>
                  <a:pt x="3630" y="2874"/>
                </a:cubicBezTo>
                <a:cubicBezTo>
                  <a:pt x="3641" y="2905"/>
                  <a:pt x="3684" y="2859"/>
                  <a:pt x="3696" y="2874"/>
                </a:cubicBezTo>
                <a:cubicBezTo>
                  <a:pt x="3708" y="2889"/>
                  <a:pt x="3708" y="2943"/>
                  <a:pt x="3699" y="2964"/>
                </a:cubicBezTo>
                <a:cubicBezTo>
                  <a:pt x="3697" y="2990"/>
                  <a:pt x="3673" y="2959"/>
                  <a:pt x="3642" y="3000"/>
                </a:cubicBezTo>
                <a:lnTo>
                  <a:pt x="3852" y="3210"/>
                </a:lnTo>
                <a:lnTo>
                  <a:pt x="4056" y="3738"/>
                </a:lnTo>
                <a:lnTo>
                  <a:pt x="4134" y="3720"/>
                </a:lnTo>
                <a:lnTo>
                  <a:pt x="4134" y="2202"/>
                </a:lnTo>
                <a:lnTo>
                  <a:pt x="4026" y="2100"/>
                </a:lnTo>
                <a:lnTo>
                  <a:pt x="3798" y="1512"/>
                </a:lnTo>
                <a:lnTo>
                  <a:pt x="3528" y="1134"/>
                </a:lnTo>
                <a:lnTo>
                  <a:pt x="3480" y="900"/>
                </a:lnTo>
                <a:lnTo>
                  <a:pt x="3252" y="486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lin ang="13500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104760" y="209520"/>
            <a:ext cx="403848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“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実の死”の町の周辺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所属：“灰色の荒野”ハデス、第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階層“霧の国”ニブルヘイ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魔法的権力中枢：ナレイル（リッチ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R13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～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非正統的権力中枢： 普請頭ペグ・オネイ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エキスパー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：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,600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ゲーム中の取引上限価格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15,000g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町の主な組織：主な所属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警備兵：ネルルの神殿騎士クレイ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ター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食料工場：工場長ソイレンス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ガス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+α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普請ギル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外壁補修と巡視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：ペグ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上記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本と占いの館：図書館長フォーサス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ウィザー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ネル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死と欺きの邪神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神殿：次席司祭デルフノー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レリック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シンドア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と旅の神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神殿：ソルロンノ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レリック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その他：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宿屋“安らかな眠り”亭：店主ハラデ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モナー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雑貨屋“冥土の土産屋”：店主 ハンガー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鍛冶工房“ギロチン屋”：トビアス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エキスパー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：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：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2800" y="2286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“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実の死”周辺における冒険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80520" y="9601200"/>
            <a:ext cx="58294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57200" y="95248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91120" y="9524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 ft(=900m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791320" y="2273400"/>
            <a:ext cx="152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791320" y="24890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5877000" y="2158920"/>
            <a:ext cx="752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道・石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防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5181480" y="2438280"/>
            <a:ext cx="15264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181480" y="2209680"/>
            <a:ext cx="152640" cy="152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886200" y="22050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334120" y="2162160"/>
            <a:ext cx="12952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森林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886200" y="2400480"/>
            <a:ext cx="152280" cy="15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886200" y="2590920"/>
            <a:ext cx="152280" cy="15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038480" y="2133720"/>
            <a:ext cx="1143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居住区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居住区画（富裕層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居住区画（貧民層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944880" y="8474040"/>
            <a:ext cx="2455920" cy="907920"/>
          </a:xfrm>
          <a:custGeom>
            <a:avLst/>
            <a:gdLst/>
            <a:ahLst/>
            <a:rect l="l" t="t" r="r" b="b"/>
            <a:pathLst>
              <a:path w="1547" h="572">
                <a:moveTo>
                  <a:pt x="53" y="332"/>
                </a:moveTo>
                <a:cubicBezTo>
                  <a:pt x="0" y="372"/>
                  <a:pt x="125" y="512"/>
                  <a:pt x="41" y="560"/>
                </a:cubicBezTo>
                <a:cubicBezTo>
                  <a:pt x="299" y="572"/>
                  <a:pt x="1175" y="548"/>
                  <a:pt x="1529" y="554"/>
                </a:cubicBezTo>
                <a:cubicBezTo>
                  <a:pt x="1547" y="392"/>
                  <a:pt x="1483" y="267"/>
                  <a:pt x="1445" y="176"/>
                </a:cubicBezTo>
                <a:cubicBezTo>
                  <a:pt x="1407" y="85"/>
                  <a:pt x="1381" y="16"/>
                  <a:pt x="1301" y="8"/>
                </a:cubicBezTo>
                <a:cubicBezTo>
                  <a:pt x="1221" y="0"/>
                  <a:pt x="1059" y="104"/>
                  <a:pt x="965" y="128"/>
                </a:cubicBezTo>
                <a:cubicBezTo>
                  <a:pt x="871" y="152"/>
                  <a:pt x="838" y="120"/>
                  <a:pt x="737" y="152"/>
                </a:cubicBezTo>
                <a:cubicBezTo>
                  <a:pt x="569" y="212"/>
                  <a:pt x="473" y="290"/>
                  <a:pt x="359" y="320"/>
                </a:cubicBezTo>
                <a:cubicBezTo>
                  <a:pt x="245" y="350"/>
                  <a:pt x="117" y="330"/>
                  <a:pt x="53" y="332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52280" y="4025880"/>
            <a:ext cx="1587600" cy="2033640"/>
          </a:xfrm>
          <a:custGeom>
            <a:avLst/>
            <a:gdLst/>
            <a:ahLst/>
            <a:rect l="l" t="t" r="r" b="b"/>
            <a:pathLst>
              <a:path w="1000" h="1281">
                <a:moveTo>
                  <a:pt x="486" y="857"/>
                </a:moveTo>
                <a:cubicBezTo>
                  <a:pt x="411" y="978"/>
                  <a:pt x="355" y="940"/>
                  <a:pt x="318" y="1001"/>
                </a:cubicBezTo>
                <a:cubicBezTo>
                  <a:pt x="281" y="1062"/>
                  <a:pt x="312" y="1179"/>
                  <a:pt x="262" y="1225"/>
                </a:cubicBezTo>
                <a:cubicBezTo>
                  <a:pt x="212" y="1271"/>
                  <a:pt x="248" y="1264"/>
                  <a:pt x="14" y="1281"/>
                </a:cubicBezTo>
                <a:cubicBezTo>
                  <a:pt x="0" y="896"/>
                  <a:pt x="0" y="144"/>
                  <a:pt x="0" y="32"/>
                </a:cubicBezTo>
                <a:cubicBezTo>
                  <a:pt x="272" y="56"/>
                  <a:pt x="200" y="105"/>
                  <a:pt x="360" y="112"/>
                </a:cubicBezTo>
                <a:cubicBezTo>
                  <a:pt x="520" y="119"/>
                  <a:pt x="784" y="0"/>
                  <a:pt x="958" y="73"/>
                </a:cubicBezTo>
                <a:cubicBezTo>
                  <a:pt x="1000" y="67"/>
                  <a:pt x="854" y="161"/>
                  <a:pt x="790" y="329"/>
                </a:cubicBezTo>
                <a:cubicBezTo>
                  <a:pt x="726" y="497"/>
                  <a:pt x="485" y="695"/>
                  <a:pt x="486" y="857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71360" y="6610320"/>
            <a:ext cx="3143520" cy="2789280"/>
          </a:xfrm>
          <a:custGeom>
            <a:avLst/>
            <a:gdLst/>
            <a:ahLst/>
            <a:rect l="l" t="t" r="r" b="b"/>
            <a:pathLst>
              <a:path w="1980" h="1757">
                <a:moveTo>
                  <a:pt x="1656" y="1602"/>
                </a:moveTo>
                <a:cubicBezTo>
                  <a:pt x="1575" y="1536"/>
                  <a:pt x="1078" y="1447"/>
                  <a:pt x="900" y="1344"/>
                </a:cubicBezTo>
                <a:cubicBezTo>
                  <a:pt x="722" y="1241"/>
                  <a:pt x="679" y="1082"/>
                  <a:pt x="588" y="984"/>
                </a:cubicBezTo>
                <a:cubicBezTo>
                  <a:pt x="497" y="886"/>
                  <a:pt x="422" y="893"/>
                  <a:pt x="354" y="756"/>
                </a:cubicBezTo>
                <a:cubicBezTo>
                  <a:pt x="286" y="619"/>
                  <a:pt x="241" y="280"/>
                  <a:pt x="182" y="161"/>
                </a:cubicBezTo>
                <a:cubicBezTo>
                  <a:pt x="123" y="42"/>
                  <a:pt x="126" y="0"/>
                  <a:pt x="0" y="42"/>
                </a:cubicBezTo>
                <a:cubicBezTo>
                  <a:pt x="0" y="402"/>
                  <a:pt x="0" y="1404"/>
                  <a:pt x="0" y="1740"/>
                </a:cubicBezTo>
                <a:cubicBezTo>
                  <a:pt x="414" y="1716"/>
                  <a:pt x="1428" y="1757"/>
                  <a:pt x="1704" y="1734"/>
                </a:cubicBezTo>
                <a:cubicBezTo>
                  <a:pt x="1980" y="1711"/>
                  <a:pt x="1666" y="1630"/>
                  <a:pt x="1656" y="1602"/>
                </a:cubicBez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rot="16728000">
            <a:off x="1980720" y="41144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rot="16416000">
            <a:off x="1981080" y="4419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rot="16368000">
            <a:off x="1905120" y="4723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rot="15840600">
            <a:off x="1981080" y="5333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rot="16200000">
            <a:off x="1981080" y="57146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rot="15913800">
            <a:off x="1980720" y="6019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rot="16222800">
            <a:off x="1981080" y="6447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rot="16390200">
            <a:off x="1981080" y="67910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rot="16586400">
            <a:off x="1980720" y="7066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rot="16876200">
            <a:off x="1952280" y="73814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rot="16869600">
            <a:off x="1924200" y="76766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rot="17186400">
            <a:off x="1914120" y="7962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rot="16728000">
            <a:off x="2285640" y="41144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rot="16200000">
            <a:off x="2266920" y="4400280"/>
            <a:ext cx="2286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rot="16390200">
            <a:off x="2209680" y="4723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rot="15521400">
            <a:off x="2285640" y="5333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rot="16416000">
            <a:off x="2286000" y="5714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rot="16200000">
            <a:off x="2286000" y="6019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rot="16449000">
            <a:off x="2286000" y="6476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rot="16511400">
            <a:off x="2247480" y="71197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rot="16431000">
            <a:off x="2285640" y="8076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rot="16775400">
            <a:off x="2286000" y="83815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rot="16200000">
            <a:off x="2590920" y="41144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rot="16368000">
            <a:off x="2616120" y="4723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rot="16925400">
            <a:off x="2619360" y="50097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rot="16440000">
            <a:off x="2714760" y="54093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rot="16803000">
            <a:off x="2666880" y="57146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rot="16450800">
            <a:off x="2666880" y="6019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rot="16200000">
            <a:off x="2590920" y="64958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rot="16200000">
            <a:off x="2590920" y="6800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rot="15936000">
            <a:off x="2599920" y="74667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rot="15777000">
            <a:off x="2571480" y="8076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rot="15745800">
            <a:off x="2590920" y="83811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rot="16537800">
            <a:off x="2908080" y="4723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rot="16680600">
            <a:off x="2908440" y="50288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 rot="16200000">
            <a:off x="3009960" y="5409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 rot="16584000">
            <a:off x="2971800" y="57146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rot="16488000">
            <a:off x="2971800" y="6019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 rot="16019400">
            <a:off x="2895120" y="6771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 rot="16200000">
            <a:off x="2905200" y="7076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rot="16031400">
            <a:off x="2905200" y="74667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 rot="15861600">
            <a:off x="2895480" y="77720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rot="15738000">
            <a:off x="2866680" y="8076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rot="16200000">
            <a:off x="2876400" y="83815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rot="16200000">
            <a:off x="3276720" y="41144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rot="15502200">
            <a:off x="3276360" y="4419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rot="16009200">
            <a:off x="3250800" y="5028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 rot="15671400">
            <a:off x="3276360" y="5409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 rot="16200000">
            <a:off x="3314520" y="567648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rot="16200000">
            <a:off x="2819520" y="86864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 rot="15651600">
            <a:off x="685440" y="6628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 rot="16747800">
            <a:off x="3200400" y="6781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 rot="16537800">
            <a:off x="3209400" y="7085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 rot="16368000">
            <a:off x="3228840" y="74667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 rot="16756200">
            <a:off x="3209400" y="77720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 rot="17047800">
            <a:off x="3161880" y="8076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rot="16390200">
            <a:off x="3171960" y="83815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 rot="16200000">
            <a:off x="3581280" y="4038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rot="15745800">
            <a:off x="3581280" y="4342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rot="15745800">
            <a:off x="3581280" y="464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rot="15745800">
            <a:off x="3581280" y="4990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rot="16200000">
            <a:off x="3657600" y="53337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rot="15936000">
            <a:off x="3657240" y="6780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rot="16200000">
            <a:off x="3657600" y="70862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rot="16558800">
            <a:off x="3657600" y="73526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rot="15698400">
            <a:off x="3638160" y="7800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rot="15546600">
            <a:off x="3676680" y="8076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 rot="16200000">
            <a:off x="3886200" y="4038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 rot="16200000">
            <a:off x="3886200" y="43430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rot="15458400">
            <a:off x="3885840" y="4647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rot="15004800">
            <a:off x="3885840" y="49521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rot="16200000">
            <a:off x="3962520" y="53337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rot="16200000">
            <a:off x="3962520" y="5638320"/>
            <a:ext cx="228600" cy="228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 rot="15926400">
            <a:off x="3962160" y="64191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 rot="15624000">
            <a:off x="3962160" y="6724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rot="16200000">
            <a:off x="3962520" y="7029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 rot="16438200">
            <a:off x="3962520" y="7333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rot="15577200">
            <a:off x="3943080" y="7771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 rot="16200000">
            <a:off x="3981600" y="8076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 rot="16200000">
            <a:off x="4191120" y="4038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rot="15458400">
            <a:off x="4190760" y="43430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 rot="15458400">
            <a:off x="4190760" y="4647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rot="15745800">
            <a:off x="4191120" y="4923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rot="16200000">
            <a:off x="4191120" y="5943240"/>
            <a:ext cx="228600" cy="228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 rot="16803000">
            <a:off x="4267080" y="6505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rot="16416000">
            <a:off x="4267080" y="68097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rot="16680600">
            <a:off x="4267080" y="7114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rot="16365600">
            <a:off x="4266720" y="73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rot="16200000">
            <a:off x="4248000" y="7743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rot="16056600">
            <a:off x="4285800" y="8076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rot="16633200">
            <a:off x="4267080" y="83815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 rot="16344600">
            <a:off x="990720" y="7428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rot="16200000">
            <a:off x="4476600" y="4381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 rot="17200200">
            <a:off x="4485960" y="4695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rot="17200200">
            <a:off x="4647960" y="5133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rot="16200000">
            <a:off x="4572000" y="64958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rot="16200000">
            <a:off x="4572000" y="6800400"/>
            <a:ext cx="228600" cy="228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rot="16200000">
            <a:off x="4572000" y="71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rot="16200000">
            <a:off x="4572000" y="74102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 rot="17001000">
            <a:off x="4552560" y="7771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16753200">
            <a:off x="4590720" y="8076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rot="16463400">
            <a:off x="4572000" y="83815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 rot="16662600">
            <a:off x="1552320" y="7372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rot="16881000">
            <a:off x="1523880" y="76478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 rot="16633200">
            <a:off x="1295280" y="74102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rot="16200000">
            <a:off x="4876920" y="540972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 rot="16200000">
            <a:off x="4876920" y="571464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rot="15936000">
            <a:off x="4952520" y="693360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rot="16200000">
            <a:off x="4876920" y="72385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rot="16200000">
            <a:off x="4876920" y="75243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rot="16972200">
            <a:off x="4876560" y="79527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rot="15398400">
            <a:off x="1066680" y="5409720"/>
            <a:ext cx="228600" cy="2286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 rot="15624000">
            <a:off x="990360" y="6514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 rot="15913800">
            <a:off x="990360" y="6819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rot="16200000">
            <a:off x="990720" y="7124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rot="15936000">
            <a:off x="5257440" y="6628680"/>
            <a:ext cx="228600" cy="2286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rot="15549000">
            <a:off x="5257440" y="6933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rot="15888000">
            <a:off x="5181120" y="72381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 rot="16295400">
            <a:off x="5181120" y="7543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 rot="16200000">
            <a:off x="5181480" y="7953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 rot="16200000">
            <a:off x="5181480" y="8257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rot="15398400">
            <a:off x="1371600" y="5409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rot="15568200">
            <a:off x="1371240" y="5714640"/>
            <a:ext cx="228600" cy="2286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rot="16009200">
            <a:off x="1371240" y="6019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rot="15502200">
            <a:off x="1294920" y="6495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rot="15549000">
            <a:off x="1294920" y="68000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 rot="16200000">
            <a:off x="1295280" y="7105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rot="16200000">
            <a:off x="5562720" y="6324120"/>
            <a:ext cx="228600" cy="2286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 rot="16056600">
            <a:off x="5562360" y="66290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rot="15698400">
            <a:off x="5562360" y="6933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 rot="15624000">
            <a:off x="5486040" y="7209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rot="15427200">
            <a:off x="5486400" y="7505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rot="15651600">
            <a:off x="5486040" y="79430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rot="16033800">
            <a:off x="5486400" y="82292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rot="15718800">
            <a:off x="1676160" y="5333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rot="15859200">
            <a:off x="1676520" y="57146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 rot="15913800">
            <a:off x="1676160" y="6019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rot="15745800">
            <a:off x="1600200" y="6476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rot="16511400">
            <a:off x="1619280" y="67622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rot="16756200">
            <a:off x="1590480" y="70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 rot="15958200">
            <a:off x="1345680" y="5104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rot="16416000">
            <a:off x="1676520" y="4419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rot="16416000">
            <a:off x="1600200" y="4723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rot="15671400">
            <a:off x="1612440" y="50288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 rot="16200000">
            <a:off x="5791320" y="72385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rot="16200000">
            <a:off x="5791320" y="75434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rot="16200000">
            <a:off x="5791320" y="7924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800600" y="6019920"/>
            <a:ext cx="838080" cy="83808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0"/>
                </a:moveTo>
                <a:lnTo>
                  <a:pt x="528" y="0"/>
                </a:lnTo>
                <a:lnTo>
                  <a:pt x="528" y="144"/>
                </a:lnTo>
                <a:lnTo>
                  <a:pt x="480" y="144"/>
                </a:lnTo>
                <a:lnTo>
                  <a:pt x="432" y="192"/>
                </a:lnTo>
                <a:lnTo>
                  <a:pt x="432" y="336"/>
                </a:lnTo>
                <a:lnTo>
                  <a:pt x="288" y="336"/>
                </a:lnTo>
                <a:lnTo>
                  <a:pt x="240" y="384"/>
                </a:lnTo>
                <a:lnTo>
                  <a:pt x="240" y="528"/>
                </a:lnTo>
                <a:lnTo>
                  <a:pt x="96" y="528"/>
                </a:lnTo>
                <a:lnTo>
                  <a:pt x="96" y="192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2666880" y="4114800"/>
            <a:ext cx="53352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192" y="0"/>
                </a:moveTo>
                <a:lnTo>
                  <a:pt x="336" y="0"/>
                </a:lnTo>
                <a:lnTo>
                  <a:pt x="336" y="336"/>
                </a:lnTo>
                <a:lnTo>
                  <a:pt x="0" y="336"/>
                </a:lnTo>
                <a:lnTo>
                  <a:pt x="0" y="192"/>
                </a:lnTo>
                <a:lnTo>
                  <a:pt x="144" y="192"/>
                </a:lnTo>
                <a:lnTo>
                  <a:pt x="192" y="144"/>
                </a:lnTo>
                <a:lnTo>
                  <a:pt x="19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2286000" y="7467480"/>
            <a:ext cx="552600" cy="533520"/>
          </a:xfrm>
          <a:custGeom>
            <a:avLst/>
            <a:gdLst/>
            <a:ahLst/>
            <a:rect l="l" t="t" r="r" b="b"/>
            <a:pathLst>
              <a:path w="348" h="336">
                <a:moveTo>
                  <a:pt x="0" y="0"/>
                </a:moveTo>
                <a:lnTo>
                  <a:pt x="0" y="336"/>
                </a:lnTo>
                <a:lnTo>
                  <a:pt x="348" y="324"/>
                </a:lnTo>
                <a:lnTo>
                  <a:pt x="348" y="198"/>
                </a:lnTo>
                <a:lnTo>
                  <a:pt x="204" y="198"/>
                </a:lnTo>
                <a:lnTo>
                  <a:pt x="144" y="156"/>
                </a:lnTo>
                <a:lnTo>
                  <a:pt x="1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85800" y="4038480"/>
            <a:ext cx="5348160" cy="4876920"/>
          </a:xfrm>
          <a:custGeom>
            <a:avLst/>
            <a:gdLst/>
            <a:ahLst/>
            <a:rect l="l" t="t" r="r" b="b"/>
            <a:pathLst>
              <a:path w="3369" h="3072">
                <a:moveTo>
                  <a:pt x="0" y="1344"/>
                </a:moveTo>
                <a:lnTo>
                  <a:pt x="48" y="1008"/>
                </a:lnTo>
                <a:lnTo>
                  <a:pt x="192" y="912"/>
                </a:lnTo>
                <a:lnTo>
                  <a:pt x="240" y="672"/>
                </a:lnTo>
                <a:lnTo>
                  <a:pt x="480" y="480"/>
                </a:lnTo>
                <a:lnTo>
                  <a:pt x="576" y="192"/>
                </a:lnTo>
                <a:lnTo>
                  <a:pt x="864" y="0"/>
                </a:lnTo>
                <a:lnTo>
                  <a:pt x="1008" y="48"/>
                </a:lnTo>
                <a:lnTo>
                  <a:pt x="1728" y="48"/>
                </a:lnTo>
                <a:lnTo>
                  <a:pt x="1824" y="0"/>
                </a:lnTo>
                <a:lnTo>
                  <a:pt x="2352" y="0"/>
                </a:lnTo>
                <a:lnTo>
                  <a:pt x="2592" y="288"/>
                </a:lnTo>
                <a:lnTo>
                  <a:pt x="2688" y="720"/>
                </a:lnTo>
                <a:lnTo>
                  <a:pt x="2832" y="912"/>
                </a:lnTo>
                <a:lnTo>
                  <a:pt x="2928" y="1152"/>
                </a:lnTo>
                <a:lnTo>
                  <a:pt x="3120" y="1248"/>
                </a:lnTo>
                <a:lnTo>
                  <a:pt x="3120" y="1392"/>
                </a:lnTo>
                <a:lnTo>
                  <a:pt x="3216" y="1440"/>
                </a:lnTo>
                <a:lnTo>
                  <a:pt x="3216" y="1632"/>
                </a:lnTo>
                <a:lnTo>
                  <a:pt x="3312" y="1968"/>
                </a:lnTo>
                <a:lnTo>
                  <a:pt x="3360" y="2016"/>
                </a:lnTo>
                <a:cubicBezTo>
                  <a:pt x="3358" y="2206"/>
                  <a:pt x="3369" y="2397"/>
                  <a:pt x="3354" y="2586"/>
                </a:cubicBezTo>
                <a:cubicBezTo>
                  <a:pt x="3352" y="2612"/>
                  <a:pt x="3288" y="2628"/>
                  <a:pt x="3288" y="2628"/>
                </a:cubicBezTo>
                <a:lnTo>
                  <a:pt x="3168" y="2832"/>
                </a:lnTo>
                <a:lnTo>
                  <a:pt x="2688" y="2880"/>
                </a:lnTo>
                <a:lnTo>
                  <a:pt x="2496" y="2976"/>
                </a:lnTo>
                <a:lnTo>
                  <a:pt x="2304" y="3072"/>
                </a:lnTo>
                <a:lnTo>
                  <a:pt x="1968" y="30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638280" y="6486480"/>
            <a:ext cx="2790720" cy="2428920"/>
          </a:xfrm>
          <a:custGeom>
            <a:avLst/>
            <a:gdLst/>
            <a:ahLst/>
            <a:rect l="l" t="t" r="r" b="b"/>
            <a:pathLst>
              <a:path w="1758" h="1530">
                <a:moveTo>
                  <a:pt x="0" y="0"/>
                </a:moveTo>
                <a:lnTo>
                  <a:pt x="30" y="330"/>
                </a:lnTo>
                <a:lnTo>
                  <a:pt x="126" y="426"/>
                </a:lnTo>
                <a:lnTo>
                  <a:pt x="222" y="762"/>
                </a:lnTo>
                <a:lnTo>
                  <a:pt x="462" y="858"/>
                </a:lnTo>
                <a:lnTo>
                  <a:pt x="606" y="1146"/>
                </a:lnTo>
                <a:lnTo>
                  <a:pt x="894" y="1338"/>
                </a:lnTo>
                <a:lnTo>
                  <a:pt x="1278" y="1434"/>
                </a:lnTo>
                <a:lnTo>
                  <a:pt x="1374" y="1530"/>
                </a:lnTo>
                <a:lnTo>
                  <a:pt x="1758" y="153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429000" y="6248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5486400" y="4267080"/>
            <a:ext cx="1219320" cy="685800"/>
          </a:xfrm>
          <a:custGeom>
            <a:avLst/>
            <a:gdLst/>
            <a:ahLst/>
            <a:rect l="l" t="t" r="r" b="b"/>
            <a:pathLst>
              <a:path w="768" h="432">
                <a:moveTo>
                  <a:pt x="0" y="96"/>
                </a:moveTo>
                <a:lnTo>
                  <a:pt x="384" y="0"/>
                </a:lnTo>
                <a:lnTo>
                  <a:pt x="672" y="240"/>
                </a:lnTo>
                <a:lnTo>
                  <a:pt x="768" y="432"/>
                </a:ln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 flipH="1">
            <a:off x="152280" y="6324480"/>
            <a:ext cx="457200" cy="18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rot="16200000">
            <a:off x="5453280" y="4404960"/>
            <a:ext cx="123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rot="15708600">
            <a:off x="4647960" y="4876560"/>
            <a:ext cx="85680" cy="228600"/>
          </a:xfrm>
          <a:custGeom>
            <a:avLst/>
            <a:gdLst/>
            <a:ahLst/>
            <a:rect l="l" t="t" r="r" b="b"/>
            <a:pathLst>
              <a:path w="256" h="594">
                <a:moveTo>
                  <a:pt x="133" y="0"/>
                </a:moveTo>
                <a:cubicBezTo>
                  <a:pt x="165" y="1"/>
                  <a:pt x="209" y="159"/>
                  <a:pt x="224" y="258"/>
                </a:cubicBezTo>
                <a:cubicBezTo>
                  <a:pt x="239" y="357"/>
                  <a:pt x="256" y="538"/>
                  <a:pt x="224" y="594"/>
                </a:cubicBezTo>
                <a:lnTo>
                  <a:pt x="32" y="594"/>
                </a:lnTo>
                <a:cubicBezTo>
                  <a:pt x="0" y="537"/>
                  <a:pt x="15" y="351"/>
                  <a:pt x="32" y="252"/>
                </a:cubicBezTo>
                <a:cubicBezTo>
                  <a:pt x="49" y="153"/>
                  <a:pt x="112" y="52"/>
                  <a:pt x="133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 rot="15048600">
            <a:off x="5481360" y="4500360"/>
            <a:ext cx="85680" cy="228600"/>
          </a:xfrm>
          <a:custGeom>
            <a:avLst/>
            <a:gdLst/>
            <a:ahLst/>
            <a:rect l="l" t="t" r="r" b="b"/>
            <a:pathLst>
              <a:path w="256" h="594">
                <a:moveTo>
                  <a:pt x="133" y="0"/>
                </a:moveTo>
                <a:cubicBezTo>
                  <a:pt x="165" y="1"/>
                  <a:pt x="209" y="159"/>
                  <a:pt x="224" y="258"/>
                </a:cubicBezTo>
                <a:cubicBezTo>
                  <a:pt x="239" y="357"/>
                  <a:pt x="256" y="538"/>
                  <a:pt x="224" y="594"/>
                </a:cubicBezTo>
                <a:lnTo>
                  <a:pt x="32" y="594"/>
                </a:lnTo>
                <a:cubicBezTo>
                  <a:pt x="0" y="537"/>
                  <a:pt x="15" y="351"/>
                  <a:pt x="32" y="252"/>
                </a:cubicBezTo>
                <a:cubicBezTo>
                  <a:pt x="49" y="153"/>
                  <a:pt x="112" y="52"/>
                  <a:pt x="133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543480" y="8915400"/>
            <a:ext cx="37800" cy="438120"/>
          </a:xfrm>
          <a:custGeom>
            <a:avLst/>
            <a:gdLst/>
            <a:ahLst/>
            <a:rect l="l" t="t" r="r" b="b"/>
            <a:pathLst>
              <a:path w="24" h="276">
                <a:moveTo>
                  <a:pt x="24" y="0"/>
                </a:moveTo>
                <a:lnTo>
                  <a:pt x="0" y="144"/>
                </a:lnTo>
                <a:lnTo>
                  <a:pt x="18" y="276"/>
                </a:ln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rot="246600">
            <a:off x="761760" y="5715000"/>
            <a:ext cx="53316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144"/>
                </a:moveTo>
                <a:lnTo>
                  <a:pt x="144" y="144"/>
                </a:lnTo>
                <a:lnTo>
                  <a:pt x="192" y="192"/>
                </a:lnTo>
                <a:lnTo>
                  <a:pt x="192" y="336"/>
                </a:lnTo>
                <a:lnTo>
                  <a:pt x="336" y="336"/>
                </a:lnTo>
                <a:lnTo>
                  <a:pt x="336" y="0"/>
                </a:lnTo>
                <a:lnTo>
                  <a:pt x="0" y="0"/>
                </a:lnTo>
                <a:lnTo>
                  <a:pt x="0" y="1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657600" y="8381880"/>
            <a:ext cx="685800" cy="533520"/>
          </a:xfrm>
          <a:custGeom>
            <a:avLst/>
            <a:gdLst/>
            <a:ahLst/>
            <a:rect l="l" t="t" r="r" b="b"/>
            <a:pathLst>
              <a:path w="432" h="336">
                <a:moveTo>
                  <a:pt x="0" y="0"/>
                </a:moveTo>
                <a:lnTo>
                  <a:pt x="336" y="0"/>
                </a:lnTo>
                <a:lnTo>
                  <a:pt x="336" y="144"/>
                </a:lnTo>
                <a:lnTo>
                  <a:pt x="432" y="192"/>
                </a:lnTo>
                <a:lnTo>
                  <a:pt x="432" y="336"/>
                </a:lnTo>
                <a:lnTo>
                  <a:pt x="300" y="330"/>
                </a:lnTo>
                <a:lnTo>
                  <a:pt x="288" y="192"/>
                </a:lnTo>
                <a:lnTo>
                  <a:pt x="144" y="144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rot="15708600">
            <a:off x="5842440" y="7734600"/>
            <a:ext cx="74520" cy="199800"/>
          </a:xfrm>
          <a:custGeom>
            <a:avLst/>
            <a:gdLst/>
            <a:ahLst/>
            <a:rect l="l" t="t" r="r" b="b"/>
            <a:pathLst>
              <a:path w="256" h="594">
                <a:moveTo>
                  <a:pt x="133" y="0"/>
                </a:moveTo>
                <a:cubicBezTo>
                  <a:pt x="165" y="1"/>
                  <a:pt x="209" y="159"/>
                  <a:pt x="224" y="258"/>
                </a:cubicBezTo>
                <a:cubicBezTo>
                  <a:pt x="239" y="357"/>
                  <a:pt x="256" y="538"/>
                  <a:pt x="224" y="594"/>
                </a:cubicBezTo>
                <a:lnTo>
                  <a:pt x="32" y="594"/>
                </a:lnTo>
                <a:cubicBezTo>
                  <a:pt x="0" y="537"/>
                  <a:pt x="15" y="351"/>
                  <a:pt x="32" y="252"/>
                </a:cubicBezTo>
                <a:cubicBezTo>
                  <a:pt x="49" y="153"/>
                  <a:pt x="112" y="52"/>
                  <a:pt x="133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rot="11511600">
            <a:off x="2887560" y="4133520"/>
            <a:ext cx="74880" cy="200160"/>
          </a:xfrm>
          <a:custGeom>
            <a:avLst/>
            <a:gdLst/>
            <a:ahLst/>
            <a:rect l="l" t="t" r="r" b="b"/>
            <a:pathLst>
              <a:path w="256" h="594">
                <a:moveTo>
                  <a:pt x="133" y="0"/>
                </a:moveTo>
                <a:cubicBezTo>
                  <a:pt x="165" y="1"/>
                  <a:pt x="209" y="159"/>
                  <a:pt x="224" y="258"/>
                </a:cubicBezTo>
                <a:cubicBezTo>
                  <a:pt x="239" y="357"/>
                  <a:pt x="256" y="538"/>
                  <a:pt x="224" y="594"/>
                </a:cubicBezTo>
                <a:lnTo>
                  <a:pt x="32" y="594"/>
                </a:lnTo>
                <a:cubicBezTo>
                  <a:pt x="0" y="537"/>
                  <a:pt x="15" y="351"/>
                  <a:pt x="32" y="252"/>
                </a:cubicBezTo>
                <a:cubicBezTo>
                  <a:pt x="49" y="153"/>
                  <a:pt x="112" y="52"/>
                  <a:pt x="133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6324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267080" y="5324400"/>
            <a:ext cx="533520" cy="924120"/>
          </a:xfrm>
          <a:custGeom>
            <a:avLst/>
            <a:gdLst/>
            <a:ahLst/>
            <a:rect l="l" t="t" r="r" b="b"/>
            <a:pathLst>
              <a:path w="336" h="582">
                <a:moveTo>
                  <a:pt x="192" y="48"/>
                </a:moveTo>
                <a:lnTo>
                  <a:pt x="144" y="0"/>
                </a:lnTo>
                <a:lnTo>
                  <a:pt x="0" y="0"/>
                </a:lnTo>
                <a:lnTo>
                  <a:pt x="0" y="336"/>
                </a:lnTo>
                <a:lnTo>
                  <a:pt x="144" y="336"/>
                </a:lnTo>
                <a:lnTo>
                  <a:pt x="144" y="576"/>
                </a:lnTo>
                <a:lnTo>
                  <a:pt x="276" y="582"/>
                </a:lnTo>
                <a:lnTo>
                  <a:pt x="288" y="432"/>
                </a:lnTo>
                <a:lnTo>
                  <a:pt x="336" y="384"/>
                </a:lnTo>
                <a:lnTo>
                  <a:pt x="336" y="240"/>
                </a:lnTo>
                <a:lnTo>
                  <a:pt x="336" y="48"/>
                </a:lnTo>
                <a:lnTo>
                  <a:pt x="192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681120" y="6192720"/>
            <a:ext cx="47520" cy="31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H="1">
            <a:off x="3424320" y="8869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85800" y="628668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西門広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276720" y="609588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噴水広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flipH="1">
            <a:off x="22824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 flipV="1">
            <a:off x="441936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 flipV="1">
            <a:off x="6476760" y="79243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rot="16200000">
            <a:off x="6001200" y="5043960"/>
            <a:ext cx="10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アストラル界への次元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562720" y="4495680"/>
            <a:ext cx="10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渡し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rot="5400000">
            <a:off x="-264240" y="6177960"/>
            <a:ext cx="10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ステュクス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414600" y="9169560"/>
            <a:ext cx="10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“魂の回廊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952880" y="5715000"/>
            <a:ext cx="152640" cy="15228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4952880" y="6095880"/>
            <a:ext cx="228600" cy="22860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4572000" y="567684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4800600" y="5791320"/>
            <a:ext cx="15228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029200" y="5867280"/>
            <a:ext cx="0" cy="2286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324160" y="773424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3009960" y="414036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812880" y="575316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4165560" y="871236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673520" y="448308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362320" y="365760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エリヴァル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rot="2700000">
            <a:off x="243360" y="8365680"/>
            <a:ext cx="11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殺者の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 rot="5400000">
            <a:off x="-275040" y="3663360"/>
            <a:ext cx="10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ステュクス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3200400" y="863928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製材広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447920" y="79246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48" y="0"/>
                </a:moveTo>
                <a:lnTo>
                  <a:pt x="144" y="48"/>
                </a:lnTo>
                <a:lnTo>
                  <a:pt x="96" y="192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28800" y="8229600"/>
            <a:ext cx="38088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48" y="0"/>
                </a:moveTo>
                <a:lnTo>
                  <a:pt x="192" y="48"/>
                </a:lnTo>
                <a:lnTo>
                  <a:pt x="240" y="96"/>
                </a:lnTo>
                <a:lnTo>
                  <a:pt x="192" y="240"/>
                </a:lnTo>
                <a:lnTo>
                  <a:pt x="0" y="96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200400" y="4648320"/>
            <a:ext cx="304920" cy="30456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48" y="48"/>
                </a:moveTo>
                <a:lnTo>
                  <a:pt x="192" y="0"/>
                </a:lnTo>
                <a:lnTo>
                  <a:pt x="192" y="192"/>
                </a:lnTo>
                <a:lnTo>
                  <a:pt x="0" y="192"/>
                </a:lnTo>
                <a:lnTo>
                  <a:pt x="4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085760" y="508644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48"/>
                </a:moveTo>
                <a:lnTo>
                  <a:pt x="144" y="0"/>
                </a:lnTo>
                <a:lnTo>
                  <a:pt x="144" y="144"/>
                </a:lnTo>
                <a:lnTo>
                  <a:pt x="0" y="192"/>
                </a:ln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2895480" y="64771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144" y="0"/>
                </a:lnTo>
                <a:lnTo>
                  <a:pt x="192" y="144"/>
                </a:lnTo>
                <a:lnTo>
                  <a:pt x="144" y="144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657600" y="56386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0"/>
                </a:moveTo>
                <a:lnTo>
                  <a:pt x="144" y="0"/>
                </a:lnTo>
                <a:lnTo>
                  <a:pt x="144" y="144"/>
                </a:lnTo>
                <a:lnTo>
                  <a:pt x="48" y="192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809880" y="594360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48"/>
                </a:moveTo>
                <a:lnTo>
                  <a:pt x="96" y="0"/>
                </a:lnTo>
                <a:lnTo>
                  <a:pt x="192" y="0"/>
                </a:lnTo>
                <a:lnTo>
                  <a:pt x="192" y="144"/>
                </a:lnTo>
                <a:lnTo>
                  <a:pt x="96" y="192"/>
                </a:ln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905120" y="5029200"/>
            <a:ext cx="533160" cy="237960"/>
          </a:xfrm>
          <a:custGeom>
            <a:avLst/>
            <a:gdLst/>
            <a:ahLst/>
            <a:rect l="l" t="t" r="r" b="b"/>
            <a:pathLst>
              <a:path w="336" h="150">
                <a:moveTo>
                  <a:pt x="0" y="0"/>
                </a:moveTo>
                <a:lnTo>
                  <a:pt x="144" y="0"/>
                </a:lnTo>
                <a:lnTo>
                  <a:pt x="318" y="6"/>
                </a:lnTo>
                <a:lnTo>
                  <a:pt x="336" y="144"/>
                </a:lnTo>
                <a:lnTo>
                  <a:pt x="192" y="144"/>
                </a:lnTo>
                <a:lnTo>
                  <a:pt x="18" y="1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286000" y="6781680"/>
            <a:ext cx="581040" cy="533520"/>
          </a:xfrm>
          <a:custGeom>
            <a:avLst/>
            <a:gdLst/>
            <a:ahLst/>
            <a:rect l="l" t="t" r="r" b="b"/>
            <a:pathLst>
              <a:path w="366" h="336">
                <a:moveTo>
                  <a:pt x="0" y="0"/>
                </a:moveTo>
                <a:lnTo>
                  <a:pt x="144" y="0"/>
                </a:lnTo>
                <a:lnTo>
                  <a:pt x="156" y="96"/>
                </a:lnTo>
                <a:lnTo>
                  <a:pt x="162" y="156"/>
                </a:lnTo>
                <a:lnTo>
                  <a:pt x="222" y="180"/>
                </a:lnTo>
                <a:lnTo>
                  <a:pt x="366" y="180"/>
                </a:lnTo>
                <a:lnTo>
                  <a:pt x="348" y="330"/>
                </a:lnTo>
                <a:lnTo>
                  <a:pt x="144" y="336"/>
                </a:lnTo>
                <a:lnTo>
                  <a:pt x="138" y="180"/>
                </a:lnTo>
                <a:lnTo>
                  <a:pt x="30" y="13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848120" y="8229600"/>
            <a:ext cx="257400" cy="361800"/>
          </a:xfrm>
          <a:custGeom>
            <a:avLst/>
            <a:gdLst/>
            <a:ahLst/>
            <a:rect l="l" t="t" r="r" b="b"/>
            <a:pathLst>
              <a:path w="162" h="228">
                <a:moveTo>
                  <a:pt x="18" y="0"/>
                </a:moveTo>
                <a:lnTo>
                  <a:pt x="162" y="48"/>
                </a:lnTo>
                <a:lnTo>
                  <a:pt x="162" y="186"/>
                </a:lnTo>
                <a:lnTo>
                  <a:pt x="66" y="192"/>
                </a:lnTo>
                <a:lnTo>
                  <a:pt x="0" y="228"/>
                </a:lnTo>
                <a:lnTo>
                  <a:pt x="0" y="6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4479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シンドアの神殿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(</a:t>
            </a: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宿を兼ねる</a:t>
            </a: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209680" y="3886200"/>
            <a:ext cx="6098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4572000" y="406728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雑貨屋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「冥土の土産屋」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 flipH="1">
            <a:off x="4343400" y="4267080"/>
            <a:ext cx="457200" cy="838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267080" y="548640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食料工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76920" y="6324480"/>
            <a:ext cx="68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ネルル神殿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2286000" y="624852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宿＆食堂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「安らかな眠り亭」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H="1">
            <a:off x="2057400" y="6400800"/>
            <a:ext cx="380880" cy="7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1114560" y="856296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本と占いの館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1752480" y="7848720"/>
            <a:ext cx="685800" cy="761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038480" y="906768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普請ギル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H="1" flipV="1">
            <a:off x="4038480" y="8534160"/>
            <a:ext cx="1526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752400" y="817236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鍛冶工房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「ギロチン屋」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V="1">
            <a:off x="1371600" y="8016480"/>
            <a:ext cx="257040" cy="289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828800" y="62485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巡礼通り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rot="16200000">
            <a:off x="3229560" y="792072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南大通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876920" y="774072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首切り小路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304920" y="944892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 ([1.1.1], 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2" name="12x16" descr=""/>
          <p:cNvPicPr/>
          <p:nvPr/>
        </p:nvPicPr>
        <p:blipFill>
          <a:blip r:embed="rId1"/>
          <a:stretch/>
        </p:blipFill>
        <p:spPr>
          <a:xfrm>
            <a:off x="430200" y="304920"/>
            <a:ext cx="6113520" cy="9144000"/>
          </a:xfrm>
          <a:prstGeom prst="rect">
            <a:avLst/>
          </a:prstGeom>
          <a:ln w="0">
            <a:noFill/>
          </a:ln>
        </p:spPr>
      </p:pic>
      <p:sp>
        <p:nvSpPr>
          <p:cNvPr id="2213" name=""/>
          <p:cNvSpPr/>
          <p:nvPr/>
        </p:nvSpPr>
        <p:spPr>
          <a:xfrm rot="10800000">
            <a:off x="5549760" y="7694640"/>
            <a:ext cx="9907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 rot="10800000">
            <a:off x="3504960" y="4341600"/>
            <a:ext cx="2044440" cy="5105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rot="10800000">
            <a:off x="442440" y="4266720"/>
            <a:ext cx="4038840" cy="175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rot="10800000">
            <a:off x="5549760" y="7694640"/>
            <a:ext cx="457200" cy="1752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rot="10800000">
            <a:off x="5548320" y="3141360"/>
            <a:ext cx="990720" cy="609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 rot="10800000">
            <a:off x="6005520" y="2589120"/>
            <a:ext cx="533520" cy="609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rot="10800000">
            <a:off x="5929200" y="379440"/>
            <a:ext cx="15264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rot="10800000">
            <a:off x="442440" y="304200"/>
            <a:ext cx="3581640" cy="2895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rot="10800000">
            <a:off x="990720" y="8227800"/>
            <a:ext cx="2666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rot="10800000">
            <a:off x="3504960" y="6094080"/>
            <a:ext cx="152280" cy="3352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rot="10800000">
            <a:off x="5473440" y="7618320"/>
            <a:ext cx="10666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rot="10800000">
            <a:off x="5395680" y="3732120"/>
            <a:ext cx="11430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rot="10800000">
            <a:off x="5930640" y="8228160"/>
            <a:ext cx="152280" cy="1218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 rot="10800000">
            <a:off x="5929200" y="2512800"/>
            <a:ext cx="609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 rot="10800000">
            <a:off x="6006960" y="8227800"/>
            <a:ext cx="533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rot="10800000">
            <a:off x="442800" y="3179880"/>
            <a:ext cx="5105520" cy="1162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rot="10800000">
            <a:off x="4024080" y="3122280"/>
            <a:ext cx="20574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rot="10800000">
            <a:off x="3947760" y="836280"/>
            <a:ext cx="15228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 rot="10800000">
            <a:off x="3505320" y="302760"/>
            <a:ext cx="976320" cy="609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 rot="10800000">
            <a:off x="3947760" y="835920"/>
            <a:ext cx="21337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10800000">
            <a:off x="4404960" y="302760"/>
            <a:ext cx="1522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 rot="10800000">
            <a:off x="2971440" y="3656160"/>
            <a:ext cx="1066680" cy="838080"/>
          </a:xfrm>
          <a:prstGeom prst="cloudCallout">
            <a:avLst>
              <a:gd name="adj1" fmla="val 6995"/>
              <a:gd name="adj2" fmla="val -15152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rot="10800000">
            <a:off x="2742840" y="3045960"/>
            <a:ext cx="762120" cy="1219320"/>
          </a:xfrm>
          <a:prstGeom prst="cloudCallout">
            <a:avLst>
              <a:gd name="adj1" fmla="val 49791"/>
              <a:gd name="adj2" fmla="val -13541"/>
            </a:avLst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 rot="10800000">
            <a:off x="3581280" y="3960720"/>
            <a:ext cx="152640" cy="152640"/>
          </a:xfrm>
          <a:custGeom>
            <a:avLst/>
            <a:gdLst>
              <a:gd name="textAreaLeft" fmla="*/ 34920 w 152640"/>
              <a:gd name="textAreaRight" fmla="*/ 117720 w 15264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rot="10800000">
            <a:off x="3047760" y="335088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rot="10800000">
            <a:off x="457200" y="5943240"/>
            <a:ext cx="533520" cy="6094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rot="10800000">
            <a:off x="1066320" y="5941800"/>
            <a:ext cx="25909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 rot="10800000">
            <a:off x="990360" y="5943240"/>
            <a:ext cx="152280" cy="3505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rot="10800000">
            <a:off x="5473440" y="3808080"/>
            <a:ext cx="152280" cy="3962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 rot="10800000">
            <a:off x="5419800" y="6019560"/>
            <a:ext cx="162000" cy="1152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 rot="10800000">
            <a:off x="3895560" y="1436400"/>
            <a:ext cx="162000" cy="1152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 rot="10800000">
            <a:off x="1017720" y="7218000"/>
            <a:ext cx="185760" cy="5000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rot="10800000">
            <a:off x="1598400" y="5878440"/>
            <a:ext cx="928440" cy="1857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rot="10800000">
            <a:off x="4570200" y="3135240"/>
            <a:ext cx="928440" cy="1857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rot="10800000">
            <a:off x="5013000" y="849240"/>
            <a:ext cx="500040" cy="214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rot="10800000">
            <a:off x="5865840" y="1493640"/>
            <a:ext cx="195120" cy="5619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 rot="10800000">
            <a:off x="5471640" y="5333760"/>
            <a:ext cx="10810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rot="10800000">
            <a:off x="1603440" y="8193240"/>
            <a:ext cx="928800" cy="1857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 rot="10800000">
            <a:off x="6121440" y="5276880"/>
            <a:ext cx="419040" cy="2095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 rot="10800000">
            <a:off x="456840" y="6400440"/>
            <a:ext cx="6858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63360" y="66600"/>
            <a:ext cx="7315200" cy="9435960"/>
            <a:chOff x="63360" y="66600"/>
            <a:chExt cx="7315200" cy="9435960"/>
          </a:xfrm>
        </p:grpSpPr>
        <p:grpSp>
          <p:nvGrpSpPr>
            <p:cNvPr id="2254" name=""/>
            <p:cNvGrpSpPr/>
            <p:nvPr/>
          </p:nvGrpSpPr>
          <p:grpSpPr>
            <a:xfrm>
              <a:off x="444600" y="295200"/>
              <a:ext cx="6095880" cy="9153360"/>
              <a:chOff x="444600" y="295200"/>
              <a:chExt cx="6095880" cy="9153360"/>
            </a:xfrm>
          </p:grpSpPr>
          <p:grpSp>
            <p:nvGrpSpPr>
              <p:cNvPr id="2255" name=""/>
              <p:cNvGrpSpPr/>
              <p:nvPr/>
            </p:nvGrpSpPr>
            <p:grpSpPr>
              <a:xfrm>
                <a:off x="5002200" y="299880"/>
                <a:ext cx="1524240" cy="9148680"/>
                <a:chOff x="5002200" y="299880"/>
                <a:chExt cx="1524240" cy="9148680"/>
              </a:xfrm>
            </p:grpSpPr>
            <p:sp>
              <p:nvSpPr>
                <p:cNvPr id="2256" name=""/>
                <p:cNvSpPr/>
                <p:nvPr/>
              </p:nvSpPr>
              <p:spPr>
                <a:xfrm>
                  <a:off x="6021360" y="30456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5507280" y="29988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6526440" y="29988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5002200" y="29988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0" name=""/>
              <p:cNvGrpSpPr/>
              <p:nvPr/>
            </p:nvGrpSpPr>
            <p:grpSpPr>
              <a:xfrm>
                <a:off x="2973600" y="299880"/>
                <a:ext cx="1523880" cy="9148680"/>
                <a:chOff x="2973600" y="299880"/>
                <a:chExt cx="1523880" cy="9148680"/>
              </a:xfrm>
            </p:grpSpPr>
            <p:sp>
              <p:nvSpPr>
                <p:cNvPr id="2261" name=""/>
                <p:cNvSpPr/>
                <p:nvPr/>
              </p:nvSpPr>
              <p:spPr>
                <a:xfrm>
                  <a:off x="3992400" y="30456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3478320" y="29988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4497480" y="29988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2973600" y="29988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5" name=""/>
              <p:cNvGrpSpPr/>
              <p:nvPr/>
            </p:nvGrpSpPr>
            <p:grpSpPr>
              <a:xfrm>
                <a:off x="963720" y="295200"/>
                <a:ext cx="1523880" cy="9148680"/>
                <a:chOff x="963720" y="295200"/>
                <a:chExt cx="1523880" cy="9148680"/>
              </a:xfrm>
            </p:grpSpPr>
            <p:sp>
              <p:nvSpPr>
                <p:cNvPr id="2266" name=""/>
                <p:cNvSpPr/>
                <p:nvPr/>
              </p:nvSpPr>
              <p:spPr>
                <a:xfrm>
                  <a:off x="1982520" y="29988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1468440" y="295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2487600" y="295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963720" y="295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0" name=""/>
              <p:cNvSpPr/>
              <p:nvPr/>
            </p:nvSpPr>
            <p:spPr>
              <a:xfrm>
                <a:off x="444600" y="299880"/>
                <a:ext cx="0" cy="914400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444600" y="9443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44600" y="771984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44600" y="828684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44600" y="8867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444600" y="7157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44600" y="543384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44600" y="600084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44600" y="6581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444600" y="4871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44600" y="314784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44600" y="371484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444600" y="4295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44600" y="2585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44600" y="86184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444600" y="142884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44600" y="2009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44600" y="299880"/>
                <a:ext cx="609588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8" name=""/>
            <p:cNvSpPr/>
            <p:nvPr/>
          </p:nvSpPr>
          <p:spPr>
            <a:xfrm>
              <a:off x="7074000" y="219240"/>
              <a:ext cx="30456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3360" y="44784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9688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"/>
          <p:cNvSpPr/>
          <p:nvPr/>
        </p:nvSpPr>
        <p:spPr>
          <a:xfrm>
            <a:off x="452520" y="304920"/>
            <a:ext cx="6100560" cy="914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 rot="21330000">
            <a:off x="1676520" y="3161880"/>
            <a:ext cx="190476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2286000" y="94489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7 [1.1.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4" name=""/>
          <p:cNvGrpSpPr/>
          <p:nvPr/>
        </p:nvGrpSpPr>
        <p:grpSpPr>
          <a:xfrm>
            <a:off x="-996480" y="334800"/>
            <a:ext cx="842400" cy="856080"/>
            <a:chOff x="-996480" y="334800"/>
            <a:chExt cx="842400" cy="856080"/>
          </a:xfrm>
        </p:grpSpPr>
        <p:sp>
          <p:nvSpPr>
            <p:cNvPr id="2295" name=""/>
            <p:cNvSpPr/>
            <p:nvPr/>
          </p:nvSpPr>
          <p:spPr>
            <a:xfrm>
              <a:off x="-981000" y="38088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-723240" y="3348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-426240" y="6206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-723240" y="9144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-996480" y="6444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-609480" y="504720"/>
              <a:ext cx="0" cy="4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-780840" y="809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-990720" y="1670400"/>
            <a:ext cx="856080" cy="842040"/>
            <a:chOff x="-990720" y="1670400"/>
            <a:chExt cx="856080" cy="842040"/>
          </a:xfrm>
        </p:grpSpPr>
        <p:sp>
          <p:nvSpPr>
            <p:cNvPr id="2303" name=""/>
            <p:cNvSpPr/>
            <p:nvPr/>
          </p:nvSpPr>
          <p:spPr>
            <a:xfrm rot="16200000">
              <a:off x="-944640" y="173520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rot="16200000">
              <a:off x="-988560" y="19652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rot="16200000">
              <a:off x="-702720" y="16682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rot="16200000">
              <a:off x="-408960" y="19652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rot="16200000">
              <a:off x="-678960" y="2238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>
              <a:off x="-820800" y="2125800"/>
              <a:ext cx="4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V="1">
              <a:off x="-515880" y="19162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10" name="2x2_FireBowl.a.0" descr=""/>
          <p:cNvPicPr/>
          <p:nvPr/>
        </p:nvPicPr>
        <p:blipFill>
          <a:blip r:embed="rId3"/>
          <a:stretch/>
        </p:blipFill>
        <p:spPr>
          <a:xfrm>
            <a:off x="1981080" y="4114800"/>
            <a:ext cx="1524240" cy="1484280"/>
          </a:xfrm>
          <a:prstGeom prst="rect">
            <a:avLst/>
          </a:prstGeom>
          <a:ln w="0">
            <a:noFill/>
          </a:ln>
        </p:spPr>
      </p:pic>
      <p:sp>
        <p:nvSpPr>
          <p:cNvPr id="2311" name=""/>
          <p:cNvSpPr/>
          <p:nvPr/>
        </p:nvSpPr>
        <p:spPr>
          <a:xfrm>
            <a:off x="4038480" y="3581280"/>
            <a:ext cx="304920" cy="3049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4038480" y="2895480"/>
            <a:ext cx="304920" cy="3049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447920" y="4343400"/>
            <a:ext cx="304560" cy="3049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791320" y="304920"/>
            <a:ext cx="7617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5791320" y="304920"/>
            <a:ext cx="152280" cy="853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380880" y="3352680"/>
            <a:ext cx="76320" cy="541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7" name="2x1_DoubleDoors.a.90" descr=""/>
          <p:cNvPicPr/>
          <p:nvPr/>
        </p:nvPicPr>
        <p:blipFill>
          <a:blip r:embed="rId8"/>
          <a:srcRect l="40024" t="0" r="20071" b="0"/>
          <a:stretch/>
        </p:blipFill>
        <p:spPr>
          <a:xfrm>
            <a:off x="5715000" y="3352680"/>
            <a:ext cx="304920" cy="1524240"/>
          </a:xfrm>
          <a:prstGeom prst="rect">
            <a:avLst/>
          </a:prstGeom>
          <a:ln w="0">
            <a:noFill/>
          </a:ln>
        </p:spPr>
      </p:pic>
      <p:pic>
        <p:nvPicPr>
          <p:cNvPr id="2318" name="1x1_TrapDoor.a.270" descr=""/>
          <p:cNvPicPr/>
          <p:nvPr/>
        </p:nvPicPr>
        <p:blipFill>
          <a:blip r:embed="rId9"/>
          <a:stretch/>
        </p:blipFill>
        <p:spPr>
          <a:xfrm>
            <a:off x="4267080" y="10666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319" name=""/>
          <p:cNvSpPr/>
          <p:nvPr/>
        </p:nvSpPr>
        <p:spPr>
          <a:xfrm>
            <a:off x="5410080" y="5257800"/>
            <a:ext cx="304920" cy="30492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724280" y="5791320"/>
            <a:ext cx="304920" cy="30456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105520" y="6400800"/>
            <a:ext cx="304560" cy="30492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85800" y="6858000"/>
            <a:ext cx="304920" cy="30492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85800" y="3505320"/>
            <a:ext cx="304920" cy="30456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762120" y="5943600"/>
            <a:ext cx="304560" cy="30492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2057400" y="2590920"/>
            <a:ext cx="304920" cy="30456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743200" y="2057400"/>
            <a:ext cx="304920" cy="30492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2819520" y="3581280"/>
            <a:ext cx="304560" cy="30492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124080" y="2666880"/>
            <a:ext cx="304920" cy="30492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514600" y="6477120"/>
            <a:ext cx="304920" cy="30456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3657600" y="4495680"/>
            <a:ext cx="304920" cy="30492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2057400" y="5715000"/>
            <a:ext cx="304920" cy="30492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2971800" y="5715000"/>
            <a:ext cx="304920" cy="30492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733920" y="5334120"/>
            <a:ext cx="304560" cy="30456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676520" y="5181480"/>
            <a:ext cx="304560" cy="30492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276720" y="6705720"/>
            <a:ext cx="304560" cy="30456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1523880" y="2286000"/>
            <a:ext cx="304920" cy="30492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85800" y="5029200"/>
            <a:ext cx="304920" cy="30492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334120" y="6858000"/>
            <a:ext cx="304560" cy="30492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419720" y="6934320"/>
            <a:ext cx="304560" cy="30456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343400" y="8077320"/>
            <a:ext cx="304920" cy="30456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5410080" y="8077320"/>
            <a:ext cx="304920" cy="30456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886200" y="7620120"/>
            <a:ext cx="304920" cy="30456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57200" y="8610480"/>
            <a:ext cx="5486400" cy="7621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6680" y="304920"/>
            <a:ext cx="5492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57200" y="8610480"/>
            <a:ext cx="54864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7" name="4x2_Stairs.a.0" descr=""/>
          <p:cNvPicPr/>
          <p:nvPr/>
        </p:nvPicPr>
        <p:blipFill>
          <a:blip r:embed="rId36">
            <a:lum bright="6000"/>
          </a:blip>
          <a:srcRect l="0" t="0" r="23029" b="0"/>
          <a:stretch/>
        </p:blipFill>
        <p:spPr>
          <a:xfrm>
            <a:off x="1219320" y="45720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2348" name="2x1_DoubleDoors.a.90" descr=""/>
          <p:cNvPicPr/>
          <p:nvPr/>
        </p:nvPicPr>
        <p:blipFill>
          <a:blip r:embed="rId37"/>
          <a:srcRect l="40024" t="0" r="20071" b="0"/>
          <a:stretch/>
        </p:blipFill>
        <p:spPr>
          <a:xfrm>
            <a:off x="380880" y="1790640"/>
            <a:ext cx="324000" cy="1619280"/>
          </a:xfrm>
          <a:prstGeom prst="rect">
            <a:avLst/>
          </a:prstGeom>
          <a:ln w="0">
            <a:noFill/>
          </a:ln>
        </p:spPr>
      </p:pic>
      <p:sp>
        <p:nvSpPr>
          <p:cNvPr id="2349" name=""/>
          <p:cNvSpPr/>
          <p:nvPr/>
        </p:nvSpPr>
        <p:spPr>
          <a:xfrm>
            <a:off x="457200" y="457200"/>
            <a:ext cx="762120" cy="137160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457200" y="1790640"/>
            <a:ext cx="3048120" cy="7632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4952880" y="2819520"/>
            <a:ext cx="304920" cy="30456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4495680" y="2286000"/>
            <a:ext cx="304920" cy="30492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4495680" y="3886200"/>
            <a:ext cx="304920" cy="30492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1600200" y="6705720"/>
            <a:ext cx="304920" cy="30456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609480" y="7924680"/>
            <a:ext cx="304920" cy="30492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676520" y="7924680"/>
            <a:ext cx="304560" cy="30492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2057400" y="7467480"/>
            <a:ext cx="304920" cy="30492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rot="16467000">
            <a:off x="2323800" y="6819840"/>
            <a:ext cx="1371600" cy="6858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rot="226200">
            <a:off x="4191120" y="7238880"/>
            <a:ext cx="1371600" cy="6858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rot="21526800">
            <a:off x="1905120" y="1981080"/>
            <a:ext cx="761760" cy="6858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rot="16856400">
            <a:off x="2057400" y="3200040"/>
            <a:ext cx="533160" cy="6858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rot="226200">
            <a:off x="4952520" y="5638680"/>
            <a:ext cx="838440" cy="6858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57200" y="3314880"/>
            <a:ext cx="228600" cy="308592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rot="651600">
            <a:off x="2209680" y="3200040"/>
            <a:ext cx="381240" cy="6858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685800"/>
              <a:gd name="textAreaBottom" fmla="*/ 667440 h 685800"/>
            </a:gdLst>
            <a:ahLst/>
            <a:rect l="textAreaLeft" t="textAreaTop" r="textAreaRight" b="textAreaBottom"/>
            <a:pathLst>
              <a:path w="21600" h="38839">
                <a:moveTo>
                  <a:pt x="3600" y="0"/>
                </a:moveTo>
                <a:arcTo wR="3600" hR="3600" stAng="16200000" swAng="-5400000"/>
                <a:lnTo>
                  <a:pt x="0" y="35239"/>
                </a:lnTo>
                <a:arcTo wR="3600" hR="3600" stAng="10800000" swAng="-5400000"/>
                <a:lnTo>
                  <a:pt x="18000" y="38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 rot="16078800">
            <a:off x="889560" y="6872760"/>
            <a:ext cx="652320" cy="138096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 flipV="1">
            <a:off x="5315040" y="580320"/>
            <a:ext cx="457200" cy="523800"/>
          </a:xfrm>
          <a:prstGeom prst="can">
            <a:avLst>
              <a:gd name="adj" fmla="val 25000"/>
            </a:avLst>
          </a:pr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 flipV="1">
            <a:off x="4848120" y="590400"/>
            <a:ext cx="457200" cy="524160"/>
          </a:xfrm>
          <a:prstGeom prst="can">
            <a:avLst>
              <a:gd name="adj" fmla="val 25000"/>
            </a:avLst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 flipV="1">
            <a:off x="4362480" y="590400"/>
            <a:ext cx="457200" cy="524160"/>
          </a:xfrm>
          <a:prstGeom prst="can">
            <a:avLst>
              <a:gd name="adj" fmla="val 25000"/>
            </a:avLst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 flipV="1">
            <a:off x="5105520" y="542160"/>
            <a:ext cx="457200" cy="523800"/>
          </a:xfrm>
          <a:prstGeom prst="can">
            <a:avLst>
              <a:gd name="adj" fmla="val 25000"/>
            </a:avLst>
          </a:pr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 flipV="1">
            <a:off x="4619520" y="542160"/>
            <a:ext cx="457200" cy="523800"/>
          </a:xfrm>
          <a:prstGeom prst="can">
            <a:avLst>
              <a:gd name="adj" fmla="val 25000"/>
            </a:avLst>
          </a:pr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5334120" y="456480"/>
            <a:ext cx="457200" cy="523800"/>
          </a:xfrm>
          <a:prstGeom prst="can">
            <a:avLst>
              <a:gd name="adj" fmla="val 25000"/>
            </a:avLst>
          </a:pr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 flipV="1">
            <a:off x="4848120" y="456480"/>
            <a:ext cx="457200" cy="523800"/>
          </a:xfrm>
          <a:prstGeom prst="can">
            <a:avLst>
              <a:gd name="adj" fmla="val 25000"/>
            </a:avLst>
          </a:pr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895480" y="7924680"/>
            <a:ext cx="304920" cy="304920"/>
          </a:xfrm>
          <a:prstGeom prst="ellipse">
            <a:avLst/>
          </a:pr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352680" y="7391520"/>
            <a:ext cx="304920" cy="304560"/>
          </a:xfrm>
          <a:prstGeom prst="ellipse">
            <a:avLst/>
          </a:pr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4800600" y="3505320"/>
            <a:ext cx="304920" cy="304560"/>
          </a:xfrm>
          <a:prstGeom prst="ellipse">
            <a:avLst/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rot="16078800">
            <a:off x="3924000" y="3009600"/>
            <a:ext cx="1371600" cy="68580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7" name=""/>
          <p:cNvGrpSpPr/>
          <p:nvPr/>
        </p:nvGrpSpPr>
        <p:grpSpPr>
          <a:xfrm>
            <a:off x="-171360" y="28440"/>
            <a:ext cx="7467480" cy="10131480"/>
            <a:chOff x="-171360" y="28440"/>
            <a:chExt cx="7467480" cy="10131480"/>
          </a:xfrm>
        </p:grpSpPr>
        <p:grpSp>
          <p:nvGrpSpPr>
            <p:cNvPr id="2378" name=""/>
            <p:cNvGrpSpPr/>
            <p:nvPr/>
          </p:nvGrpSpPr>
          <p:grpSpPr>
            <a:xfrm>
              <a:off x="433440" y="285480"/>
              <a:ext cx="6176880" cy="9134640"/>
              <a:chOff x="433440" y="285480"/>
              <a:chExt cx="6176880" cy="9134640"/>
            </a:xfrm>
          </p:grpSpPr>
          <p:sp>
            <p:nvSpPr>
              <p:cNvPr id="2379" name=""/>
              <p:cNvSpPr/>
              <p:nvPr/>
            </p:nvSpPr>
            <p:spPr>
              <a:xfrm>
                <a:off x="439560" y="2854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20168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196380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2725560" y="2854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348768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424980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011560" y="2854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77368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53580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>
                <a:off x="433440" y="2980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>
                <a:off x="433440" y="10602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>
                <a:off x="433440" y="18223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433440" y="25840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>
                <a:off x="433440" y="33462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433440" y="41083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H="1">
                <a:off x="433440" y="48718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H="1">
                <a:off x="433440" y="56336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H="1">
                <a:off x="433440" y="63957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H="1">
                <a:off x="433440" y="71578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H="1">
                <a:off x="433440" y="79196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H="1">
                <a:off x="433440" y="86832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>
                <a:off x="433440" y="94136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1" name=""/>
            <p:cNvSpPr/>
            <p:nvPr/>
          </p:nvSpPr>
          <p:spPr>
            <a:xfrm>
              <a:off x="819000" y="619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-171360" y="284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067520" y="5950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 rot="10800000">
            <a:off x="1162080" y="8629560"/>
            <a:ext cx="928800" cy="18576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 rot="10800000">
            <a:off x="4190760" y="8629560"/>
            <a:ext cx="928440" cy="18576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"/>
          <p:cNvSpPr/>
          <p:nvPr/>
        </p:nvSpPr>
        <p:spPr>
          <a:xfrm>
            <a:off x="457200" y="304920"/>
            <a:ext cx="6095880" cy="914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1422360" y="6248520"/>
            <a:ext cx="4444920" cy="3200400"/>
          </a:xfrm>
          <a:custGeom>
            <a:avLst/>
            <a:gdLst/>
            <a:ahLst/>
            <a:rect l="l" t="t" r="r" b="b"/>
            <a:pathLst>
              <a:path w="2800" h="2016">
                <a:moveTo>
                  <a:pt x="0" y="2007"/>
                </a:moveTo>
                <a:lnTo>
                  <a:pt x="16" y="1248"/>
                </a:lnTo>
                <a:lnTo>
                  <a:pt x="544" y="576"/>
                </a:lnTo>
                <a:lnTo>
                  <a:pt x="400" y="480"/>
                </a:lnTo>
                <a:lnTo>
                  <a:pt x="640" y="288"/>
                </a:lnTo>
                <a:lnTo>
                  <a:pt x="880" y="96"/>
                </a:lnTo>
                <a:lnTo>
                  <a:pt x="1072" y="0"/>
                </a:lnTo>
                <a:lnTo>
                  <a:pt x="1312" y="144"/>
                </a:lnTo>
                <a:lnTo>
                  <a:pt x="2128" y="192"/>
                </a:lnTo>
                <a:lnTo>
                  <a:pt x="2320" y="192"/>
                </a:lnTo>
                <a:lnTo>
                  <a:pt x="2512" y="384"/>
                </a:lnTo>
                <a:lnTo>
                  <a:pt x="2464" y="576"/>
                </a:lnTo>
                <a:lnTo>
                  <a:pt x="2512" y="816"/>
                </a:lnTo>
                <a:lnTo>
                  <a:pt x="2800" y="1248"/>
                </a:lnTo>
                <a:lnTo>
                  <a:pt x="2800" y="2016"/>
                </a:lnTo>
                <a:lnTo>
                  <a:pt x="0" y="2007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819520" y="8381880"/>
            <a:ext cx="1828800" cy="1067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2514600" y="7182000"/>
            <a:ext cx="2601720" cy="1161720"/>
            <a:chOff x="2514600" y="7182000"/>
            <a:chExt cx="2601720" cy="1161720"/>
          </a:xfrm>
        </p:grpSpPr>
        <p:sp>
          <p:nvSpPr>
            <p:cNvPr id="2410" name=""/>
            <p:cNvSpPr/>
            <p:nvPr/>
          </p:nvSpPr>
          <p:spPr>
            <a:xfrm rot="21337200">
              <a:off x="2590920" y="7867080"/>
              <a:ext cx="2514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590920" y="7791480"/>
              <a:ext cx="2514600" cy="380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rot="136200">
              <a:off x="2590920" y="7562520"/>
              <a:ext cx="2514600" cy="380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590920" y="7334280"/>
              <a:ext cx="2514600" cy="380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14600" y="7182000"/>
              <a:ext cx="2514600" cy="3808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04920" y="9469080"/>
            <a:ext cx="6248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8 [2.3](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5638680" y="7238880"/>
            <a:ext cx="685800" cy="3812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419720" y="3048120"/>
            <a:ext cx="1066680" cy="838080"/>
          </a:xfrm>
          <a:prstGeom prst="cloudCallout">
            <a:avLst>
              <a:gd name="adj1" fmla="val 6995"/>
              <a:gd name="adj2" fmla="val -15152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905120" y="380880"/>
            <a:ext cx="761760" cy="1219320"/>
          </a:xfrm>
          <a:prstGeom prst="cloudCallout">
            <a:avLst>
              <a:gd name="adj1" fmla="val 49791"/>
              <a:gd name="adj2" fmla="val -13541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4800600" y="3352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133720" y="990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rot="20020800">
            <a:off x="6019920" y="7238520"/>
            <a:ext cx="457200" cy="6858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457200" y="7162920"/>
            <a:ext cx="2590920" cy="2286000"/>
          </a:xfrm>
          <a:custGeom>
            <a:avLst/>
            <a:gdLst/>
            <a:ahLst/>
            <a:rect l="l" t="t" r="r" b="b"/>
            <a:pathLst>
              <a:path w="1632" h="1440">
                <a:moveTo>
                  <a:pt x="624" y="1440"/>
                </a:moveTo>
                <a:lnTo>
                  <a:pt x="672" y="1104"/>
                </a:lnTo>
                <a:lnTo>
                  <a:pt x="912" y="960"/>
                </a:lnTo>
                <a:lnTo>
                  <a:pt x="1056" y="720"/>
                </a:lnTo>
                <a:lnTo>
                  <a:pt x="1632" y="624"/>
                </a:lnTo>
                <a:lnTo>
                  <a:pt x="1632" y="336"/>
                </a:lnTo>
                <a:lnTo>
                  <a:pt x="1296" y="336"/>
                </a:lnTo>
                <a:lnTo>
                  <a:pt x="1248" y="0"/>
                </a:lnTo>
                <a:lnTo>
                  <a:pt x="672" y="48"/>
                </a:lnTo>
                <a:lnTo>
                  <a:pt x="624" y="336"/>
                </a:lnTo>
                <a:lnTo>
                  <a:pt x="336" y="432"/>
                </a:lnTo>
                <a:lnTo>
                  <a:pt x="288" y="720"/>
                </a:lnTo>
                <a:lnTo>
                  <a:pt x="0" y="768"/>
                </a:lnTo>
                <a:lnTo>
                  <a:pt x="0" y="1440"/>
                </a:lnTo>
                <a:lnTo>
                  <a:pt x="624" y="14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557440" y="7167600"/>
            <a:ext cx="380880" cy="4572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4495680" y="7162920"/>
            <a:ext cx="2049480" cy="2271600"/>
          </a:xfrm>
          <a:custGeom>
            <a:avLst/>
            <a:gdLst/>
            <a:ahLst/>
            <a:rect l="l" t="t" r="r" b="b"/>
            <a:pathLst>
              <a:path w="1291" h="1431">
                <a:moveTo>
                  <a:pt x="651" y="1431"/>
                </a:moveTo>
                <a:lnTo>
                  <a:pt x="576" y="720"/>
                </a:lnTo>
                <a:lnTo>
                  <a:pt x="384" y="672"/>
                </a:lnTo>
                <a:lnTo>
                  <a:pt x="0" y="672"/>
                </a:lnTo>
                <a:lnTo>
                  <a:pt x="48" y="336"/>
                </a:lnTo>
                <a:lnTo>
                  <a:pt x="336" y="288"/>
                </a:lnTo>
                <a:lnTo>
                  <a:pt x="336" y="48"/>
                </a:lnTo>
                <a:lnTo>
                  <a:pt x="624" y="0"/>
                </a:lnTo>
                <a:lnTo>
                  <a:pt x="720" y="288"/>
                </a:lnTo>
                <a:lnTo>
                  <a:pt x="1056" y="384"/>
                </a:lnTo>
                <a:lnTo>
                  <a:pt x="1109" y="754"/>
                </a:lnTo>
                <a:lnTo>
                  <a:pt x="1045" y="1038"/>
                </a:lnTo>
                <a:lnTo>
                  <a:pt x="1291" y="1138"/>
                </a:lnTo>
                <a:lnTo>
                  <a:pt x="1291" y="1431"/>
                </a:lnTo>
                <a:lnTo>
                  <a:pt x="651" y="143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4572000" y="7162920"/>
            <a:ext cx="380880" cy="4572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438120" y="723960"/>
            <a:ext cx="6127920" cy="6467400"/>
          </a:xfrm>
          <a:custGeom>
            <a:avLst/>
            <a:gdLst/>
            <a:ahLst/>
            <a:rect l="l" t="t" r="r" b="b"/>
            <a:pathLst>
              <a:path w="3860" h="4074">
                <a:moveTo>
                  <a:pt x="0" y="0"/>
                </a:moveTo>
                <a:cubicBezTo>
                  <a:pt x="240" y="120"/>
                  <a:pt x="486" y="532"/>
                  <a:pt x="744" y="756"/>
                </a:cubicBezTo>
                <a:cubicBezTo>
                  <a:pt x="988" y="988"/>
                  <a:pt x="1274" y="1300"/>
                  <a:pt x="1464" y="1392"/>
                </a:cubicBezTo>
                <a:cubicBezTo>
                  <a:pt x="1654" y="1484"/>
                  <a:pt x="1744" y="1392"/>
                  <a:pt x="1884" y="1308"/>
                </a:cubicBezTo>
                <a:cubicBezTo>
                  <a:pt x="2024" y="1224"/>
                  <a:pt x="1976" y="972"/>
                  <a:pt x="2304" y="888"/>
                </a:cubicBezTo>
                <a:cubicBezTo>
                  <a:pt x="2632" y="804"/>
                  <a:pt x="3600" y="748"/>
                  <a:pt x="3852" y="804"/>
                </a:cubicBezTo>
                <a:cubicBezTo>
                  <a:pt x="3860" y="804"/>
                  <a:pt x="3816" y="960"/>
                  <a:pt x="3816" y="1224"/>
                </a:cubicBezTo>
                <a:cubicBezTo>
                  <a:pt x="3564" y="1224"/>
                  <a:pt x="2928" y="1176"/>
                  <a:pt x="2676" y="1224"/>
                </a:cubicBezTo>
                <a:cubicBezTo>
                  <a:pt x="2424" y="1272"/>
                  <a:pt x="2402" y="1380"/>
                  <a:pt x="2304" y="1512"/>
                </a:cubicBezTo>
                <a:cubicBezTo>
                  <a:pt x="2206" y="1644"/>
                  <a:pt x="2096" y="1856"/>
                  <a:pt x="2088" y="2016"/>
                </a:cubicBezTo>
                <a:cubicBezTo>
                  <a:pt x="2080" y="2176"/>
                  <a:pt x="2178" y="2310"/>
                  <a:pt x="2256" y="2472"/>
                </a:cubicBezTo>
                <a:cubicBezTo>
                  <a:pt x="2334" y="2634"/>
                  <a:pt x="2504" y="2721"/>
                  <a:pt x="2556" y="2988"/>
                </a:cubicBezTo>
                <a:cubicBezTo>
                  <a:pt x="2608" y="3255"/>
                  <a:pt x="2672" y="3893"/>
                  <a:pt x="2568" y="4074"/>
                </a:cubicBezTo>
                <a:cubicBezTo>
                  <a:pt x="2308" y="4074"/>
                  <a:pt x="2120" y="4050"/>
                  <a:pt x="1932" y="4074"/>
                </a:cubicBezTo>
                <a:cubicBezTo>
                  <a:pt x="1920" y="3914"/>
                  <a:pt x="1969" y="3551"/>
                  <a:pt x="1920" y="3360"/>
                </a:cubicBezTo>
                <a:cubicBezTo>
                  <a:pt x="1876" y="3157"/>
                  <a:pt x="1806" y="3088"/>
                  <a:pt x="1668" y="2856"/>
                </a:cubicBezTo>
                <a:cubicBezTo>
                  <a:pt x="1530" y="2624"/>
                  <a:pt x="1300" y="2228"/>
                  <a:pt x="1092" y="1968"/>
                </a:cubicBezTo>
                <a:cubicBezTo>
                  <a:pt x="884" y="1708"/>
                  <a:pt x="596" y="1470"/>
                  <a:pt x="420" y="1296"/>
                </a:cubicBezTo>
                <a:cubicBezTo>
                  <a:pt x="244" y="1122"/>
                  <a:pt x="240" y="1092"/>
                  <a:pt x="36" y="924"/>
                </a:cubicBezTo>
                <a:cubicBezTo>
                  <a:pt x="36" y="672"/>
                  <a:pt x="7" y="192"/>
                  <a:pt x="0" y="0"/>
                </a:cubicBez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33520" y="5105520"/>
            <a:ext cx="1218960" cy="19047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76320" y="66600"/>
            <a:ext cx="7315200" cy="9435600"/>
            <a:chOff x="76320" y="66600"/>
            <a:chExt cx="7315200" cy="9435600"/>
          </a:xfrm>
        </p:grpSpPr>
        <p:sp>
          <p:nvSpPr>
            <p:cNvPr id="2429" name=""/>
            <p:cNvSpPr/>
            <p:nvPr/>
          </p:nvSpPr>
          <p:spPr>
            <a:xfrm>
              <a:off x="7086600" y="21888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6320" y="44748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0984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2" name=""/>
            <p:cNvGrpSpPr/>
            <p:nvPr/>
          </p:nvGrpSpPr>
          <p:grpSpPr>
            <a:xfrm>
              <a:off x="457200" y="295200"/>
              <a:ext cx="6095880" cy="9153000"/>
              <a:chOff x="457200" y="295200"/>
              <a:chExt cx="6095880" cy="9153000"/>
            </a:xfrm>
          </p:grpSpPr>
          <p:grpSp>
            <p:nvGrpSpPr>
              <p:cNvPr id="2433" name=""/>
              <p:cNvGrpSpPr/>
              <p:nvPr/>
            </p:nvGrpSpPr>
            <p:grpSpPr>
              <a:xfrm>
                <a:off x="5014800" y="299520"/>
                <a:ext cx="1524240" cy="9148680"/>
                <a:chOff x="5014800" y="299520"/>
                <a:chExt cx="1524240" cy="9148680"/>
              </a:xfrm>
            </p:grpSpPr>
            <p:sp>
              <p:nvSpPr>
                <p:cNvPr id="2434" name=""/>
                <p:cNvSpPr/>
                <p:nvPr/>
              </p:nvSpPr>
              <p:spPr>
                <a:xfrm>
                  <a:off x="603396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55198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653904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50148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8" name=""/>
              <p:cNvGrpSpPr/>
              <p:nvPr/>
            </p:nvGrpSpPr>
            <p:grpSpPr>
              <a:xfrm>
                <a:off x="2986200" y="299520"/>
                <a:ext cx="1523880" cy="9148680"/>
                <a:chOff x="2986200" y="299520"/>
                <a:chExt cx="1523880" cy="9148680"/>
              </a:xfrm>
            </p:grpSpPr>
            <p:sp>
              <p:nvSpPr>
                <p:cNvPr id="2439" name=""/>
                <p:cNvSpPr/>
                <p:nvPr/>
              </p:nvSpPr>
              <p:spPr>
                <a:xfrm>
                  <a:off x="400500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34909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45100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29862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3" name=""/>
              <p:cNvGrpSpPr/>
              <p:nvPr/>
            </p:nvGrpSpPr>
            <p:grpSpPr>
              <a:xfrm>
                <a:off x="976320" y="295200"/>
                <a:ext cx="1523880" cy="9147960"/>
                <a:chOff x="976320" y="295200"/>
                <a:chExt cx="1523880" cy="9147960"/>
              </a:xfrm>
            </p:grpSpPr>
            <p:sp>
              <p:nvSpPr>
                <p:cNvPr id="2444" name=""/>
                <p:cNvSpPr/>
                <p:nvPr/>
              </p:nvSpPr>
              <p:spPr>
                <a:xfrm>
                  <a:off x="1995120" y="2995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148104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250020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97632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8" name=""/>
              <p:cNvSpPr/>
              <p:nvPr/>
            </p:nvSpPr>
            <p:spPr>
              <a:xfrm>
                <a:off x="457200" y="29952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57200" y="9443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57200" y="7719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57200" y="8286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457200" y="886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457200" y="715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57200" y="5433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457200" y="6000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457200" y="658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457200" y="487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457200" y="3147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57200" y="3714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57200" y="429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57200" y="258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57200" y="861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57200" y="1428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457200" y="200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457200" y="29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6" name=""/>
          <p:cNvGrpSpPr/>
          <p:nvPr/>
        </p:nvGrpSpPr>
        <p:grpSpPr>
          <a:xfrm>
            <a:off x="5257800" y="457200"/>
            <a:ext cx="1143000" cy="554400"/>
            <a:chOff x="5257800" y="457200"/>
            <a:chExt cx="1143000" cy="554400"/>
          </a:xfrm>
        </p:grpSpPr>
        <p:sp>
          <p:nvSpPr>
            <p:cNvPr id="2467" name=""/>
            <p:cNvSpPr/>
            <p:nvPr/>
          </p:nvSpPr>
          <p:spPr>
            <a:xfrm>
              <a:off x="5257800" y="457200"/>
              <a:ext cx="1143000" cy="5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下生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334120" y="476280"/>
              <a:ext cx="228600" cy="2286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334120" y="762120"/>
              <a:ext cx="228600" cy="2286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15:02:37Z</dcterms:created>
  <dc:creator>ｘｘｘｘ</dc:creator>
  <dc:description/>
  <dc:language>en-US</dc:language>
  <cp:lastModifiedBy>xxxx</cp:lastModifiedBy>
  <dcterms:modified xsi:type="dcterms:W3CDTF">2008-07-01T17:17:55Z</dcterms:modified>
  <cp:revision>775</cp:revision>
  <dc:subject/>
  <dc:title>PowerPoint プレゼンテーション</dc:title>
</cp:coreProperties>
</file>