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37.jpeg" ContentType="image/jpeg"/>
  <Override PartName="/ppt/media/image50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10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907588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0FB-E6A9-42D2-8304-77EEF384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47C-3525-4A7E-BCFF-37AFD714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BF8-0B54-4C69-B4C5-4D4D36BA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82E-43DF-4EC7-8267-30D7BAB0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84B-65E6-443C-B2EA-3B37846B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7DE-25CA-4CB2-8A7E-AAE2D304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887-EB2C-47F0-9915-DD5ED177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5AB-0C7B-47CA-A559-5DC5D0D2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41B-1B86-4FAE-9256-97DE6622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519-4778-4140-A9F1-2A2A76B2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BAC-AF2D-41EF-A70B-7638700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801-89D5-4458-B972-5CCC3028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832E-3488-4577-B5A5-05A15E35DB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8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7.jpeg"/><Relationship Id="rId6" Type="http://schemas.openxmlformats.org/officeDocument/2006/relationships/image" Target="../media/image13.jpeg"/><Relationship Id="rId7" Type="http://schemas.openxmlformats.org/officeDocument/2006/relationships/image" Target="../media/image7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37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3.jpeg"/><Relationship Id="rId3" Type="http://schemas.openxmlformats.org/officeDocument/2006/relationships/image" Target="../media/image35.jpeg"/><Relationship Id="rId4" Type="http://schemas.openxmlformats.org/officeDocument/2006/relationships/image" Target="../media/image34.jpeg"/><Relationship Id="rId5" Type="http://schemas.openxmlformats.org/officeDocument/2006/relationships/image" Target="../media/image14.jpeg"/><Relationship Id="rId6" Type="http://schemas.openxmlformats.org/officeDocument/2006/relationships/image" Target="../media/image29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37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39.jpeg"/><Relationship Id="rId5" Type="http://schemas.openxmlformats.org/officeDocument/2006/relationships/image" Target="../media/image25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42.jpeg"/><Relationship Id="rId12" Type="http://schemas.openxmlformats.org/officeDocument/2006/relationships/image" Target="../media/image15.jpeg"/><Relationship Id="rId13" Type="http://schemas.openxmlformats.org/officeDocument/2006/relationships/image" Target="../media/image37.jpeg"/><Relationship Id="rId14" Type="http://schemas.openxmlformats.org/officeDocument/2006/relationships/image" Target="../media/image14.jpeg"/><Relationship Id="rId15" Type="http://schemas.openxmlformats.org/officeDocument/2006/relationships/image" Target="../media/image24.jpeg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image" Target="../media/image44.jpeg"/><Relationship Id="rId5" Type="http://schemas.openxmlformats.org/officeDocument/2006/relationships/image" Target="../media/image16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45.jpeg"/><Relationship Id="rId9" Type="http://schemas.openxmlformats.org/officeDocument/2006/relationships/image" Target="../media/image45.jpeg"/><Relationship Id="rId10" Type="http://schemas.openxmlformats.org/officeDocument/2006/relationships/image" Target="../media/image13.jpeg"/><Relationship Id="rId11" Type="http://schemas.openxmlformats.org/officeDocument/2006/relationships/image" Target="../media/image46.jpeg"/><Relationship Id="rId12" Type="http://schemas.openxmlformats.org/officeDocument/2006/relationships/image" Target="../media/image46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image" Target="../media/image25.jpeg"/><Relationship Id="rId16" Type="http://schemas.openxmlformats.org/officeDocument/2006/relationships/image" Target="../media/image37.jpeg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3.jpeg"/><Relationship Id="rId3" Type="http://schemas.openxmlformats.org/officeDocument/2006/relationships/image" Target="../media/image24.jpeg"/><Relationship Id="rId4" Type="http://schemas.openxmlformats.org/officeDocument/2006/relationships/image" Target="../media/image34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34.jpeg"/><Relationship Id="rId8" Type="http://schemas.openxmlformats.org/officeDocument/2006/relationships/image" Target="../media/image34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20.jpeg"/><Relationship Id="rId12" Type="http://schemas.openxmlformats.org/officeDocument/2006/relationships/image" Target="../media/image49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0.jpe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5.jpeg"/><Relationship Id="rId17" Type="http://schemas.openxmlformats.org/officeDocument/2006/relationships/image" Target="../media/image9.png"/><Relationship Id="rId18" Type="http://schemas.openxmlformats.org/officeDocument/2006/relationships/image" Target="../media/image11.png"/><Relationship Id="rId1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4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26.jpeg"/><Relationship Id="rId9" Type="http://schemas.openxmlformats.org/officeDocument/2006/relationships/image" Target="../media/image13.jpeg"/><Relationship Id="rId10" Type="http://schemas.openxmlformats.org/officeDocument/2006/relationships/image" Target="../media/image30.jpeg"/><Relationship Id="rId11" Type="http://schemas.openxmlformats.org/officeDocument/2006/relationships/image" Target="../media/image7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4.jpe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25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29.jpeg"/><Relationship Id="rId14" Type="http://schemas.openxmlformats.org/officeDocument/2006/relationships/image" Target="../media/image37.jpeg"/><Relationship Id="rId15" Type="http://schemas.openxmlformats.org/officeDocument/2006/relationships/image" Target="../media/image14.jpeg"/><Relationship Id="rId16" Type="http://schemas.openxmlformats.org/officeDocument/2006/relationships/image" Target="../media/image37.jpeg"/><Relationship Id="rId17" Type="http://schemas.openxmlformats.org/officeDocument/2006/relationships/image" Target="../media/image14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4.jpeg"/><Relationship Id="rId2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5680" y="1647720"/>
            <a:ext cx="5419800" cy="7940880"/>
          </a:xfrm>
          <a:custGeom>
            <a:avLst/>
            <a:gdLst/>
            <a:ahLst/>
            <a:rect l="l" t="t" r="r" b="b"/>
            <a:pathLst>
              <a:path w="3414" h="5002">
                <a:moveTo>
                  <a:pt x="836" y="45"/>
                </a:moveTo>
                <a:cubicBezTo>
                  <a:pt x="873" y="160"/>
                  <a:pt x="1020" y="583"/>
                  <a:pt x="1057" y="732"/>
                </a:cubicBezTo>
                <a:cubicBezTo>
                  <a:pt x="1094" y="881"/>
                  <a:pt x="1064" y="907"/>
                  <a:pt x="1057" y="942"/>
                </a:cubicBezTo>
                <a:cubicBezTo>
                  <a:pt x="1050" y="977"/>
                  <a:pt x="1099" y="952"/>
                  <a:pt x="1015" y="942"/>
                </a:cubicBezTo>
                <a:cubicBezTo>
                  <a:pt x="931" y="932"/>
                  <a:pt x="710" y="879"/>
                  <a:pt x="553" y="882"/>
                </a:cubicBezTo>
                <a:cubicBezTo>
                  <a:pt x="396" y="885"/>
                  <a:pt x="146" y="943"/>
                  <a:pt x="73" y="960"/>
                </a:cubicBezTo>
                <a:cubicBezTo>
                  <a:pt x="0" y="977"/>
                  <a:pt x="32" y="991"/>
                  <a:pt x="115" y="984"/>
                </a:cubicBezTo>
                <a:cubicBezTo>
                  <a:pt x="198" y="977"/>
                  <a:pt x="414" y="914"/>
                  <a:pt x="571" y="918"/>
                </a:cubicBezTo>
                <a:cubicBezTo>
                  <a:pt x="728" y="922"/>
                  <a:pt x="975" y="925"/>
                  <a:pt x="1057" y="1008"/>
                </a:cubicBezTo>
                <a:cubicBezTo>
                  <a:pt x="1139" y="1091"/>
                  <a:pt x="1063" y="1239"/>
                  <a:pt x="1065" y="1417"/>
                </a:cubicBezTo>
                <a:cubicBezTo>
                  <a:pt x="1067" y="1595"/>
                  <a:pt x="1131" y="1824"/>
                  <a:pt x="1067" y="2079"/>
                </a:cubicBezTo>
                <a:cubicBezTo>
                  <a:pt x="1003" y="2334"/>
                  <a:pt x="731" y="2734"/>
                  <a:pt x="683" y="2947"/>
                </a:cubicBezTo>
                <a:cubicBezTo>
                  <a:pt x="635" y="3160"/>
                  <a:pt x="804" y="3249"/>
                  <a:pt x="781" y="3360"/>
                </a:cubicBezTo>
                <a:cubicBezTo>
                  <a:pt x="758" y="3471"/>
                  <a:pt x="572" y="3500"/>
                  <a:pt x="547" y="3612"/>
                </a:cubicBezTo>
                <a:cubicBezTo>
                  <a:pt x="522" y="3724"/>
                  <a:pt x="694" y="3822"/>
                  <a:pt x="631" y="4032"/>
                </a:cubicBezTo>
                <a:cubicBezTo>
                  <a:pt x="568" y="4242"/>
                  <a:pt x="235" y="4744"/>
                  <a:pt x="169" y="4873"/>
                </a:cubicBezTo>
                <a:cubicBezTo>
                  <a:pt x="103" y="5002"/>
                  <a:pt x="148" y="4956"/>
                  <a:pt x="233" y="4809"/>
                </a:cubicBezTo>
                <a:cubicBezTo>
                  <a:pt x="318" y="4662"/>
                  <a:pt x="619" y="4194"/>
                  <a:pt x="679" y="3990"/>
                </a:cubicBezTo>
                <a:cubicBezTo>
                  <a:pt x="739" y="3786"/>
                  <a:pt x="511" y="3709"/>
                  <a:pt x="592" y="3587"/>
                </a:cubicBezTo>
                <a:cubicBezTo>
                  <a:pt x="673" y="3465"/>
                  <a:pt x="973" y="3432"/>
                  <a:pt x="1168" y="3258"/>
                </a:cubicBezTo>
                <a:cubicBezTo>
                  <a:pt x="1363" y="3084"/>
                  <a:pt x="1619" y="2730"/>
                  <a:pt x="1760" y="2541"/>
                </a:cubicBezTo>
                <a:cubicBezTo>
                  <a:pt x="1901" y="2352"/>
                  <a:pt x="1941" y="2186"/>
                  <a:pt x="2016" y="2121"/>
                </a:cubicBezTo>
                <a:cubicBezTo>
                  <a:pt x="2091" y="2056"/>
                  <a:pt x="2161" y="2084"/>
                  <a:pt x="2208" y="2148"/>
                </a:cubicBezTo>
                <a:cubicBezTo>
                  <a:pt x="2255" y="2212"/>
                  <a:pt x="2258" y="2452"/>
                  <a:pt x="2299" y="2505"/>
                </a:cubicBezTo>
                <a:cubicBezTo>
                  <a:pt x="2340" y="2558"/>
                  <a:pt x="2417" y="2504"/>
                  <a:pt x="2455" y="2468"/>
                </a:cubicBezTo>
                <a:cubicBezTo>
                  <a:pt x="2493" y="2432"/>
                  <a:pt x="2501" y="2369"/>
                  <a:pt x="2528" y="2285"/>
                </a:cubicBezTo>
                <a:cubicBezTo>
                  <a:pt x="2555" y="2201"/>
                  <a:pt x="2535" y="2067"/>
                  <a:pt x="2619" y="1965"/>
                </a:cubicBezTo>
                <a:cubicBezTo>
                  <a:pt x="2703" y="1863"/>
                  <a:pt x="2930" y="1559"/>
                  <a:pt x="3031" y="1673"/>
                </a:cubicBezTo>
                <a:cubicBezTo>
                  <a:pt x="3132" y="1787"/>
                  <a:pt x="3164" y="2497"/>
                  <a:pt x="3223" y="2651"/>
                </a:cubicBezTo>
                <a:cubicBezTo>
                  <a:pt x="3282" y="2805"/>
                  <a:pt x="3360" y="2727"/>
                  <a:pt x="3387" y="2596"/>
                </a:cubicBezTo>
                <a:cubicBezTo>
                  <a:pt x="3414" y="2465"/>
                  <a:pt x="3387" y="2298"/>
                  <a:pt x="3387" y="1865"/>
                </a:cubicBezTo>
                <a:cubicBezTo>
                  <a:pt x="3387" y="1432"/>
                  <a:pt x="3387" y="389"/>
                  <a:pt x="3387" y="0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00440" y="4335480"/>
            <a:ext cx="1557360" cy="3209760"/>
          </a:xfrm>
          <a:custGeom>
            <a:avLst/>
            <a:gdLst/>
            <a:ahLst/>
            <a:rect l="l" t="t" r="r" b="b"/>
            <a:pathLst>
              <a:path w="981" h="2022">
                <a:moveTo>
                  <a:pt x="531" y="318"/>
                </a:moveTo>
                <a:cubicBezTo>
                  <a:pt x="605" y="196"/>
                  <a:pt x="785" y="0"/>
                  <a:pt x="860" y="26"/>
                </a:cubicBezTo>
                <a:cubicBezTo>
                  <a:pt x="935" y="52"/>
                  <a:pt x="981" y="384"/>
                  <a:pt x="979" y="474"/>
                </a:cubicBezTo>
                <a:cubicBezTo>
                  <a:pt x="977" y="564"/>
                  <a:pt x="916" y="478"/>
                  <a:pt x="846" y="565"/>
                </a:cubicBezTo>
                <a:cubicBezTo>
                  <a:pt x="776" y="652"/>
                  <a:pt x="670" y="837"/>
                  <a:pt x="558" y="997"/>
                </a:cubicBezTo>
                <a:cubicBezTo>
                  <a:pt x="446" y="1157"/>
                  <a:pt x="226" y="1361"/>
                  <a:pt x="174" y="1525"/>
                </a:cubicBezTo>
                <a:cubicBezTo>
                  <a:pt x="122" y="1689"/>
                  <a:pt x="271" y="1942"/>
                  <a:pt x="247" y="1982"/>
                </a:cubicBezTo>
                <a:cubicBezTo>
                  <a:pt x="223" y="2022"/>
                  <a:pt x="56" y="1831"/>
                  <a:pt x="28" y="1763"/>
                </a:cubicBezTo>
                <a:cubicBezTo>
                  <a:pt x="0" y="1695"/>
                  <a:pt x="70" y="1621"/>
                  <a:pt x="78" y="1573"/>
                </a:cubicBezTo>
                <a:cubicBezTo>
                  <a:pt x="86" y="1525"/>
                  <a:pt x="46" y="1557"/>
                  <a:pt x="78" y="1477"/>
                </a:cubicBezTo>
                <a:cubicBezTo>
                  <a:pt x="110" y="1397"/>
                  <a:pt x="242" y="1190"/>
                  <a:pt x="270" y="1093"/>
                </a:cubicBezTo>
                <a:cubicBezTo>
                  <a:pt x="298" y="996"/>
                  <a:pt x="223" y="950"/>
                  <a:pt x="247" y="894"/>
                </a:cubicBezTo>
                <a:cubicBezTo>
                  <a:pt x="271" y="838"/>
                  <a:pt x="367" y="853"/>
                  <a:pt x="414" y="757"/>
                </a:cubicBezTo>
                <a:cubicBezTo>
                  <a:pt x="461" y="661"/>
                  <a:pt x="459" y="446"/>
                  <a:pt x="531" y="31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5629320"/>
            <a:ext cx="590400" cy="3000240"/>
          </a:xfrm>
          <a:custGeom>
            <a:avLst/>
            <a:gdLst/>
            <a:ahLst/>
            <a:rect l="l" t="t" r="r" b="b"/>
            <a:pathLst>
              <a:path w="372" h="1890">
                <a:moveTo>
                  <a:pt x="372" y="0"/>
                </a:moveTo>
                <a:cubicBezTo>
                  <a:pt x="368" y="64"/>
                  <a:pt x="365" y="241"/>
                  <a:pt x="325" y="390"/>
                </a:cubicBezTo>
                <a:cubicBezTo>
                  <a:pt x="285" y="539"/>
                  <a:pt x="152" y="764"/>
                  <a:pt x="133" y="894"/>
                </a:cubicBezTo>
                <a:cubicBezTo>
                  <a:pt x="114" y="1024"/>
                  <a:pt x="233" y="1095"/>
                  <a:pt x="213" y="1170"/>
                </a:cubicBezTo>
                <a:cubicBezTo>
                  <a:pt x="193" y="1245"/>
                  <a:pt x="24" y="1294"/>
                  <a:pt x="12" y="1344"/>
                </a:cubicBezTo>
                <a:cubicBezTo>
                  <a:pt x="0" y="1394"/>
                  <a:pt x="90" y="1379"/>
                  <a:pt x="138" y="1470"/>
                </a:cubicBezTo>
                <a:cubicBezTo>
                  <a:pt x="186" y="1561"/>
                  <a:pt x="266" y="1802"/>
                  <a:pt x="300" y="1890"/>
                </a:cubicBezTo>
              </a:path>
            </a:pathLst>
          </a:custGeom>
          <a:noFill/>
          <a:ln w="381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08160" y="1676520"/>
            <a:ext cx="711360" cy="5365800"/>
          </a:xfrm>
          <a:custGeom>
            <a:avLst/>
            <a:gdLst/>
            <a:ahLst/>
            <a:rect l="l" t="t" r="r" b="b"/>
            <a:pathLst>
              <a:path w="448" h="3380">
                <a:moveTo>
                  <a:pt x="156" y="3380"/>
                </a:moveTo>
                <a:cubicBezTo>
                  <a:pt x="138" y="3281"/>
                  <a:pt x="55" y="2963"/>
                  <a:pt x="64" y="2784"/>
                </a:cubicBezTo>
                <a:cubicBezTo>
                  <a:pt x="73" y="2605"/>
                  <a:pt x="160" y="2448"/>
                  <a:pt x="208" y="2304"/>
                </a:cubicBezTo>
                <a:cubicBezTo>
                  <a:pt x="256" y="2160"/>
                  <a:pt x="320" y="2160"/>
                  <a:pt x="352" y="1920"/>
                </a:cubicBezTo>
                <a:cubicBezTo>
                  <a:pt x="384" y="1680"/>
                  <a:pt x="448" y="1152"/>
                  <a:pt x="400" y="864"/>
                </a:cubicBezTo>
                <a:cubicBezTo>
                  <a:pt x="352" y="576"/>
                  <a:pt x="128" y="336"/>
                  <a:pt x="64" y="192"/>
                </a:cubicBezTo>
                <a:cubicBezTo>
                  <a:pt x="0" y="48"/>
                  <a:pt x="8" y="24"/>
                  <a:pt x="16" y="0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0760" y="4948200"/>
            <a:ext cx="1300320" cy="2611440"/>
          </a:xfrm>
          <a:custGeom>
            <a:avLst/>
            <a:gdLst/>
            <a:ahLst/>
            <a:rect l="l" t="t" r="r" b="b"/>
            <a:pathLst>
              <a:path w="819" h="1645">
                <a:moveTo>
                  <a:pt x="686" y="40"/>
                </a:moveTo>
                <a:cubicBezTo>
                  <a:pt x="577" y="0"/>
                  <a:pt x="557" y="99"/>
                  <a:pt x="493" y="175"/>
                </a:cubicBezTo>
                <a:cubicBezTo>
                  <a:pt x="429" y="251"/>
                  <a:pt x="378" y="387"/>
                  <a:pt x="301" y="499"/>
                </a:cubicBezTo>
                <a:cubicBezTo>
                  <a:pt x="224" y="611"/>
                  <a:pt x="66" y="751"/>
                  <a:pt x="33" y="847"/>
                </a:cubicBezTo>
                <a:cubicBezTo>
                  <a:pt x="0" y="943"/>
                  <a:pt x="78" y="996"/>
                  <a:pt x="101" y="1075"/>
                </a:cubicBezTo>
                <a:cubicBezTo>
                  <a:pt x="124" y="1154"/>
                  <a:pt x="121" y="1235"/>
                  <a:pt x="173" y="1323"/>
                </a:cubicBezTo>
                <a:cubicBezTo>
                  <a:pt x="225" y="1411"/>
                  <a:pt x="332" y="1561"/>
                  <a:pt x="413" y="1603"/>
                </a:cubicBezTo>
                <a:cubicBezTo>
                  <a:pt x="494" y="1645"/>
                  <a:pt x="631" y="1619"/>
                  <a:pt x="661" y="1575"/>
                </a:cubicBezTo>
                <a:cubicBezTo>
                  <a:pt x="691" y="1531"/>
                  <a:pt x="578" y="1450"/>
                  <a:pt x="593" y="1339"/>
                </a:cubicBezTo>
                <a:cubicBezTo>
                  <a:pt x="608" y="1228"/>
                  <a:pt x="712" y="1040"/>
                  <a:pt x="749" y="907"/>
                </a:cubicBezTo>
                <a:cubicBezTo>
                  <a:pt x="786" y="774"/>
                  <a:pt x="815" y="674"/>
                  <a:pt x="817" y="543"/>
                </a:cubicBezTo>
                <a:cubicBezTo>
                  <a:pt x="819" y="412"/>
                  <a:pt x="783" y="203"/>
                  <a:pt x="761" y="119"/>
                </a:cubicBezTo>
                <a:cubicBezTo>
                  <a:pt x="739" y="35"/>
                  <a:pt x="702" y="57"/>
                  <a:pt x="686" y="4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9040" y="5900760"/>
            <a:ext cx="3883320" cy="1249200"/>
          </a:xfrm>
          <a:custGeom>
            <a:avLst/>
            <a:gdLst/>
            <a:ahLst/>
            <a:rect l="l" t="t" r="r" b="b"/>
            <a:pathLst>
              <a:path w="2446" h="787">
                <a:moveTo>
                  <a:pt x="0" y="787"/>
                </a:moveTo>
                <a:cubicBezTo>
                  <a:pt x="73" y="774"/>
                  <a:pt x="341" y="746"/>
                  <a:pt x="457" y="699"/>
                </a:cubicBezTo>
                <a:cubicBezTo>
                  <a:pt x="573" y="652"/>
                  <a:pt x="553" y="579"/>
                  <a:pt x="697" y="507"/>
                </a:cubicBezTo>
                <a:cubicBezTo>
                  <a:pt x="841" y="435"/>
                  <a:pt x="1100" y="311"/>
                  <a:pt x="1321" y="265"/>
                </a:cubicBezTo>
                <a:cubicBezTo>
                  <a:pt x="1542" y="219"/>
                  <a:pt x="1868" y="229"/>
                  <a:pt x="2025" y="228"/>
                </a:cubicBezTo>
                <a:cubicBezTo>
                  <a:pt x="2182" y="227"/>
                  <a:pt x="2193" y="294"/>
                  <a:pt x="2263" y="256"/>
                </a:cubicBezTo>
                <a:cubicBezTo>
                  <a:pt x="2333" y="218"/>
                  <a:pt x="2408" y="53"/>
                  <a:pt x="2446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41640" y="7175520"/>
            <a:ext cx="387360" cy="2292480"/>
          </a:xfrm>
          <a:custGeom>
            <a:avLst/>
            <a:gdLst/>
            <a:ahLst/>
            <a:rect l="l" t="t" r="r" b="b"/>
            <a:pathLst>
              <a:path w="244" h="1444">
                <a:moveTo>
                  <a:pt x="219" y="0"/>
                </a:moveTo>
                <a:cubicBezTo>
                  <a:pt x="215" y="64"/>
                  <a:pt x="244" y="244"/>
                  <a:pt x="211" y="394"/>
                </a:cubicBezTo>
                <a:cubicBezTo>
                  <a:pt x="178" y="544"/>
                  <a:pt x="38" y="768"/>
                  <a:pt x="19" y="898"/>
                </a:cubicBezTo>
                <a:cubicBezTo>
                  <a:pt x="0" y="1028"/>
                  <a:pt x="85" y="1083"/>
                  <a:pt x="99" y="1174"/>
                </a:cubicBezTo>
                <a:cubicBezTo>
                  <a:pt x="113" y="1265"/>
                  <a:pt x="102" y="1388"/>
                  <a:pt x="103" y="144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6400" y="4254480"/>
            <a:ext cx="101520" cy="330120"/>
          </a:xfrm>
          <a:custGeom>
            <a:avLst/>
            <a:gdLst/>
            <a:ahLst/>
            <a:rect l="l" t="t" r="r" b="b"/>
            <a:pathLst>
              <a:path w="64" h="208">
                <a:moveTo>
                  <a:pt x="8" y="200"/>
                </a:moveTo>
                <a:cubicBezTo>
                  <a:pt x="0" y="192"/>
                  <a:pt x="0" y="88"/>
                  <a:pt x="8" y="56"/>
                </a:cubicBezTo>
                <a:cubicBezTo>
                  <a:pt x="16" y="24"/>
                  <a:pt x="48" y="0"/>
                  <a:pt x="56" y="8"/>
                </a:cubicBezTo>
                <a:cubicBezTo>
                  <a:pt x="64" y="16"/>
                  <a:pt x="64" y="72"/>
                  <a:pt x="56" y="104"/>
                </a:cubicBezTo>
                <a:cubicBezTo>
                  <a:pt x="48" y="136"/>
                  <a:pt x="16" y="208"/>
                  <a:pt x="8" y="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12960" y="6670800"/>
            <a:ext cx="2049480" cy="2616120"/>
          </a:xfrm>
          <a:custGeom>
            <a:avLst/>
            <a:gdLst/>
            <a:ahLst/>
            <a:rect l="l" t="t" r="r" b="b"/>
            <a:pathLst>
              <a:path w="1291" h="1648">
                <a:moveTo>
                  <a:pt x="283" y="1648"/>
                </a:moveTo>
                <a:cubicBezTo>
                  <a:pt x="255" y="1581"/>
                  <a:pt x="157" y="1344"/>
                  <a:pt x="115" y="1246"/>
                </a:cubicBezTo>
                <a:cubicBezTo>
                  <a:pt x="73" y="1148"/>
                  <a:pt x="0" y="1164"/>
                  <a:pt x="31" y="1060"/>
                </a:cubicBezTo>
                <a:cubicBezTo>
                  <a:pt x="62" y="956"/>
                  <a:pt x="252" y="720"/>
                  <a:pt x="301" y="622"/>
                </a:cubicBezTo>
                <a:cubicBezTo>
                  <a:pt x="350" y="524"/>
                  <a:pt x="321" y="528"/>
                  <a:pt x="325" y="472"/>
                </a:cubicBezTo>
                <a:cubicBezTo>
                  <a:pt x="329" y="416"/>
                  <a:pt x="294" y="345"/>
                  <a:pt x="325" y="286"/>
                </a:cubicBezTo>
                <a:cubicBezTo>
                  <a:pt x="356" y="227"/>
                  <a:pt x="448" y="157"/>
                  <a:pt x="511" y="118"/>
                </a:cubicBezTo>
                <a:cubicBezTo>
                  <a:pt x="574" y="79"/>
                  <a:pt x="636" y="0"/>
                  <a:pt x="703" y="52"/>
                </a:cubicBezTo>
                <a:cubicBezTo>
                  <a:pt x="770" y="104"/>
                  <a:pt x="850" y="344"/>
                  <a:pt x="913" y="430"/>
                </a:cubicBezTo>
                <a:cubicBezTo>
                  <a:pt x="976" y="516"/>
                  <a:pt x="1071" y="521"/>
                  <a:pt x="1081" y="568"/>
                </a:cubicBezTo>
                <a:cubicBezTo>
                  <a:pt x="1091" y="615"/>
                  <a:pt x="962" y="652"/>
                  <a:pt x="973" y="712"/>
                </a:cubicBezTo>
                <a:cubicBezTo>
                  <a:pt x="984" y="772"/>
                  <a:pt x="1094" y="821"/>
                  <a:pt x="1147" y="928"/>
                </a:cubicBezTo>
                <a:cubicBezTo>
                  <a:pt x="1200" y="1035"/>
                  <a:pt x="1261" y="1265"/>
                  <a:pt x="1291" y="1354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9029880"/>
            <a:ext cx="190800" cy="114120"/>
          </a:xfrm>
          <a:custGeom>
            <a:avLst/>
            <a:gdLst/>
            <a:ahLst/>
            <a:rect l="l" t="t" r="r" b="b"/>
            <a:pathLst>
              <a:path w="448" h="302">
                <a:moveTo>
                  <a:pt x="0" y="146"/>
                </a:moveTo>
                <a:lnTo>
                  <a:pt x="171" y="0"/>
                </a:lnTo>
                <a:lnTo>
                  <a:pt x="267" y="144"/>
                </a:lnTo>
                <a:lnTo>
                  <a:pt x="283" y="73"/>
                </a:lnTo>
                <a:lnTo>
                  <a:pt x="411" y="96"/>
                </a:lnTo>
                <a:lnTo>
                  <a:pt x="448" y="302"/>
                </a:lnTo>
                <a:lnTo>
                  <a:pt x="267" y="288"/>
                </a:lnTo>
                <a:lnTo>
                  <a:pt x="91" y="265"/>
                </a:lnTo>
                <a:lnTo>
                  <a:pt x="0" y="14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7010280"/>
            <a:ext cx="152280" cy="19080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22" y="0"/>
                </a:moveTo>
                <a:lnTo>
                  <a:pt x="118" y="12"/>
                </a:lnTo>
                <a:lnTo>
                  <a:pt x="120" y="81"/>
                </a:lnTo>
                <a:lnTo>
                  <a:pt x="137" y="130"/>
                </a:lnTo>
                <a:lnTo>
                  <a:pt x="192" y="147"/>
                </a:lnTo>
                <a:lnTo>
                  <a:pt x="180" y="198"/>
                </a:lnTo>
                <a:lnTo>
                  <a:pt x="132" y="240"/>
                </a:lnTo>
                <a:lnTo>
                  <a:pt x="72" y="145"/>
                </a:lnTo>
                <a:lnTo>
                  <a:pt x="30" y="134"/>
                </a:lnTo>
                <a:lnTo>
                  <a:pt x="0" y="75"/>
                </a:lnTo>
                <a:lnTo>
                  <a:pt x="22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23920" y="3471840"/>
            <a:ext cx="1068480" cy="2625840"/>
          </a:xfrm>
          <a:custGeom>
            <a:avLst/>
            <a:gdLst/>
            <a:ahLst/>
            <a:rect l="l" t="t" r="r" b="b"/>
            <a:pathLst>
              <a:path w="673" h="1654">
                <a:moveTo>
                  <a:pt x="563" y="21"/>
                </a:moveTo>
                <a:cubicBezTo>
                  <a:pt x="510" y="0"/>
                  <a:pt x="288" y="240"/>
                  <a:pt x="215" y="368"/>
                </a:cubicBezTo>
                <a:cubicBezTo>
                  <a:pt x="142" y="496"/>
                  <a:pt x="149" y="636"/>
                  <a:pt x="124" y="789"/>
                </a:cubicBezTo>
                <a:cubicBezTo>
                  <a:pt x="99" y="942"/>
                  <a:pt x="0" y="1145"/>
                  <a:pt x="65" y="1288"/>
                </a:cubicBezTo>
                <a:cubicBezTo>
                  <a:pt x="130" y="1431"/>
                  <a:pt x="413" y="1654"/>
                  <a:pt x="513" y="1644"/>
                </a:cubicBezTo>
                <a:cubicBezTo>
                  <a:pt x="613" y="1634"/>
                  <a:pt x="653" y="1366"/>
                  <a:pt x="663" y="1228"/>
                </a:cubicBezTo>
                <a:cubicBezTo>
                  <a:pt x="673" y="1090"/>
                  <a:pt x="583" y="987"/>
                  <a:pt x="572" y="816"/>
                </a:cubicBezTo>
                <a:cubicBezTo>
                  <a:pt x="561" y="645"/>
                  <a:pt x="600" y="336"/>
                  <a:pt x="599" y="204"/>
                </a:cubicBezTo>
                <a:cubicBezTo>
                  <a:pt x="598" y="72"/>
                  <a:pt x="570" y="59"/>
                  <a:pt x="563" y="21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9000" y="1482840"/>
            <a:ext cx="1944720" cy="7130880"/>
          </a:xfrm>
          <a:custGeom>
            <a:avLst/>
            <a:gdLst/>
            <a:ahLst/>
            <a:rect l="l" t="t" r="r" b="b"/>
            <a:pathLst>
              <a:path w="1225" h="4492">
                <a:moveTo>
                  <a:pt x="46" y="76"/>
                </a:moveTo>
                <a:cubicBezTo>
                  <a:pt x="153" y="91"/>
                  <a:pt x="593" y="0"/>
                  <a:pt x="713" y="168"/>
                </a:cubicBezTo>
                <a:cubicBezTo>
                  <a:pt x="833" y="336"/>
                  <a:pt x="751" y="842"/>
                  <a:pt x="768" y="1082"/>
                </a:cubicBezTo>
                <a:cubicBezTo>
                  <a:pt x="785" y="1322"/>
                  <a:pt x="825" y="1362"/>
                  <a:pt x="817" y="1610"/>
                </a:cubicBezTo>
                <a:cubicBezTo>
                  <a:pt x="809" y="1858"/>
                  <a:pt x="657" y="2322"/>
                  <a:pt x="721" y="2570"/>
                </a:cubicBezTo>
                <a:cubicBezTo>
                  <a:pt x="785" y="2818"/>
                  <a:pt x="1177" y="2858"/>
                  <a:pt x="1201" y="3098"/>
                </a:cubicBezTo>
                <a:cubicBezTo>
                  <a:pt x="1225" y="3338"/>
                  <a:pt x="961" y="3802"/>
                  <a:pt x="865" y="4010"/>
                </a:cubicBezTo>
                <a:cubicBezTo>
                  <a:pt x="769" y="4218"/>
                  <a:pt x="769" y="4266"/>
                  <a:pt x="625" y="4346"/>
                </a:cubicBezTo>
                <a:cubicBezTo>
                  <a:pt x="481" y="4426"/>
                  <a:pt x="130" y="4462"/>
                  <a:pt x="0" y="4492"/>
                </a:cubicBez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5791320"/>
            <a:ext cx="152280" cy="1904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96" y="0"/>
                </a:moveTo>
                <a:lnTo>
                  <a:pt x="144" y="0"/>
                </a:lnTo>
                <a:lnTo>
                  <a:pt x="192" y="144"/>
                </a:lnTo>
                <a:lnTo>
                  <a:pt x="192" y="240"/>
                </a:lnTo>
                <a:lnTo>
                  <a:pt x="96" y="240"/>
                </a:lnTo>
                <a:lnTo>
                  <a:pt x="0" y="240"/>
                </a:lnTo>
                <a:lnTo>
                  <a:pt x="0" y="144"/>
                </a:lnTo>
                <a:lnTo>
                  <a:pt x="48" y="96"/>
                </a:lnTo>
                <a:lnTo>
                  <a:pt x="96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51160" y="792468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65560" y="6781680"/>
            <a:ext cx="398520" cy="1143000"/>
          </a:xfrm>
          <a:custGeom>
            <a:avLst/>
            <a:gdLst/>
            <a:ahLst/>
            <a:rect l="l" t="t" r="r" b="b"/>
            <a:pathLst>
              <a:path w="251" h="720">
                <a:moveTo>
                  <a:pt x="146" y="0"/>
                </a:moveTo>
                <a:cubicBezTo>
                  <a:pt x="163" y="58"/>
                  <a:pt x="251" y="272"/>
                  <a:pt x="247" y="348"/>
                </a:cubicBezTo>
                <a:cubicBezTo>
                  <a:pt x="243" y="424"/>
                  <a:pt x="159" y="406"/>
                  <a:pt x="121" y="456"/>
                </a:cubicBezTo>
                <a:cubicBezTo>
                  <a:pt x="83" y="506"/>
                  <a:pt x="38" y="604"/>
                  <a:pt x="19" y="648"/>
                </a:cubicBezTo>
                <a:cubicBezTo>
                  <a:pt x="0" y="692"/>
                  <a:pt x="8" y="705"/>
                  <a:pt x="5" y="720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7696080"/>
            <a:ext cx="762120" cy="15264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96"/>
                </a:moveTo>
                <a:cubicBezTo>
                  <a:pt x="460" y="76"/>
                  <a:pt x="440" y="56"/>
                  <a:pt x="384" y="48"/>
                </a:cubicBezTo>
                <a:cubicBezTo>
                  <a:pt x="328" y="40"/>
                  <a:pt x="208" y="56"/>
                  <a:pt x="144" y="48"/>
                </a:cubicBezTo>
                <a:cubicBezTo>
                  <a:pt x="80" y="40"/>
                  <a:pt x="40" y="20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1752480"/>
            <a:ext cx="6227280" cy="7696080"/>
            <a:chOff x="228600" y="1752480"/>
            <a:chExt cx="6227280" cy="7696080"/>
          </a:xfrm>
        </p:grpSpPr>
        <p:grpSp>
          <p:nvGrpSpPr>
            <p:cNvPr id="59" name=""/>
            <p:cNvGrpSpPr/>
            <p:nvPr/>
          </p:nvGrpSpPr>
          <p:grpSpPr>
            <a:xfrm>
              <a:off x="228600" y="1752480"/>
              <a:ext cx="6227280" cy="7349040"/>
              <a:chOff x="228600" y="1752480"/>
              <a:chExt cx="6227280" cy="7349040"/>
            </a:xfrm>
          </p:grpSpPr>
          <p:sp>
            <p:nvSpPr>
              <p:cNvPr id="60" name=""/>
              <p:cNvSpPr/>
              <p:nvPr/>
            </p:nvSpPr>
            <p:spPr>
              <a:xfrm>
                <a:off x="223740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37920" y="244224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3740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7920" y="175248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437920" y="31309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3740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3740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37920" y="45097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3740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37920" y="3821040"/>
                <a:ext cx="19944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437920" y="520020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3740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37080" y="21006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3652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37080" y="278892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3652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3652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37080" y="3472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37080" y="41634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3652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37080" y="485208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03652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03652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37080" y="55418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36760" y="21006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63620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36760" y="278892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3620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3620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36760" y="3472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36760" y="41634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63620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36760" y="485208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3620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63620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36760" y="55418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35000" y="21006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35880" y="24422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35000" y="278892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235880" y="175248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235880" y="3130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35000" y="3472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35000" y="41634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235880" y="45097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5000" y="485208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35880" y="3821040"/>
                <a:ext cx="194400" cy="45864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235880" y="520020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35000" y="55418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856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5560" y="2442240"/>
                <a:ext cx="19332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856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35560" y="1752480"/>
                <a:ext cx="19332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35560" y="313092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2856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856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35560" y="450972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2856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35560" y="3821040"/>
                <a:ext cx="19332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35560" y="520020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856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9480" y="24422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80" y="175248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80" y="3130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2860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860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9480" y="45097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860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9480" y="382104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9480" y="52002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860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4616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53520" y="2442240"/>
                <a:ext cx="19296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4616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53520" y="1752480"/>
                <a:ext cx="19296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53520" y="31309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4616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4616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853520" y="45097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4616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53520" y="3821040"/>
                <a:ext cx="19296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53520" y="520020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4616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4620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47080" y="24422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4620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47080" y="175248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47080" y="3130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4620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4620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47080" y="45097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4620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47080" y="382104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47080" y="52002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4620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45880" y="21006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45320" y="24422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45880" y="278892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045320" y="175248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45320" y="3130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845880" y="34729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45880" y="41634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45320" y="45097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45880" y="485208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45320" y="382104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045320" y="52002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45880" y="554184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445560" y="21006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45000" y="24422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45560" y="278892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45000" y="175248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45000" y="3130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45560" y="34729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45560" y="41634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45000" y="45097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45560" y="485208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45000" y="382104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45000" y="52002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45560" y="554184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43800" y="21006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45040" y="24422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43800" y="278892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45040" y="175248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45040" y="3130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043800" y="3472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43800" y="41634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5040" y="45097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43800" y="485208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45040" y="382104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45040" y="52002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043800" y="55418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63772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44720" y="2442240"/>
                <a:ext cx="19296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3772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44720" y="1752480"/>
                <a:ext cx="19296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844720" y="31309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63772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3772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844720" y="45097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3772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44720" y="3821040"/>
                <a:ext cx="19296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44720" y="520020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63772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5500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5500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5500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5500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5500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5500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54680" y="21006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5412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54680" y="278892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5412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5412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54680" y="3472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54680" y="41634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5412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54680" y="485208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5412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5412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54680" y="55418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5328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5380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45328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5380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5380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5328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45328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65380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45328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65380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65380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5328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52960" y="21006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53840" y="24422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052960" y="278892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53840" y="175248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53840" y="3130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52960" y="3472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52960" y="41634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253840" y="45097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052960" y="485208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253840" y="382104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53840" y="52002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052960" y="55418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237400" y="62305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437920" y="65786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37400" y="69206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437920" y="588888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37920" y="7268760"/>
                <a:ext cx="19944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2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237400" y="76093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37400" y="82998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37920" y="86414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37920" y="7957440"/>
                <a:ext cx="199440" cy="453960"/>
              </a:xfrm>
              <a:custGeom>
                <a:avLst/>
                <a:gdLst/>
                <a:ahLst/>
                <a:rect l="l" t="t" r="r" b="b"/>
                <a:pathLst>
                  <a:path w="130" h="296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6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37080" y="62305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36520" y="65786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837080" y="69206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36520" y="58888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36520" y="72687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2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837080" y="76096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37080" y="8299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3652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3652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36760" y="62308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36200" y="6579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36760" y="6921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36200" y="588888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36200" y="72691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36760" y="76096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36760" y="8299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3620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3620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35000" y="62308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35880" y="6579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35000" y="6921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35880" y="5888880"/>
              <a:ext cx="194400" cy="45972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35880" y="72691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35000" y="76096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35000" y="8299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35880" y="8641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35880" y="7957800"/>
              <a:ext cx="194400" cy="453960"/>
            </a:xfrm>
            <a:custGeom>
              <a:avLst/>
              <a:gdLst/>
              <a:ahLst/>
              <a:rect l="l" t="t" r="r" b="b"/>
              <a:pathLst>
                <a:path w="127" h="296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8560" y="62308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5560" y="6579000"/>
              <a:ext cx="19332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8560" y="6921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5560" y="5888880"/>
              <a:ext cx="19332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5560" y="7269120"/>
              <a:ext cx="19332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8560" y="76096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8560" y="8299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5560" y="8641800"/>
              <a:ext cx="19332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5560" y="7957800"/>
              <a:ext cx="19332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9480" y="6579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9480" y="588888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9480" y="72691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60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860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9480" y="8641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9480" y="795780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4616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3520" y="65790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4616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53520" y="5888880"/>
              <a:ext cx="19296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53520" y="7269120"/>
              <a:ext cx="19296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616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616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53520" y="86418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53520" y="7957800"/>
              <a:ext cx="19296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4620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7080" y="6579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4620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47080" y="588888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47080" y="72691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4620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4620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47080" y="8641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47080" y="795780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5880" y="62308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5320" y="6579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5880" y="69210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45320" y="588888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45320" y="72691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45880" y="76096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45880" y="82998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45320" y="8641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45320" y="795780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45560" y="62308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45000" y="6579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45560" y="69210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45000" y="588888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45000" y="72691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45560" y="76096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45560" y="82998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45000" y="8641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45000" y="795780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43800" y="62308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45040" y="6579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43800" y="6921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5040" y="588888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5040" y="72691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3800" y="76096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3800" y="8299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45040" y="8641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45040" y="795780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37720" y="62308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44720" y="65790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37720" y="6921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44720" y="5888880"/>
              <a:ext cx="19296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44720" y="7269120"/>
              <a:ext cx="19296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37720" y="76096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37720" y="8299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44720" y="86418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44720" y="7957800"/>
              <a:ext cx="19296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5500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5500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5500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5500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54680" y="62308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54120" y="6579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54680" y="6921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54120" y="588888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54120" y="72691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54680" y="76096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54680" y="8299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5412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5412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3280" y="62308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53800" y="6579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53280" y="6921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53800" y="588888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53800" y="72691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53280" y="76096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53280" y="8299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5380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5380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52960" y="62308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53840" y="6579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52960" y="6921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3840" y="588888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3840" y="72691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52960" y="76096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52960" y="8299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53840" y="8641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53840" y="795780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3740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37080" y="89899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36760" y="89899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35000" y="89899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856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860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616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24620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45880" y="8989920"/>
              <a:ext cx="19944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5560" y="8989920"/>
              <a:ext cx="19944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3800" y="89899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3772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5500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54680" y="89899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5328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52960" y="89899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28600" y="9601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92962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9220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371600"/>
            <a:ext cx="228600" cy="466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48320" y="9296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971800" y="956304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0" y="93726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チェンド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1542960"/>
            <a:ext cx="6477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62720" y="5946840"/>
            <a:ext cx="11430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グラブフォー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,500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5,000g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1828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イズレ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9880" y="3505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ワイエスティル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ヴェスヴェ森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0160" y="8839080"/>
            <a:ext cx="13460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ダウ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人口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,900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5,000gp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4510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クルス島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33320" y="5962680"/>
            <a:ext cx="1981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グラスゴーの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0g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00200" y="6019920"/>
            <a:ext cx="7632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00400" y="7900920"/>
            <a:ext cx="16002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ノームの集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0g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20" y="228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ロックポート周辺における冒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58294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資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52480" y="7162920"/>
            <a:ext cx="1981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ロックポー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人口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,5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,000gp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79560" y="1905120"/>
            <a:ext cx="1244520" cy="6476760"/>
          </a:xfrm>
          <a:custGeom>
            <a:avLst/>
            <a:gdLst/>
            <a:ahLst/>
            <a:rect l="l" t="t" r="r" b="b"/>
            <a:pathLst>
              <a:path w="784" h="4080">
                <a:moveTo>
                  <a:pt x="784" y="4080"/>
                </a:moveTo>
                <a:cubicBezTo>
                  <a:pt x="608" y="4008"/>
                  <a:pt x="432" y="3936"/>
                  <a:pt x="352" y="3888"/>
                </a:cubicBezTo>
                <a:cubicBezTo>
                  <a:pt x="272" y="3840"/>
                  <a:pt x="328" y="3816"/>
                  <a:pt x="304" y="3792"/>
                </a:cubicBezTo>
                <a:cubicBezTo>
                  <a:pt x="280" y="3768"/>
                  <a:pt x="248" y="3808"/>
                  <a:pt x="208" y="3744"/>
                </a:cubicBezTo>
                <a:cubicBezTo>
                  <a:pt x="168" y="3680"/>
                  <a:pt x="96" y="3480"/>
                  <a:pt x="64" y="3408"/>
                </a:cubicBezTo>
                <a:cubicBezTo>
                  <a:pt x="32" y="3336"/>
                  <a:pt x="0" y="3392"/>
                  <a:pt x="16" y="3312"/>
                </a:cubicBezTo>
                <a:cubicBezTo>
                  <a:pt x="32" y="3232"/>
                  <a:pt x="136" y="3024"/>
                  <a:pt x="160" y="2928"/>
                </a:cubicBezTo>
                <a:cubicBezTo>
                  <a:pt x="184" y="2832"/>
                  <a:pt x="168" y="2792"/>
                  <a:pt x="160" y="2736"/>
                </a:cubicBezTo>
                <a:cubicBezTo>
                  <a:pt x="152" y="2680"/>
                  <a:pt x="104" y="2672"/>
                  <a:pt x="112" y="2592"/>
                </a:cubicBezTo>
                <a:cubicBezTo>
                  <a:pt x="120" y="2512"/>
                  <a:pt x="208" y="2392"/>
                  <a:pt x="208" y="2256"/>
                </a:cubicBezTo>
                <a:cubicBezTo>
                  <a:pt x="208" y="2120"/>
                  <a:pt x="120" y="1984"/>
                  <a:pt x="112" y="1776"/>
                </a:cubicBezTo>
                <a:cubicBezTo>
                  <a:pt x="104" y="1568"/>
                  <a:pt x="93" y="1173"/>
                  <a:pt x="160" y="1008"/>
                </a:cubicBezTo>
                <a:cubicBezTo>
                  <a:pt x="227" y="843"/>
                  <a:pt x="517" y="952"/>
                  <a:pt x="512" y="784"/>
                </a:cubicBezTo>
                <a:cubicBezTo>
                  <a:pt x="507" y="616"/>
                  <a:pt x="208" y="163"/>
                  <a:pt x="128" y="0"/>
                </a:cubicBezTo>
              </a:path>
            </a:pathLst>
          </a:custGeom>
          <a:noFill/>
          <a:ln w="12600">
            <a:solidFill>
              <a:srgbClr val="3333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733480" y="8210520"/>
            <a:ext cx="152280" cy="7632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147760" y="7767360"/>
            <a:ext cx="76320" cy="7596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95400" y="7134120"/>
            <a:ext cx="4680" cy="6696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119320" y="6481800"/>
            <a:ext cx="23760" cy="7632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090880" y="5753160"/>
            <a:ext cx="75960" cy="7632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057400" y="4876560"/>
            <a:ext cx="4752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057400" y="3809880"/>
            <a:ext cx="0" cy="15264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414520" y="3319200"/>
            <a:ext cx="61920" cy="190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00120" y="2505240"/>
            <a:ext cx="75960" cy="856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162240" y="7886880"/>
            <a:ext cx="228600" cy="228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404800" y="8067240"/>
            <a:ext cx="759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752480" y="7695720"/>
            <a:ext cx="381240" cy="22860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3162240" y="8429400"/>
            <a:ext cx="247680" cy="32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3352680" y="8076960"/>
            <a:ext cx="247680" cy="32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24400" y="82962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3.1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濃霧の効果範囲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67000" y="871056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5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ベルターの廃神殿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43160" y="832968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[1.1]</a:t>
            </a:r>
            <a:r>
              <a:rPr b="0" lang="ja-JP" sz="6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手負いノームから助けを求められる。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7877160"/>
            <a:ext cx="1014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ff"/>
                </a:solidFill>
                <a:latin typeface="ＭＳ ゴシック"/>
                <a:ea typeface="ＭＳ ゴシック"/>
              </a:rPr>
              <a:t>[1.1]</a:t>
            </a:r>
            <a:r>
              <a:rPr b="0" lang="ja-JP" sz="600" spc="-1" strike="noStrike">
                <a:solidFill>
                  <a:srgbClr val="3333ff"/>
                </a:solidFill>
                <a:latin typeface="ＭＳ ゴシック"/>
                <a:ea typeface="ＭＳ ゴシック"/>
              </a:rPr>
              <a:t>盗掘者の逃走経路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452520" y="317520"/>
            <a:ext cx="6100560" cy="914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97160" y="279360"/>
            <a:ext cx="5175000" cy="9188640"/>
          </a:xfrm>
          <a:custGeom>
            <a:avLst/>
            <a:gdLst/>
            <a:ahLst/>
            <a:rect l="l" t="t" r="r" b="b"/>
            <a:pathLst>
              <a:path w="3260" h="5788">
                <a:moveTo>
                  <a:pt x="296" y="2728"/>
                </a:moveTo>
                <a:cubicBezTo>
                  <a:pt x="322" y="2672"/>
                  <a:pt x="312" y="2212"/>
                  <a:pt x="392" y="2092"/>
                </a:cubicBezTo>
                <a:cubicBezTo>
                  <a:pt x="472" y="1972"/>
                  <a:pt x="636" y="2164"/>
                  <a:pt x="776" y="2008"/>
                </a:cubicBezTo>
                <a:cubicBezTo>
                  <a:pt x="916" y="1852"/>
                  <a:pt x="1064" y="1332"/>
                  <a:pt x="1232" y="1156"/>
                </a:cubicBezTo>
                <a:cubicBezTo>
                  <a:pt x="1400" y="980"/>
                  <a:pt x="1686" y="1020"/>
                  <a:pt x="1784" y="952"/>
                </a:cubicBezTo>
                <a:cubicBezTo>
                  <a:pt x="1882" y="884"/>
                  <a:pt x="1870" y="832"/>
                  <a:pt x="1820" y="748"/>
                </a:cubicBezTo>
                <a:cubicBezTo>
                  <a:pt x="1770" y="664"/>
                  <a:pt x="1574" y="540"/>
                  <a:pt x="1484" y="448"/>
                </a:cubicBezTo>
                <a:cubicBezTo>
                  <a:pt x="1394" y="356"/>
                  <a:pt x="1368" y="266"/>
                  <a:pt x="1280" y="196"/>
                </a:cubicBezTo>
                <a:cubicBezTo>
                  <a:pt x="1208" y="104"/>
                  <a:pt x="706" y="56"/>
                  <a:pt x="956" y="28"/>
                </a:cubicBezTo>
                <a:cubicBezTo>
                  <a:pt x="1206" y="0"/>
                  <a:pt x="2398" y="28"/>
                  <a:pt x="2780" y="28"/>
                </a:cubicBezTo>
                <a:cubicBezTo>
                  <a:pt x="3116" y="16"/>
                  <a:pt x="2744" y="46"/>
                  <a:pt x="3248" y="28"/>
                </a:cubicBezTo>
                <a:cubicBezTo>
                  <a:pt x="3260" y="988"/>
                  <a:pt x="3212" y="5152"/>
                  <a:pt x="3236" y="5752"/>
                </a:cubicBezTo>
                <a:cubicBezTo>
                  <a:pt x="2576" y="5776"/>
                  <a:pt x="1196" y="5776"/>
                  <a:pt x="392" y="5788"/>
                </a:cubicBezTo>
                <a:cubicBezTo>
                  <a:pt x="560" y="5356"/>
                  <a:pt x="0" y="4738"/>
                  <a:pt x="224" y="4492"/>
                </a:cubicBezTo>
                <a:cubicBezTo>
                  <a:pt x="448" y="4246"/>
                  <a:pt x="1462" y="4406"/>
                  <a:pt x="1736" y="4312"/>
                </a:cubicBezTo>
                <a:cubicBezTo>
                  <a:pt x="2010" y="4218"/>
                  <a:pt x="1800" y="4072"/>
                  <a:pt x="1868" y="3928"/>
                </a:cubicBezTo>
                <a:cubicBezTo>
                  <a:pt x="1936" y="3784"/>
                  <a:pt x="2230" y="3522"/>
                  <a:pt x="2144" y="3448"/>
                </a:cubicBezTo>
                <a:cubicBezTo>
                  <a:pt x="2058" y="3374"/>
                  <a:pt x="1568" y="3492"/>
                  <a:pt x="1352" y="3484"/>
                </a:cubicBezTo>
                <a:cubicBezTo>
                  <a:pt x="1136" y="3476"/>
                  <a:pt x="996" y="3456"/>
                  <a:pt x="848" y="3400"/>
                </a:cubicBezTo>
                <a:cubicBezTo>
                  <a:pt x="700" y="3344"/>
                  <a:pt x="654" y="3206"/>
                  <a:pt x="464" y="3148"/>
                </a:cubicBez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5" name="1x2_PurplePortal.b.270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1524240" cy="761760"/>
          </a:xfrm>
          <a:prstGeom prst="rect">
            <a:avLst/>
          </a:prstGeom>
          <a:ln w="0">
            <a:noFill/>
          </a:ln>
        </p:spPr>
      </p:pic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743200" y="9524880"/>
            <a:ext cx="14479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0 [7.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57200" y="304920"/>
            <a:ext cx="152280" cy="9067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400800" y="304920"/>
            <a:ext cx="15228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3199680" y="3581280"/>
            <a:ext cx="476280" cy="533520"/>
          </a:xfrm>
          <a:custGeom>
            <a:avLst/>
            <a:gdLst/>
            <a:ahLst/>
            <a:rect l="l" t="t" r="r" b="b"/>
            <a:pathLst>
              <a:path w="300" h="336">
                <a:moveTo>
                  <a:pt x="0" y="60"/>
                </a:moveTo>
                <a:lnTo>
                  <a:pt x="0" y="300"/>
                </a:lnTo>
                <a:lnTo>
                  <a:pt x="300" y="336"/>
                </a:lnTo>
                <a:lnTo>
                  <a:pt x="300" y="0"/>
                </a:lnTo>
                <a:lnTo>
                  <a:pt x="0" y="60"/>
                </a:lnTo>
                <a:close/>
              </a:path>
            </a:pathLst>
          </a:cu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267080" y="304920"/>
            <a:ext cx="228600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91320" y="1066680"/>
            <a:ext cx="76176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33520" y="304920"/>
            <a:ext cx="761760" cy="236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295280" y="304920"/>
            <a:ext cx="76212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57200" y="6400800"/>
            <a:ext cx="304812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219320" y="5638680"/>
            <a:ext cx="76176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33520" y="7162920"/>
            <a:ext cx="152388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981080" y="8686800"/>
            <a:ext cx="3048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057400" y="7924680"/>
            <a:ext cx="76212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267080" y="7924680"/>
            <a:ext cx="76212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57200" y="7162920"/>
            <a:ext cx="762120" cy="23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219320" y="8686800"/>
            <a:ext cx="7617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57400" y="304920"/>
            <a:ext cx="2286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rot="21130200">
            <a:off x="2209320" y="2133360"/>
            <a:ext cx="1752840" cy="99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rot="3753000">
            <a:off x="1980720" y="2438280"/>
            <a:ext cx="1752480" cy="99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1842480" y="3336840"/>
            <a:ext cx="1267920" cy="946440"/>
            <a:chOff x="1842480" y="3336840"/>
            <a:chExt cx="1267920" cy="946440"/>
          </a:xfrm>
        </p:grpSpPr>
        <p:sp>
          <p:nvSpPr>
            <p:cNvPr id="1296" name=""/>
            <p:cNvSpPr/>
            <p:nvPr/>
          </p:nvSpPr>
          <p:spPr>
            <a:xfrm rot="20932200">
              <a:off x="1964520" y="3457440"/>
              <a:ext cx="1085760" cy="72756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96" y="144"/>
                  </a:moveTo>
                  <a:lnTo>
                    <a:pt x="288" y="0"/>
                  </a:lnTo>
                  <a:lnTo>
                    <a:pt x="816" y="48"/>
                  </a:lnTo>
                  <a:lnTo>
                    <a:pt x="912" y="528"/>
                  </a:lnTo>
                  <a:lnTo>
                    <a:pt x="768" y="912"/>
                  </a:lnTo>
                  <a:lnTo>
                    <a:pt x="432" y="1008"/>
                  </a:lnTo>
                  <a:lnTo>
                    <a:pt x="144" y="960"/>
                  </a:lnTo>
                  <a:lnTo>
                    <a:pt x="0" y="576"/>
                  </a:lnTo>
                  <a:lnTo>
                    <a:pt x="96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20932200">
              <a:off x="1902240" y="3434400"/>
              <a:ext cx="1085760" cy="72756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96" y="144"/>
                  </a:moveTo>
                  <a:lnTo>
                    <a:pt x="288" y="0"/>
                  </a:lnTo>
                  <a:lnTo>
                    <a:pt x="816" y="48"/>
                  </a:lnTo>
                  <a:lnTo>
                    <a:pt x="912" y="528"/>
                  </a:lnTo>
                  <a:lnTo>
                    <a:pt x="768" y="912"/>
                  </a:lnTo>
                  <a:lnTo>
                    <a:pt x="432" y="1008"/>
                  </a:lnTo>
                  <a:lnTo>
                    <a:pt x="144" y="960"/>
                  </a:lnTo>
                  <a:lnTo>
                    <a:pt x="0" y="576"/>
                  </a:lnTo>
                  <a:lnTo>
                    <a:pt x="96" y="14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 rot="21361200">
            <a:off x="1447920" y="4140360"/>
            <a:ext cx="1371600" cy="685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3505320" y="3276720"/>
            <a:ext cx="1523880" cy="1675800"/>
            <a:chOff x="3505320" y="3276720"/>
            <a:chExt cx="1523880" cy="1675800"/>
          </a:xfrm>
        </p:grpSpPr>
        <p:sp>
          <p:nvSpPr>
            <p:cNvPr id="1300" name=""/>
            <p:cNvSpPr/>
            <p:nvPr/>
          </p:nvSpPr>
          <p:spPr>
            <a:xfrm>
              <a:off x="3581640" y="3352680"/>
              <a:ext cx="1447560" cy="159984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96" y="144"/>
                  </a:moveTo>
                  <a:lnTo>
                    <a:pt x="288" y="0"/>
                  </a:lnTo>
                  <a:lnTo>
                    <a:pt x="816" y="48"/>
                  </a:lnTo>
                  <a:lnTo>
                    <a:pt x="912" y="528"/>
                  </a:lnTo>
                  <a:lnTo>
                    <a:pt x="768" y="912"/>
                  </a:lnTo>
                  <a:lnTo>
                    <a:pt x="432" y="1008"/>
                  </a:lnTo>
                  <a:lnTo>
                    <a:pt x="144" y="960"/>
                  </a:lnTo>
                  <a:lnTo>
                    <a:pt x="0" y="576"/>
                  </a:lnTo>
                  <a:lnTo>
                    <a:pt x="96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505320" y="3276720"/>
              <a:ext cx="1447920" cy="159984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96" y="144"/>
                  </a:moveTo>
                  <a:lnTo>
                    <a:pt x="288" y="0"/>
                  </a:lnTo>
                  <a:lnTo>
                    <a:pt x="816" y="48"/>
                  </a:lnTo>
                  <a:lnTo>
                    <a:pt x="912" y="528"/>
                  </a:lnTo>
                  <a:lnTo>
                    <a:pt x="768" y="912"/>
                  </a:lnTo>
                  <a:lnTo>
                    <a:pt x="432" y="1008"/>
                  </a:lnTo>
                  <a:lnTo>
                    <a:pt x="144" y="960"/>
                  </a:lnTo>
                  <a:lnTo>
                    <a:pt x="0" y="576"/>
                  </a:lnTo>
                  <a:lnTo>
                    <a:pt x="96" y="144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 rot="16200000">
            <a:off x="2286000" y="3276360"/>
            <a:ext cx="304560" cy="3049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rot="16200000">
            <a:off x="3276360" y="2742840"/>
            <a:ext cx="304920" cy="30456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rot="16200000">
            <a:off x="2895480" y="3885840"/>
            <a:ext cx="304920" cy="30492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 rot="2678400">
            <a:off x="4495320" y="4876920"/>
            <a:ext cx="152640" cy="685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305240" y="3124080"/>
            <a:ext cx="1333440" cy="2248200"/>
          </a:xfrm>
          <a:custGeom>
            <a:avLst/>
            <a:gdLst/>
            <a:ahLst/>
            <a:rect l="l" t="t" r="r" b="b"/>
            <a:pathLst>
              <a:path w="840" h="1416">
                <a:moveTo>
                  <a:pt x="648" y="432"/>
                </a:moveTo>
                <a:lnTo>
                  <a:pt x="840" y="288"/>
                </a:lnTo>
                <a:lnTo>
                  <a:pt x="840" y="48"/>
                </a:lnTo>
                <a:lnTo>
                  <a:pt x="552" y="0"/>
                </a:lnTo>
                <a:lnTo>
                  <a:pt x="36" y="72"/>
                </a:lnTo>
                <a:lnTo>
                  <a:pt x="0" y="528"/>
                </a:lnTo>
                <a:cubicBezTo>
                  <a:pt x="22" y="626"/>
                  <a:pt x="156" y="588"/>
                  <a:pt x="168" y="660"/>
                </a:cubicBezTo>
                <a:cubicBezTo>
                  <a:pt x="180" y="732"/>
                  <a:pt x="96" y="856"/>
                  <a:pt x="72" y="960"/>
                </a:cubicBezTo>
                <a:lnTo>
                  <a:pt x="120" y="1296"/>
                </a:lnTo>
                <a:lnTo>
                  <a:pt x="456" y="1416"/>
                </a:lnTo>
                <a:lnTo>
                  <a:pt x="588" y="828"/>
                </a:lnTo>
                <a:lnTo>
                  <a:pt x="648" y="432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2590560" y="2870640"/>
            <a:ext cx="1600200" cy="1192320"/>
            <a:chOff x="2590560" y="2870640"/>
            <a:chExt cx="1600200" cy="1192320"/>
          </a:xfrm>
        </p:grpSpPr>
        <p:sp>
          <p:nvSpPr>
            <p:cNvPr id="1308" name=""/>
            <p:cNvSpPr/>
            <p:nvPr/>
          </p:nvSpPr>
          <p:spPr>
            <a:xfrm rot="1365000">
              <a:off x="2669760" y="3108960"/>
              <a:ext cx="1371600" cy="6858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1365000">
              <a:off x="3837960" y="3359520"/>
              <a:ext cx="228600" cy="6858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1311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1312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4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452520" y="304920"/>
            <a:ext cx="6100560" cy="914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819160" y="9524880"/>
            <a:ext cx="144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1 [7.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91320" y="4876920"/>
            <a:ext cx="76176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505320" y="6400800"/>
            <a:ext cx="2286000" cy="3029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477120" y="4876920"/>
            <a:ext cx="7596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2" name="4x2_Stairs.a.90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1523880" cy="3048120"/>
          </a:xfrm>
          <a:prstGeom prst="rect">
            <a:avLst/>
          </a:prstGeom>
          <a:ln w="0">
            <a:noFill/>
          </a:ln>
        </p:spPr>
      </p:pic>
      <p:pic>
        <p:nvPicPr>
          <p:cNvPr id="1343" name="4x2_Stairs.a.180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3048120" cy="1523880"/>
          </a:xfrm>
          <a:prstGeom prst="rect">
            <a:avLst/>
          </a:prstGeom>
          <a:ln w="0">
            <a:noFill/>
          </a:ln>
        </p:spPr>
      </p:pic>
      <p:pic>
        <p:nvPicPr>
          <p:cNvPr id="1344" name="2x2_Ground.b.270" descr=""/>
          <p:cNvPicPr/>
          <p:nvPr/>
        </p:nvPicPr>
        <p:blipFill>
          <a:blip r:embed="rId4"/>
          <a:stretch/>
        </p:blipFill>
        <p:spPr>
          <a:xfrm>
            <a:off x="1981080" y="3049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345" name=""/>
          <p:cNvSpPr/>
          <p:nvPr/>
        </p:nvSpPr>
        <p:spPr>
          <a:xfrm>
            <a:off x="1981080" y="304920"/>
            <a:ext cx="152640" cy="4114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57200" y="6400800"/>
            <a:ext cx="15238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rot="16200000">
            <a:off x="3505320" y="6019920"/>
            <a:ext cx="304560" cy="3045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29200" y="1828800"/>
            <a:ext cx="15238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200" y="7162920"/>
            <a:ext cx="7621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267080" y="7162920"/>
            <a:ext cx="7621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rot="678600">
            <a:off x="4392720" y="5105520"/>
            <a:ext cx="1245960" cy="1143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2x1_SingleDoor.b.90" descr=""/>
          <p:cNvPicPr/>
          <p:nvPr/>
        </p:nvPicPr>
        <p:blipFill>
          <a:blip r:embed="rId7"/>
          <a:stretch/>
        </p:blipFill>
        <p:spPr>
          <a:xfrm>
            <a:off x="495360" y="399960"/>
            <a:ext cx="723960" cy="144792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>
            <a:off x="457200" y="343080"/>
            <a:ext cx="76320" cy="681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57200" y="304920"/>
            <a:ext cx="60958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791320" y="2590920"/>
            <a:ext cx="76176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1357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1358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5791320" y="457200"/>
            <a:ext cx="761760" cy="13716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rot="17677800">
            <a:off x="3009600" y="4762080"/>
            <a:ext cx="2667240" cy="304560"/>
          </a:xfrm>
          <a:custGeom>
            <a:avLst/>
            <a:gdLst>
              <a:gd name="textAreaLeft" fmla="*/ 0 w 2667240"/>
              <a:gd name="textAreaRight" fmla="*/ 2667600 w 2667240"/>
              <a:gd name="textAreaTop" fmla="*/ 62640 h 304560"/>
              <a:gd name="textAreaBottom" fmla="*/ 241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rot="1522200">
            <a:off x="4269960" y="3549600"/>
            <a:ext cx="76320" cy="28767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8x2_Lightning.b.270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1524240" cy="6095880"/>
          </a:xfrm>
          <a:prstGeom prst="rect">
            <a:avLst/>
          </a:prstGeom>
          <a:ln w="0">
            <a:noFill/>
          </a:ln>
        </p:spPr>
      </p:pic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2743200" y="9524880"/>
            <a:ext cx="14479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2 [7.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219320" y="5638680"/>
            <a:ext cx="76176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981080" y="8686800"/>
            <a:ext cx="228600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267080" y="5638680"/>
            <a:ext cx="76212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1" name="2x2_Rune.a.180" descr=""/>
          <p:cNvPicPr/>
          <p:nvPr/>
        </p:nvPicPr>
        <p:blipFill>
          <a:blip r:embed="rId2"/>
          <a:srcRect l="0" t="9982" r="0" b="0"/>
          <a:stretch/>
        </p:blipFill>
        <p:spPr>
          <a:xfrm>
            <a:off x="1981080" y="640080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3505320" y="304920"/>
            <a:ext cx="761760" cy="6095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981080" y="304920"/>
            <a:ext cx="762120" cy="6172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4" name="1x1_Statue.a.180" descr=""/>
          <p:cNvPicPr/>
          <p:nvPr/>
        </p:nvPicPr>
        <p:blipFill>
          <a:blip r:embed="rId3"/>
          <a:stretch/>
        </p:blipFill>
        <p:spPr>
          <a:xfrm>
            <a:off x="2743200" y="7924680"/>
            <a:ext cx="762120" cy="762120"/>
          </a:xfrm>
          <a:prstGeom prst="rect">
            <a:avLst/>
          </a:prstGeom>
          <a:ln w="0">
            <a:noFill/>
          </a:ln>
        </p:spPr>
      </p:pic>
      <p:grpSp>
        <p:nvGrpSpPr>
          <p:cNvPr id="1395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1396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1397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9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000160" y="6400800"/>
            <a:ext cx="2266920" cy="2286000"/>
          </a:xfrm>
          <a:custGeom>
            <a:avLst/>
            <a:gdLst/>
            <a:ahLst/>
            <a:rect l="l" t="t" r="r" b="b"/>
            <a:pathLst>
              <a:path w="1428" h="1440">
                <a:moveTo>
                  <a:pt x="0" y="36"/>
                </a:moveTo>
                <a:lnTo>
                  <a:pt x="168" y="36"/>
                </a:lnTo>
                <a:lnTo>
                  <a:pt x="0" y="204"/>
                </a:lnTo>
                <a:lnTo>
                  <a:pt x="12" y="768"/>
                </a:lnTo>
                <a:lnTo>
                  <a:pt x="144" y="1008"/>
                </a:lnTo>
                <a:lnTo>
                  <a:pt x="480" y="1092"/>
                </a:lnTo>
                <a:lnTo>
                  <a:pt x="564" y="1428"/>
                </a:lnTo>
                <a:lnTo>
                  <a:pt x="864" y="1428"/>
                </a:lnTo>
                <a:lnTo>
                  <a:pt x="984" y="1092"/>
                </a:lnTo>
                <a:lnTo>
                  <a:pt x="1320" y="1008"/>
                </a:lnTo>
                <a:lnTo>
                  <a:pt x="1404" y="720"/>
                </a:lnTo>
                <a:lnTo>
                  <a:pt x="1404" y="168"/>
                </a:lnTo>
                <a:lnTo>
                  <a:pt x="1212" y="0"/>
                </a:lnTo>
                <a:lnTo>
                  <a:pt x="1428" y="0"/>
                </a:lnTo>
                <a:lnTo>
                  <a:pt x="1428" y="1440"/>
                </a:lnTo>
                <a:lnTo>
                  <a:pt x="0" y="1428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452520" y="304920"/>
            <a:ext cx="6100560" cy="914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505320" y="2590920"/>
            <a:ext cx="3047760" cy="60958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2x1_SingleDoor.b.90" descr=""/>
          <p:cNvPicPr/>
          <p:nvPr/>
        </p:nvPicPr>
        <p:blipFill>
          <a:blip r:embed="rId2"/>
          <a:stretch/>
        </p:blipFill>
        <p:spPr>
          <a:xfrm>
            <a:off x="5791320" y="7162920"/>
            <a:ext cx="761760" cy="1523880"/>
          </a:xfrm>
          <a:prstGeom prst="rect">
            <a:avLst/>
          </a:prstGeom>
          <a:ln w="0">
            <a:noFill/>
          </a:ln>
        </p:spPr>
      </p:pic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2590560" y="9524880"/>
            <a:ext cx="144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3 [7.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81080" y="304920"/>
            <a:ext cx="45720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029200" y="8686800"/>
            <a:ext cx="15238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33520" y="9296280"/>
            <a:ext cx="601956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2x1_DoubleDoors.a.0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1371600" cy="762120"/>
          </a:xfrm>
          <a:prstGeom prst="rect">
            <a:avLst/>
          </a:prstGeom>
          <a:ln w="0">
            <a:noFill/>
          </a:ln>
        </p:spPr>
      </p:pic>
      <p:pic>
        <p:nvPicPr>
          <p:cNvPr id="1431" name="8x2_Lightning.b.270" descr=""/>
          <p:cNvPicPr/>
          <p:nvPr/>
        </p:nvPicPr>
        <p:blipFill>
          <a:blip r:embed="rId4"/>
          <a:srcRect l="0" t="0" r="0" b="25011"/>
          <a:stretch/>
        </p:blipFill>
        <p:spPr>
          <a:xfrm>
            <a:off x="3505320" y="4114800"/>
            <a:ext cx="1523880" cy="4572000"/>
          </a:xfrm>
          <a:prstGeom prst="rect">
            <a:avLst/>
          </a:prstGeom>
          <a:ln w="0">
            <a:noFill/>
          </a:ln>
        </p:spPr>
      </p:pic>
      <p:pic>
        <p:nvPicPr>
          <p:cNvPr id="1432" name="2x1_DoubleDoors.a.270" descr=""/>
          <p:cNvPicPr/>
          <p:nvPr/>
        </p:nvPicPr>
        <p:blipFill>
          <a:blip r:embed="rId5"/>
          <a:srcRect l="20071" t="0" r="40024" b="0"/>
          <a:stretch/>
        </p:blipFill>
        <p:spPr>
          <a:xfrm>
            <a:off x="6248520" y="7162920"/>
            <a:ext cx="304560" cy="1523880"/>
          </a:xfrm>
          <a:prstGeom prst="rect">
            <a:avLst/>
          </a:prstGeom>
          <a:ln w="0">
            <a:noFill/>
          </a:ln>
        </p:spPr>
      </p:pic>
      <p:sp>
        <p:nvSpPr>
          <p:cNvPr id="1433" name=""/>
          <p:cNvSpPr/>
          <p:nvPr/>
        </p:nvSpPr>
        <p:spPr>
          <a:xfrm>
            <a:off x="2819520" y="304920"/>
            <a:ext cx="373356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rot="16646400">
            <a:off x="5000400" y="6809760"/>
            <a:ext cx="684360" cy="1541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66880" y="5562720"/>
            <a:ext cx="457200" cy="4572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057400" y="4648320"/>
            <a:ext cx="457200" cy="4572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5029200"/>
            <a:ext cx="457200" cy="45720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rot="15639000">
            <a:off x="2375280" y="4561560"/>
            <a:ext cx="762120" cy="1541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9" name="2x2_FireBowl.a.0" descr=""/>
          <p:cNvPicPr/>
          <p:nvPr/>
        </p:nvPicPr>
        <p:blipFill>
          <a:blip r:embed="rId11"/>
          <a:stretch/>
        </p:blipFill>
        <p:spPr>
          <a:xfrm>
            <a:off x="2743200" y="71629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 rot="16051200">
            <a:off x="999360" y="2429280"/>
            <a:ext cx="914400" cy="1541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550080" y="7353360"/>
            <a:ext cx="1017720" cy="1969560"/>
            <a:chOff x="550080" y="7353360"/>
            <a:chExt cx="1017720" cy="1969560"/>
          </a:xfrm>
        </p:grpSpPr>
        <p:sp>
          <p:nvSpPr>
            <p:cNvPr id="1442" name=""/>
            <p:cNvSpPr/>
            <p:nvPr/>
          </p:nvSpPr>
          <p:spPr>
            <a:xfrm rot="5035800">
              <a:off x="156240" y="7877520"/>
              <a:ext cx="1793880" cy="8218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5035800">
              <a:off x="993600" y="8719560"/>
              <a:ext cx="298800" cy="8218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457200" y="304920"/>
            <a:ext cx="15228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5" name="2x1_SingleDoor.b.90" descr=""/>
          <p:cNvPicPr/>
          <p:nvPr/>
        </p:nvPicPr>
        <p:blipFill>
          <a:blip r:embed="rId15"/>
          <a:stretch/>
        </p:blipFill>
        <p:spPr>
          <a:xfrm>
            <a:off x="5791320" y="3352680"/>
            <a:ext cx="761760" cy="1524240"/>
          </a:xfrm>
          <a:prstGeom prst="rect">
            <a:avLst/>
          </a:prstGeom>
          <a:ln w="0">
            <a:noFill/>
          </a:ln>
        </p:spPr>
      </p:pic>
      <p:pic>
        <p:nvPicPr>
          <p:cNvPr id="1446" name="1x1_Statue.b.90" descr=""/>
          <p:cNvPicPr/>
          <p:nvPr/>
        </p:nvPicPr>
        <p:blipFill>
          <a:blip r:embed="rId16"/>
          <a:stretch/>
        </p:blipFill>
        <p:spPr>
          <a:xfrm>
            <a:off x="5791320" y="25909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1447" name=""/>
          <p:cNvSpPr/>
          <p:nvPr/>
        </p:nvSpPr>
        <p:spPr>
          <a:xfrm>
            <a:off x="6324480" y="2590920"/>
            <a:ext cx="228600" cy="457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8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1449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1450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12x16" descr=""/>
          <p:cNvPicPr/>
          <p:nvPr/>
        </p:nvPicPr>
        <p:blipFill>
          <a:blip r:embed="rId1">
            <a:lum bright="-30000"/>
          </a:blip>
          <a:srcRect l="17841" t="12457" r="0" b="0"/>
          <a:stretch/>
        </p:blipFill>
        <p:spPr>
          <a:xfrm>
            <a:off x="1521000" y="1444680"/>
            <a:ext cx="5022720" cy="8004240"/>
          </a:xfrm>
          <a:prstGeom prst="rect">
            <a:avLst/>
          </a:prstGeom>
          <a:ln w="0">
            <a:noFill/>
          </a:ln>
        </p:spPr>
      </p:pic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304920" y="944892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4 ([8.1], 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rot="21466800">
            <a:off x="5487840" y="7999200"/>
            <a:ext cx="836640" cy="23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914400" y="1981080"/>
            <a:ext cx="609480" cy="7467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57200" y="1447920"/>
            <a:ext cx="5105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029200" y="1981080"/>
            <a:ext cx="53352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514600" y="1981080"/>
            <a:ext cx="53352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4495680" y="3124080"/>
            <a:ext cx="5335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971800" y="3124080"/>
            <a:ext cx="5335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4x2_DragonSkeleton.b.180" descr=""/>
          <p:cNvPicPr/>
          <p:nvPr/>
        </p:nvPicPr>
        <p:blipFill>
          <a:blip r:embed="rId3"/>
          <a:stretch/>
        </p:blipFill>
        <p:spPr>
          <a:xfrm>
            <a:off x="2990880" y="1981080"/>
            <a:ext cx="1981080" cy="1143000"/>
          </a:xfrm>
          <a:prstGeom prst="rect">
            <a:avLst/>
          </a:prstGeom>
          <a:ln w="0">
            <a:noFill/>
          </a:ln>
        </p:spPr>
      </p:pic>
      <p:pic>
        <p:nvPicPr>
          <p:cNvPr id="1485" name="8x2_Lightning.b.90" descr=""/>
          <p:cNvPicPr/>
          <p:nvPr/>
        </p:nvPicPr>
        <p:blipFill>
          <a:blip r:embed="rId4"/>
          <a:stretch/>
        </p:blipFill>
        <p:spPr>
          <a:xfrm>
            <a:off x="3505320" y="3124080"/>
            <a:ext cx="990360" cy="4648320"/>
          </a:xfrm>
          <a:prstGeom prst="rect">
            <a:avLst/>
          </a:prstGeom>
          <a:ln w="0">
            <a:noFill/>
          </a:ln>
        </p:spPr>
      </p:pic>
      <p:pic>
        <p:nvPicPr>
          <p:cNvPr id="1486" name="8x2_Lightning.b.180" descr=""/>
          <p:cNvPicPr/>
          <p:nvPr/>
        </p:nvPicPr>
        <p:blipFill>
          <a:blip r:embed="rId5"/>
          <a:stretch/>
        </p:blipFill>
        <p:spPr>
          <a:xfrm>
            <a:off x="2476440" y="8286840"/>
            <a:ext cx="4038840" cy="1143000"/>
          </a:xfrm>
          <a:prstGeom prst="rect">
            <a:avLst/>
          </a:prstGeom>
          <a:ln w="0">
            <a:noFill/>
          </a:ln>
        </p:spPr>
      </p:pic>
      <p:pic>
        <p:nvPicPr>
          <p:cNvPr id="1487" name="2x2_FireBowl.b.270" descr=""/>
          <p:cNvPicPr/>
          <p:nvPr/>
        </p:nvPicPr>
        <p:blipFill>
          <a:blip r:embed="rId6"/>
          <a:stretch/>
        </p:blipFill>
        <p:spPr>
          <a:xfrm>
            <a:off x="3505320" y="7162920"/>
            <a:ext cx="990360" cy="1066680"/>
          </a:xfrm>
          <a:prstGeom prst="rect">
            <a:avLst/>
          </a:prstGeom>
          <a:ln w="0">
            <a:noFill/>
          </a:ln>
        </p:spPr>
      </p:pic>
      <p:pic>
        <p:nvPicPr>
          <p:cNvPr id="1488" name="2x2_FireBowl.b.270" descr=""/>
          <p:cNvPicPr/>
          <p:nvPr/>
        </p:nvPicPr>
        <p:blipFill>
          <a:blip r:embed="rId7"/>
          <a:stretch/>
        </p:blipFill>
        <p:spPr>
          <a:xfrm>
            <a:off x="1523880" y="8305920"/>
            <a:ext cx="990720" cy="1066680"/>
          </a:xfrm>
          <a:prstGeom prst="rect">
            <a:avLst/>
          </a:prstGeom>
          <a:ln w="0">
            <a:noFill/>
          </a:ln>
        </p:spPr>
      </p:pic>
      <p:sp>
        <p:nvSpPr>
          <p:cNvPr id="1489" name=""/>
          <p:cNvSpPr/>
          <p:nvPr/>
        </p:nvSpPr>
        <p:spPr>
          <a:xfrm>
            <a:off x="1523880" y="9296280"/>
            <a:ext cx="50292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0" name="8x2_Couches.a.90" descr=""/>
          <p:cNvPicPr/>
          <p:nvPr/>
        </p:nvPicPr>
        <p:blipFill>
          <a:blip r:embed="rId8">
            <a:lum bright="-20000"/>
          </a:blip>
          <a:stretch/>
        </p:blipFill>
        <p:spPr>
          <a:xfrm>
            <a:off x="2495520" y="3733920"/>
            <a:ext cx="1009800" cy="4495680"/>
          </a:xfrm>
          <a:prstGeom prst="rect">
            <a:avLst/>
          </a:prstGeom>
          <a:ln w="0">
            <a:noFill/>
          </a:ln>
        </p:spPr>
      </p:pic>
      <p:pic>
        <p:nvPicPr>
          <p:cNvPr id="1491" name="8x2_Couches.a.90" descr=""/>
          <p:cNvPicPr/>
          <p:nvPr/>
        </p:nvPicPr>
        <p:blipFill>
          <a:blip r:embed="rId9">
            <a:lum bright="-20000"/>
          </a:blip>
          <a:stretch/>
        </p:blipFill>
        <p:spPr>
          <a:xfrm>
            <a:off x="4495680" y="3733920"/>
            <a:ext cx="1009800" cy="4495680"/>
          </a:xfrm>
          <a:prstGeom prst="rect">
            <a:avLst/>
          </a:prstGeom>
          <a:ln w="0">
            <a:noFill/>
          </a:ln>
        </p:spPr>
      </p:pic>
      <p:sp>
        <p:nvSpPr>
          <p:cNvPr id="1492" name=""/>
          <p:cNvSpPr/>
          <p:nvPr/>
        </p:nvSpPr>
        <p:spPr>
          <a:xfrm rot="21466800">
            <a:off x="1600200" y="8000640"/>
            <a:ext cx="836640" cy="2300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4x2_Stairs.a.0" descr=""/>
          <p:cNvPicPr/>
          <p:nvPr/>
        </p:nvPicPr>
        <p:blipFill>
          <a:blip r:embed="rId11"/>
          <a:stretch/>
        </p:blipFill>
        <p:spPr>
          <a:xfrm>
            <a:off x="457200" y="380880"/>
            <a:ext cx="2514600" cy="1067040"/>
          </a:xfrm>
          <a:prstGeom prst="rect">
            <a:avLst/>
          </a:prstGeom>
          <a:ln w="0">
            <a:noFill/>
          </a:ln>
        </p:spPr>
      </p:pic>
      <p:pic>
        <p:nvPicPr>
          <p:cNvPr id="1494" name="4x2_Stairs.a.0" descr=""/>
          <p:cNvPicPr/>
          <p:nvPr/>
        </p:nvPicPr>
        <p:blipFill>
          <a:blip r:embed="rId12"/>
          <a:stretch/>
        </p:blipFill>
        <p:spPr>
          <a:xfrm>
            <a:off x="2990880" y="380880"/>
            <a:ext cx="2514600" cy="1067040"/>
          </a:xfrm>
          <a:prstGeom prst="rect">
            <a:avLst/>
          </a:prstGeom>
          <a:ln w="0">
            <a:noFill/>
          </a:ln>
        </p:spPr>
      </p:pic>
      <p:pic>
        <p:nvPicPr>
          <p:cNvPr id="1495" name="4x2_Stairs.a.90" descr=""/>
          <p:cNvPicPr/>
          <p:nvPr/>
        </p:nvPicPr>
        <p:blipFill>
          <a:blip r:embed="rId13">
            <a:lum bright="-20000"/>
          </a:blip>
          <a:srcRect l="0" t="0" r="0" b="49926"/>
          <a:stretch/>
        </p:blipFill>
        <p:spPr>
          <a:xfrm>
            <a:off x="5562720" y="1447920"/>
            <a:ext cx="990360" cy="1144440"/>
          </a:xfrm>
          <a:prstGeom prst="rect">
            <a:avLst/>
          </a:prstGeom>
          <a:ln w="0">
            <a:noFill/>
          </a:ln>
        </p:spPr>
      </p:pic>
      <p:pic>
        <p:nvPicPr>
          <p:cNvPr id="1496" name="2x2_FireBowl.b.270" descr=""/>
          <p:cNvPicPr/>
          <p:nvPr/>
        </p:nvPicPr>
        <p:blipFill>
          <a:blip r:embed="rId14"/>
          <a:stretch/>
        </p:blipFill>
        <p:spPr>
          <a:xfrm>
            <a:off x="5505480" y="361800"/>
            <a:ext cx="990720" cy="106704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457200" y="304920"/>
            <a:ext cx="6019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00800" y="304920"/>
            <a:ext cx="15228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9" name="2x1_DoubleDoors.a.270" descr=""/>
          <p:cNvPicPr/>
          <p:nvPr/>
        </p:nvPicPr>
        <p:blipFill>
          <a:blip r:embed="rId15"/>
          <a:stretch/>
        </p:blipFill>
        <p:spPr>
          <a:xfrm>
            <a:off x="914400" y="8305920"/>
            <a:ext cx="609480" cy="990360"/>
          </a:xfrm>
          <a:prstGeom prst="rect">
            <a:avLst/>
          </a:prstGeom>
          <a:ln w="0">
            <a:noFill/>
          </a:ln>
        </p:spPr>
      </p:pic>
      <p:sp>
        <p:nvSpPr>
          <p:cNvPr id="1500" name=""/>
          <p:cNvSpPr/>
          <p:nvPr/>
        </p:nvSpPr>
        <p:spPr>
          <a:xfrm>
            <a:off x="3562200" y="3371760"/>
            <a:ext cx="895680" cy="133560"/>
          </a:xfrm>
          <a:custGeom>
            <a:avLst/>
            <a:gdLst>
              <a:gd name="textAreaLeft" fmla="*/ 0 w 895680"/>
              <a:gd name="textAreaRight" fmla="*/ 896040 w 895680"/>
              <a:gd name="textAreaTop" fmla="*/ 27360 h 133560"/>
              <a:gd name="textAreaBottom" fmla="*/ 106200 h 13356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57240" y="66600"/>
            <a:ext cx="7315200" cy="9435600"/>
            <a:chOff x="57240" y="66600"/>
            <a:chExt cx="7315200" cy="9435600"/>
          </a:xfrm>
        </p:grpSpPr>
        <p:sp>
          <p:nvSpPr>
            <p:cNvPr id="1502" name=""/>
            <p:cNvSpPr/>
            <p:nvPr/>
          </p:nvSpPr>
          <p:spPr>
            <a:xfrm>
              <a:off x="706752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724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076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5" name=""/>
            <p:cNvGrpSpPr/>
            <p:nvPr/>
          </p:nvGrpSpPr>
          <p:grpSpPr>
            <a:xfrm>
              <a:off x="438120" y="295200"/>
              <a:ext cx="6095880" cy="9153000"/>
              <a:chOff x="438120" y="295200"/>
              <a:chExt cx="6095880" cy="915300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4995720" y="299520"/>
                <a:ext cx="1524240" cy="9148680"/>
                <a:chOff x="4995720" y="299520"/>
                <a:chExt cx="1524240" cy="91486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601488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500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651996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49957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2967120" y="299520"/>
                <a:ext cx="1523880" cy="9148680"/>
                <a:chOff x="2967120" y="299520"/>
                <a:chExt cx="1523880" cy="914868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398592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34718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44910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29671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6" name=""/>
              <p:cNvGrpSpPr/>
              <p:nvPr/>
            </p:nvGrpSpPr>
            <p:grpSpPr>
              <a:xfrm>
                <a:off x="957240" y="295200"/>
                <a:ext cx="1523880" cy="9147960"/>
                <a:chOff x="957240" y="295200"/>
                <a:chExt cx="1523880" cy="9147960"/>
              </a:xfrm>
            </p:grpSpPr>
            <p:sp>
              <p:nvSpPr>
                <p:cNvPr id="1517" name=""/>
                <p:cNvSpPr/>
                <p:nvPr/>
              </p:nvSpPr>
              <p:spPr>
                <a:xfrm>
                  <a:off x="197604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146196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24811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9572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1" name=""/>
              <p:cNvSpPr/>
              <p:nvPr/>
            </p:nvSpPr>
            <p:spPr>
              <a:xfrm>
                <a:off x="43812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3812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3812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3812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3812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3812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3812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3812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3812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3812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3812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3812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3812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3812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3812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3812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3812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3812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457200" y="304920"/>
            <a:ext cx="6100920" cy="914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4x2_Stairs.a.90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3505320" y="18288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541" name="2x1_SingleDoor.b.90" descr=""/>
          <p:cNvPicPr/>
          <p:nvPr/>
        </p:nvPicPr>
        <p:blipFill>
          <a:blip r:embed="rId3">
            <a:lum bright="-44000"/>
          </a:blip>
          <a:stretch/>
        </p:blipFill>
        <p:spPr>
          <a:xfrm>
            <a:off x="1981080" y="6400800"/>
            <a:ext cx="762120" cy="1523880"/>
          </a:xfrm>
          <a:prstGeom prst="rect">
            <a:avLst/>
          </a:prstGeom>
          <a:ln w="0">
            <a:noFill/>
          </a:ln>
        </p:spPr>
      </p:pic>
      <p:pic>
        <p:nvPicPr>
          <p:cNvPr id="1542" name="2x2_Ground.b.270" descr=""/>
          <p:cNvPicPr/>
          <p:nvPr/>
        </p:nvPicPr>
        <p:blipFill>
          <a:blip r:embed="rId4"/>
          <a:stretch/>
        </p:blipFill>
        <p:spPr>
          <a:xfrm>
            <a:off x="1986120" y="3049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>
            <a:off x="5029200" y="304920"/>
            <a:ext cx="762120" cy="7619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791320" y="304920"/>
            <a:ext cx="761760" cy="914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5" name="2x1_SingleDoor.b.90" descr=""/>
          <p:cNvPicPr/>
          <p:nvPr/>
        </p:nvPicPr>
        <p:blipFill>
          <a:blip r:embed="rId5"/>
          <a:stretch/>
        </p:blipFill>
        <p:spPr>
          <a:xfrm>
            <a:off x="500040" y="399960"/>
            <a:ext cx="723960" cy="1447920"/>
          </a:xfrm>
          <a:prstGeom prst="rect">
            <a:avLst/>
          </a:prstGeom>
          <a:ln w="0">
            <a:noFill/>
          </a:ln>
        </p:spPr>
      </p:pic>
      <p:sp>
        <p:nvSpPr>
          <p:cNvPr id="1546" name=""/>
          <p:cNvSpPr/>
          <p:nvPr/>
        </p:nvSpPr>
        <p:spPr>
          <a:xfrm>
            <a:off x="461880" y="343080"/>
            <a:ext cx="147600" cy="910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61880" y="304920"/>
            <a:ext cx="53294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2x1_DoubleDoors.a.270" descr=""/>
          <p:cNvPicPr/>
          <p:nvPr/>
        </p:nvPicPr>
        <p:blipFill>
          <a:blip r:embed="rId6"/>
          <a:stretch/>
        </p:blipFill>
        <p:spPr>
          <a:xfrm>
            <a:off x="5029200" y="7924680"/>
            <a:ext cx="762120" cy="1524240"/>
          </a:xfrm>
          <a:prstGeom prst="rect">
            <a:avLst/>
          </a:prstGeom>
          <a:ln w="0">
            <a:noFill/>
          </a:ln>
        </p:spPr>
      </p:pic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819160" y="9524880"/>
            <a:ext cx="1447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5 [8.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57200" y="9354960"/>
            <a:ext cx="5334120" cy="74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2x2_FireBowl.b.270" descr=""/>
          <p:cNvPicPr/>
          <p:nvPr/>
        </p:nvPicPr>
        <p:blipFill>
          <a:blip r:embed="rId7">
            <a:lum bright="-34000"/>
          </a:blip>
          <a:stretch/>
        </p:blipFill>
        <p:spPr>
          <a:xfrm>
            <a:off x="1981080" y="1828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552" name="2x2_FireBowl.b.270" descr=""/>
          <p:cNvPicPr/>
          <p:nvPr/>
        </p:nvPicPr>
        <p:blipFill>
          <a:blip r:embed="rId8">
            <a:lum bright="-34000"/>
          </a:blip>
          <a:stretch/>
        </p:blipFill>
        <p:spPr>
          <a:xfrm>
            <a:off x="3505320" y="4114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553" name="3x3_Flor" descr=""/>
          <p:cNvPicPr/>
          <p:nvPr/>
        </p:nvPicPr>
        <p:blipFill>
          <a:blip r:embed="rId9">
            <a:lum bright="-34000"/>
          </a:blip>
          <a:stretch/>
        </p:blipFill>
        <p:spPr>
          <a:xfrm>
            <a:off x="2743200" y="5638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554" name="1x1_Statue.b.0" descr=""/>
          <p:cNvPicPr/>
          <p:nvPr/>
        </p:nvPicPr>
        <p:blipFill>
          <a:blip r:embed="rId10">
            <a:lum bright="-38000"/>
          </a:blip>
          <a:stretch/>
        </p:blipFill>
        <p:spPr>
          <a:xfrm>
            <a:off x="2743200" y="33526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555" name="2x2_Obelisk.a.0" descr=""/>
          <p:cNvPicPr/>
          <p:nvPr/>
        </p:nvPicPr>
        <p:blipFill>
          <a:blip r:embed="rId11"/>
          <a:srcRect l="13349" t="13349" r="9982" b="13349"/>
          <a:stretch/>
        </p:blipFill>
        <p:spPr>
          <a:xfrm>
            <a:off x="1143000" y="403848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1556" name=""/>
          <p:cNvSpPr/>
          <p:nvPr/>
        </p:nvSpPr>
        <p:spPr>
          <a:xfrm rot="260400">
            <a:off x="1523880" y="4152960"/>
            <a:ext cx="916200" cy="1447920"/>
          </a:xfrm>
          <a:custGeom>
            <a:avLst/>
            <a:gdLst>
              <a:gd name="textAreaLeft" fmla="*/ 44640 w 916200"/>
              <a:gd name="textAreaRight" fmla="*/ 871560 w 916200"/>
              <a:gd name="textAreaTop" fmla="*/ 44640 h 1447920"/>
              <a:gd name="textAreaBottom" fmla="*/ 1403280 h 1447920"/>
            </a:gdLst>
            <a:ahLst/>
            <a:rect l="textAreaLeft" t="textAreaTop" r="textAreaRight" b="textAreaBottom"/>
            <a:pathLst>
              <a:path w="21600" h="34131">
                <a:moveTo>
                  <a:pt x="3600" y="0"/>
                </a:moveTo>
                <a:arcTo wR="3600" hR="3600" stAng="16200000" swAng="-5400000"/>
                <a:lnTo>
                  <a:pt x="0" y="30531"/>
                </a:lnTo>
                <a:arcTo wR="3600" hR="3600" stAng="10800000" swAng="-5400000"/>
                <a:lnTo>
                  <a:pt x="18000" y="341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2x1_DoubleDoors.a.270" descr=""/>
          <p:cNvPicPr/>
          <p:nvPr/>
        </p:nvPicPr>
        <p:blipFill>
          <a:blip r:embed="rId13">
            <a:lum bright="-24000"/>
          </a:blip>
          <a:stretch/>
        </p:blipFill>
        <p:spPr>
          <a:xfrm>
            <a:off x="5029200" y="5638680"/>
            <a:ext cx="76212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58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1559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1560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457200" y="7162920"/>
            <a:ext cx="6095880" cy="2286000"/>
          </a:xfrm>
          <a:prstGeom prst="rect">
            <a:avLst/>
          </a:prstGeom>
          <a:gradFill rotWithShape="0">
            <a:gsLst>
              <a:gs pos="0">
                <a:srgbClr val="504e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57200" y="3695760"/>
            <a:ext cx="6095880" cy="5753160"/>
          </a:xfrm>
          <a:custGeom>
            <a:avLst/>
            <a:gdLst/>
            <a:ahLst/>
            <a:rect l="l" t="t" r="r" b="b"/>
            <a:pathLst>
              <a:path w="3840" h="3624">
                <a:moveTo>
                  <a:pt x="0" y="0"/>
                </a:moveTo>
                <a:lnTo>
                  <a:pt x="3840" y="0"/>
                </a:lnTo>
                <a:lnTo>
                  <a:pt x="3816" y="3288"/>
                </a:lnTo>
                <a:lnTo>
                  <a:pt x="3348" y="2988"/>
                </a:lnTo>
                <a:lnTo>
                  <a:pt x="2508" y="2904"/>
                </a:lnTo>
                <a:lnTo>
                  <a:pt x="1632" y="2772"/>
                </a:lnTo>
                <a:lnTo>
                  <a:pt x="996" y="2904"/>
                </a:lnTo>
                <a:lnTo>
                  <a:pt x="612" y="3276"/>
                </a:lnTo>
                <a:lnTo>
                  <a:pt x="24" y="362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57200" y="304920"/>
            <a:ext cx="4648320" cy="4800600"/>
          </a:xfrm>
          <a:custGeom>
            <a:avLst/>
            <a:gdLst/>
            <a:ahLst/>
            <a:rect l="l" t="t" r="r" b="b"/>
            <a:pathLst>
              <a:path w="2880" h="3024">
                <a:moveTo>
                  <a:pt x="0" y="0"/>
                </a:moveTo>
                <a:lnTo>
                  <a:pt x="2880" y="0"/>
                </a:lnTo>
                <a:lnTo>
                  <a:pt x="2880" y="2496"/>
                </a:lnTo>
                <a:lnTo>
                  <a:pt x="2364" y="2892"/>
                </a:lnTo>
                <a:lnTo>
                  <a:pt x="2016" y="3024"/>
                </a:lnTo>
                <a:lnTo>
                  <a:pt x="1728" y="2976"/>
                </a:lnTo>
                <a:lnTo>
                  <a:pt x="1440" y="3024"/>
                </a:lnTo>
                <a:lnTo>
                  <a:pt x="1248" y="2832"/>
                </a:lnTo>
                <a:lnTo>
                  <a:pt x="12" y="289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04920" y="940608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6 [9.1]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3352680" y="2685960"/>
            <a:ext cx="1333440" cy="1066680"/>
            <a:chOff x="3352680" y="2685960"/>
            <a:chExt cx="1333440" cy="1066680"/>
          </a:xfrm>
        </p:grpSpPr>
        <p:sp>
          <p:nvSpPr>
            <p:cNvPr id="1590" name=""/>
            <p:cNvSpPr/>
            <p:nvPr/>
          </p:nvSpPr>
          <p:spPr>
            <a:xfrm>
              <a:off x="3419280" y="2734200"/>
              <a:ext cx="1266840" cy="101844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96" y="144"/>
                  </a:moveTo>
                  <a:lnTo>
                    <a:pt x="288" y="0"/>
                  </a:lnTo>
                  <a:lnTo>
                    <a:pt x="816" y="48"/>
                  </a:lnTo>
                  <a:lnTo>
                    <a:pt x="912" y="528"/>
                  </a:lnTo>
                  <a:lnTo>
                    <a:pt x="768" y="912"/>
                  </a:lnTo>
                  <a:lnTo>
                    <a:pt x="432" y="1008"/>
                  </a:lnTo>
                  <a:lnTo>
                    <a:pt x="144" y="960"/>
                  </a:lnTo>
                  <a:lnTo>
                    <a:pt x="0" y="576"/>
                  </a:lnTo>
                  <a:lnTo>
                    <a:pt x="96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352680" y="2685960"/>
              <a:ext cx="1267200" cy="101844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96" y="144"/>
                  </a:moveTo>
                  <a:lnTo>
                    <a:pt x="288" y="0"/>
                  </a:lnTo>
                  <a:lnTo>
                    <a:pt x="816" y="48"/>
                  </a:lnTo>
                  <a:lnTo>
                    <a:pt x="912" y="528"/>
                  </a:lnTo>
                  <a:lnTo>
                    <a:pt x="768" y="912"/>
                  </a:lnTo>
                  <a:lnTo>
                    <a:pt x="432" y="1008"/>
                  </a:lnTo>
                  <a:lnTo>
                    <a:pt x="144" y="960"/>
                  </a:lnTo>
                  <a:lnTo>
                    <a:pt x="0" y="576"/>
                  </a:lnTo>
                  <a:lnTo>
                    <a:pt x="96" y="14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4876920" y="324000"/>
            <a:ext cx="1676160" cy="4400280"/>
          </a:xfrm>
          <a:custGeom>
            <a:avLst/>
            <a:gdLst/>
            <a:ahLst/>
            <a:rect l="l" t="t" r="r" b="b"/>
            <a:pathLst>
              <a:path w="1116" h="2772">
                <a:moveTo>
                  <a:pt x="780" y="1032"/>
                </a:moveTo>
                <a:lnTo>
                  <a:pt x="864" y="732"/>
                </a:lnTo>
                <a:lnTo>
                  <a:pt x="948" y="696"/>
                </a:lnTo>
                <a:lnTo>
                  <a:pt x="1116" y="696"/>
                </a:lnTo>
                <a:lnTo>
                  <a:pt x="1092" y="0"/>
                </a:lnTo>
                <a:lnTo>
                  <a:pt x="132" y="0"/>
                </a:lnTo>
                <a:lnTo>
                  <a:pt x="108" y="360"/>
                </a:lnTo>
                <a:lnTo>
                  <a:pt x="120" y="672"/>
                </a:lnTo>
                <a:lnTo>
                  <a:pt x="0" y="1392"/>
                </a:lnTo>
                <a:lnTo>
                  <a:pt x="120" y="1764"/>
                </a:lnTo>
                <a:lnTo>
                  <a:pt x="36" y="1848"/>
                </a:lnTo>
                <a:lnTo>
                  <a:pt x="72" y="2316"/>
                </a:lnTo>
                <a:lnTo>
                  <a:pt x="180" y="2508"/>
                </a:lnTo>
                <a:lnTo>
                  <a:pt x="408" y="2772"/>
                </a:lnTo>
                <a:lnTo>
                  <a:pt x="240" y="2208"/>
                </a:lnTo>
                <a:lnTo>
                  <a:pt x="492" y="2124"/>
                </a:lnTo>
                <a:lnTo>
                  <a:pt x="528" y="1116"/>
                </a:lnTo>
                <a:lnTo>
                  <a:pt x="780" y="1032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38120" y="1504800"/>
            <a:ext cx="1009800" cy="7353360"/>
          </a:xfrm>
          <a:custGeom>
            <a:avLst/>
            <a:gdLst/>
            <a:ahLst/>
            <a:rect l="l" t="t" r="r" b="b"/>
            <a:pathLst>
              <a:path w="636" h="4632">
                <a:moveTo>
                  <a:pt x="0" y="4632"/>
                </a:moveTo>
                <a:lnTo>
                  <a:pt x="132" y="4260"/>
                </a:lnTo>
                <a:lnTo>
                  <a:pt x="336" y="3924"/>
                </a:lnTo>
                <a:lnTo>
                  <a:pt x="636" y="3156"/>
                </a:lnTo>
                <a:lnTo>
                  <a:pt x="600" y="2868"/>
                </a:lnTo>
                <a:lnTo>
                  <a:pt x="336" y="2076"/>
                </a:lnTo>
                <a:lnTo>
                  <a:pt x="624" y="1740"/>
                </a:lnTo>
                <a:lnTo>
                  <a:pt x="588" y="1524"/>
                </a:lnTo>
                <a:lnTo>
                  <a:pt x="420" y="1320"/>
                </a:lnTo>
                <a:lnTo>
                  <a:pt x="456" y="1020"/>
                </a:lnTo>
                <a:lnTo>
                  <a:pt x="384" y="720"/>
                </a:lnTo>
                <a:lnTo>
                  <a:pt x="288" y="144"/>
                </a:lnTo>
                <a:lnTo>
                  <a:pt x="36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086440" y="819000"/>
            <a:ext cx="1447560" cy="7581960"/>
          </a:xfrm>
          <a:custGeom>
            <a:avLst/>
            <a:gdLst/>
            <a:ahLst/>
            <a:rect l="l" t="t" r="r" b="b"/>
            <a:pathLst>
              <a:path w="912" h="4776">
                <a:moveTo>
                  <a:pt x="912" y="0"/>
                </a:moveTo>
                <a:lnTo>
                  <a:pt x="588" y="60"/>
                </a:lnTo>
                <a:lnTo>
                  <a:pt x="492" y="300"/>
                </a:lnTo>
                <a:lnTo>
                  <a:pt x="276" y="504"/>
                </a:lnTo>
                <a:lnTo>
                  <a:pt x="252" y="1404"/>
                </a:lnTo>
                <a:lnTo>
                  <a:pt x="48" y="1668"/>
                </a:lnTo>
                <a:lnTo>
                  <a:pt x="0" y="2088"/>
                </a:lnTo>
                <a:lnTo>
                  <a:pt x="600" y="3144"/>
                </a:lnTo>
                <a:lnTo>
                  <a:pt x="636" y="3684"/>
                </a:lnTo>
                <a:lnTo>
                  <a:pt x="852" y="4020"/>
                </a:lnTo>
                <a:lnTo>
                  <a:pt x="768" y="4320"/>
                </a:lnTo>
                <a:lnTo>
                  <a:pt x="900" y="4776"/>
                </a:lnTo>
                <a:lnTo>
                  <a:pt x="912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886200" y="304920"/>
            <a:ext cx="1295280" cy="1218960"/>
          </a:xfrm>
          <a:prstGeom prst="cloudCallout">
            <a:avLst>
              <a:gd name="adj1" fmla="val 2819"/>
              <a:gd name="adj2" fmla="val -26041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447920" y="304920"/>
            <a:ext cx="1066680" cy="609480"/>
          </a:xfrm>
          <a:prstGeom prst="cloudCallout">
            <a:avLst>
              <a:gd name="adj1" fmla="val 21277"/>
              <a:gd name="adj2" fmla="val 22916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91120" y="609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676520" y="533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495680" y="914400"/>
            <a:ext cx="609840" cy="990720"/>
          </a:xfrm>
          <a:prstGeom prst="cloudCallout">
            <a:avLst>
              <a:gd name="adj1" fmla="val -12759"/>
              <a:gd name="adj2" fmla="val 33333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724280" y="1447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1602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1606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1607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6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1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9" name=""/>
          <p:cNvGrpSpPr/>
          <p:nvPr/>
        </p:nvGrpSpPr>
        <p:grpSpPr>
          <a:xfrm>
            <a:off x="762120" y="8686800"/>
            <a:ext cx="1143000" cy="554400"/>
            <a:chOff x="762120" y="8686800"/>
            <a:chExt cx="1143000" cy="554400"/>
          </a:xfrm>
        </p:grpSpPr>
        <p:sp>
          <p:nvSpPr>
            <p:cNvPr id="1640" name=""/>
            <p:cNvSpPr/>
            <p:nvPr/>
          </p:nvSpPr>
          <p:spPr>
            <a:xfrm>
              <a:off x="762120" y="8686800"/>
              <a:ext cx="1143000" cy="5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下生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38440" y="8705880"/>
              <a:ext cx="22860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38440" y="8991720"/>
              <a:ext cx="228600" cy="228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743200" y="9600840"/>
            <a:ext cx="1447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汎用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52520" y="304920"/>
            <a:ext cx="6100560" cy="914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-171360" y="28440"/>
            <a:ext cx="7467480" cy="10131480"/>
            <a:chOff x="-171360" y="28440"/>
            <a:chExt cx="7467480" cy="10131480"/>
          </a:xfrm>
        </p:grpSpPr>
        <p:grpSp>
          <p:nvGrpSpPr>
            <p:cNvPr id="1646" name=""/>
            <p:cNvGrpSpPr/>
            <p:nvPr/>
          </p:nvGrpSpPr>
          <p:grpSpPr>
            <a:xfrm>
              <a:off x="433440" y="285480"/>
              <a:ext cx="6176880" cy="9134640"/>
              <a:chOff x="433440" y="285480"/>
              <a:chExt cx="6176880" cy="9134640"/>
            </a:xfrm>
          </p:grpSpPr>
          <p:sp>
            <p:nvSpPr>
              <p:cNvPr id="1647" name=""/>
              <p:cNvSpPr/>
              <p:nvPr/>
            </p:nvSpPr>
            <p:spPr>
              <a:xfrm>
                <a:off x="439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201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963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725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487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249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011560" y="2854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77368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535800" y="2854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>
                <a:off x="433440" y="2980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>
                <a:off x="433440" y="10602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>
                <a:off x="433440" y="18223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433440" y="25840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433440" y="33462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433440" y="41083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>
                <a:off x="433440" y="48718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>
                <a:off x="433440" y="56336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433440" y="63957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H="1">
                <a:off x="433440" y="71578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433440" y="79196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>
                <a:off x="433440" y="86832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>
                <a:off x="433440" y="94136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9" name=""/>
            <p:cNvSpPr/>
            <p:nvPr/>
          </p:nvSpPr>
          <p:spPr>
            <a:xfrm>
              <a:off x="819000" y="619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-171360" y="284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067520" y="5950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304920" y="944892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汎用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B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7200" y="304920"/>
            <a:ext cx="6095880" cy="9144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76320" y="76320"/>
            <a:ext cx="7315200" cy="9435600"/>
            <a:chOff x="76320" y="76320"/>
            <a:chExt cx="7315200" cy="9435600"/>
          </a:xfrm>
        </p:grpSpPr>
        <p:sp>
          <p:nvSpPr>
            <p:cNvPr id="1675" name=""/>
            <p:cNvSpPr/>
            <p:nvPr/>
          </p:nvSpPr>
          <p:spPr>
            <a:xfrm>
              <a:off x="7086600" y="22860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320" y="45720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9840" y="7632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8" name=""/>
            <p:cNvGrpSpPr/>
            <p:nvPr/>
          </p:nvGrpSpPr>
          <p:grpSpPr>
            <a:xfrm>
              <a:off x="457200" y="304920"/>
              <a:ext cx="6095880" cy="9153000"/>
              <a:chOff x="457200" y="304920"/>
              <a:chExt cx="6095880" cy="9153000"/>
            </a:xfrm>
          </p:grpSpPr>
          <p:grpSp>
            <p:nvGrpSpPr>
              <p:cNvPr id="1679" name=""/>
              <p:cNvGrpSpPr/>
              <p:nvPr/>
            </p:nvGrpSpPr>
            <p:grpSpPr>
              <a:xfrm>
                <a:off x="5014800" y="309240"/>
                <a:ext cx="1524240" cy="9148680"/>
                <a:chOff x="5014800" y="309240"/>
                <a:chExt cx="1524240" cy="9148680"/>
              </a:xfrm>
            </p:grpSpPr>
            <p:sp>
              <p:nvSpPr>
                <p:cNvPr id="1680" name=""/>
                <p:cNvSpPr/>
                <p:nvPr/>
              </p:nvSpPr>
              <p:spPr>
                <a:xfrm>
                  <a:off x="6033960" y="3139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51988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653904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501480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4" name=""/>
              <p:cNvGrpSpPr/>
              <p:nvPr/>
            </p:nvGrpSpPr>
            <p:grpSpPr>
              <a:xfrm>
                <a:off x="2986200" y="309240"/>
                <a:ext cx="1523880" cy="9148680"/>
                <a:chOff x="2986200" y="309240"/>
                <a:chExt cx="1523880" cy="914868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4005000" y="3139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349092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451008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2986200" y="30924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9" name=""/>
              <p:cNvGrpSpPr/>
              <p:nvPr/>
            </p:nvGrpSpPr>
            <p:grpSpPr>
              <a:xfrm>
                <a:off x="976320" y="304920"/>
                <a:ext cx="1523880" cy="9147960"/>
                <a:chOff x="976320" y="304920"/>
                <a:chExt cx="1523880" cy="9147960"/>
              </a:xfrm>
            </p:grpSpPr>
            <p:sp>
              <p:nvSpPr>
                <p:cNvPr id="1690" name=""/>
                <p:cNvSpPr/>
                <p:nvPr/>
              </p:nvSpPr>
              <p:spPr>
                <a:xfrm>
                  <a:off x="1995120" y="30924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1481040" y="3049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2500200" y="3049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976320" y="3049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457200" y="30924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57200" y="9453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7200" y="7729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57200" y="8296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57200" y="8877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57200" y="7167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57200" y="5443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57200" y="6010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57200" y="6591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57200" y="4881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57200" y="3157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7200" y="3724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57200" y="4305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57200" y="2595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57200" y="871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57200" y="143820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57200" y="2019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7200" y="30924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2" name=""/>
          <p:cNvGrpSpPr/>
          <p:nvPr/>
        </p:nvGrpSpPr>
        <p:grpSpPr>
          <a:xfrm>
            <a:off x="1066680" y="838080"/>
            <a:ext cx="2800440" cy="1752840"/>
            <a:chOff x="1066680" y="838080"/>
            <a:chExt cx="2800440" cy="1752840"/>
          </a:xfrm>
        </p:grpSpPr>
        <p:sp>
          <p:nvSpPr>
            <p:cNvPr id="1713" name=""/>
            <p:cNvSpPr/>
            <p:nvPr/>
          </p:nvSpPr>
          <p:spPr>
            <a:xfrm>
              <a:off x="1066680" y="838080"/>
              <a:ext cx="2800440" cy="175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114640" y="2057400"/>
              <a:ext cx="3045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190600" y="19051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124000" y="1857240"/>
              <a:ext cx="281160" cy="74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733400" y="1905120"/>
              <a:ext cx="15264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504800" y="1905120"/>
              <a:ext cx="22860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33360" y="1814400"/>
              <a:ext cx="4572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3333cc"/>
                  </a:solidFill>
                  <a:latin typeface="ＭＳ ゴシック"/>
                  <a:ea typeface="ＭＳ ゴシック"/>
                </a:rPr>
                <a:t>階段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6520" y="1228680"/>
              <a:ext cx="4572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ff9900"/>
                  </a:solidFill>
                  <a:latin typeface="ＭＳ ゴシック"/>
                  <a:ea typeface="ＭＳ ゴシック"/>
                </a:rPr>
                <a:t>[5.1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66680" y="8380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廃神殿垂直構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の模式図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733400" y="2362320"/>
              <a:ext cx="9907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419200" y="1295280"/>
              <a:ext cx="6098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733400" y="2209680"/>
              <a:ext cx="15264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571840" y="2209680"/>
              <a:ext cx="152280" cy="152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876400" y="1447920"/>
              <a:ext cx="152640" cy="761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209600" y="14479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343240" y="91440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240">
                  <a:moveTo>
                    <a:pt x="48" y="240"/>
                  </a:moveTo>
                  <a:lnTo>
                    <a:pt x="0" y="192"/>
                  </a:lnTo>
                  <a:lnTo>
                    <a:pt x="96" y="96"/>
                  </a:lnTo>
                  <a:lnTo>
                    <a:pt x="354" y="1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038320" y="1752480"/>
              <a:ext cx="380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733400" y="1752480"/>
              <a:ext cx="3812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114640" y="1828800"/>
              <a:ext cx="6858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800440" y="1752480"/>
              <a:ext cx="3045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876400" y="2057400"/>
              <a:ext cx="152640" cy="152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886040" y="2362320"/>
              <a:ext cx="609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419200" y="22860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419200" y="2390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029040" y="1523880"/>
              <a:ext cx="7596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29040" y="1523880"/>
              <a:ext cx="4572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3333cc"/>
                  </a:solidFill>
                  <a:latin typeface="ＭＳ ゴシック"/>
                  <a:ea typeface="ＭＳ ゴシック"/>
                </a:rPr>
                <a:t>縦穴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733400" y="2133720"/>
              <a:ext cx="129564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733400" y="2057400"/>
              <a:ext cx="3049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119400" y="1905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105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738520" y="251460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952720" y="2390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886040" y="1447920"/>
              <a:ext cx="45720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733400" y="1262160"/>
              <a:ext cx="137160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623960" y="1719360"/>
              <a:ext cx="53352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552680" y="2009880"/>
              <a:ext cx="533160" cy="237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038320" y="1676520"/>
              <a:ext cx="609480" cy="237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376360" y="2257560"/>
              <a:ext cx="576360" cy="304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09720" y="2286000"/>
              <a:ext cx="657360" cy="276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343240" y="1676520"/>
              <a:ext cx="4572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ff9900"/>
                  </a:solidFill>
                  <a:latin typeface="ＭＳ ゴシック"/>
                  <a:ea typeface="ＭＳ ゴシック"/>
                </a:rPr>
                <a:t>[6.3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657440" y="1730520"/>
              <a:ext cx="4572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ff9900"/>
                  </a:solidFill>
                  <a:latin typeface="ＭＳ ゴシック"/>
                  <a:ea typeface="ＭＳ ゴシック"/>
                </a:rPr>
                <a:t>[6.6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657440" y="2035080"/>
              <a:ext cx="4572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ff9900"/>
                  </a:solidFill>
                  <a:latin typeface="ＭＳ ゴシック"/>
                  <a:ea typeface="ＭＳ ゴシック"/>
                </a:rPr>
                <a:t>[7.3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828800" y="2362320"/>
              <a:ext cx="4572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ff9900"/>
                  </a:solidFill>
                  <a:latin typeface="ＭＳ ゴシック"/>
                  <a:ea typeface="ＭＳ ゴシック"/>
                </a:rPr>
                <a:t>[8.1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647800" y="2297160"/>
              <a:ext cx="4572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ff9900"/>
                  </a:solidFill>
                  <a:latin typeface="ＭＳ ゴシック"/>
                  <a:ea typeface="ＭＳ ゴシック"/>
                </a:rPr>
                <a:t>[8.2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114640" y="2009880"/>
              <a:ext cx="609480" cy="237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419200" y="1981080"/>
              <a:ext cx="45720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ff9900"/>
                  </a:solidFill>
                  <a:latin typeface="ＭＳ ゴシック"/>
                  <a:ea typeface="ＭＳ ゴシック"/>
                </a:rPr>
                <a:t>[7.2]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657440" y="1600200"/>
              <a:ext cx="533160" cy="3808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219320" y="1523880"/>
              <a:ext cx="6094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3333cc"/>
                  </a:solidFill>
                  <a:latin typeface="ＭＳ ゴシック"/>
                  <a:ea typeface="ＭＳ ゴシック"/>
                </a:rPr>
                <a:t>洗浄機構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286080" y="1447920"/>
              <a:ext cx="0" cy="7617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333600" y="1509840"/>
              <a:ext cx="457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3333cc"/>
                  </a:solidFill>
                  <a:latin typeface="ＭＳ ゴシック"/>
                  <a:ea typeface="ＭＳ ゴシック"/>
                </a:rPr>
                <a:t>50f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105000" y="20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348000" y="1447920"/>
              <a:ext cx="0" cy="609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409920" y="1447920"/>
              <a:ext cx="0" cy="4572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90760" y="1868400"/>
              <a:ext cx="457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3333cc"/>
                  </a:solidFill>
                  <a:latin typeface="ＭＳ ゴシック"/>
                  <a:ea typeface="ＭＳ ゴシック"/>
                </a:rPr>
                <a:t>70f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228840" y="2016000"/>
              <a:ext cx="457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3333cc"/>
                  </a:solidFill>
                  <a:latin typeface="ＭＳ ゴシック"/>
                  <a:ea typeface="ＭＳ ゴシック"/>
                </a:rPr>
                <a:t>80f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976480" y="2209680"/>
              <a:ext cx="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024360" y="2219400"/>
              <a:ext cx="0" cy="152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029040" y="2209680"/>
              <a:ext cx="457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3333cc"/>
                  </a:solidFill>
                  <a:latin typeface="ＭＳ ゴシック"/>
                  <a:ea typeface="ＭＳ ゴシック"/>
                </a:rPr>
                <a:t>20f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957400" y="2357280"/>
              <a:ext cx="4572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3333cc"/>
                  </a:solidFill>
                  <a:latin typeface="ＭＳ ゴシック"/>
                  <a:ea typeface="ＭＳ ゴシック"/>
                </a:rPr>
                <a:t>30f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952720" y="2111400"/>
              <a:ext cx="380880" cy="1746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257640" y="2209680"/>
              <a:ext cx="55224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3333cc"/>
                  </a:solidFill>
                  <a:latin typeface="ＭＳ ゴシック"/>
                  <a:ea typeface="ＭＳ ゴシック"/>
                </a:rPr>
                <a:t>縦穴の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" spc="-1" strike="noStrike">
                  <a:solidFill>
                    <a:srgbClr val="3333cc"/>
                  </a:solidFill>
                  <a:latin typeface="ＭＳ ゴシック"/>
                  <a:ea typeface="ＭＳ ゴシック"/>
                </a:rPr>
                <a:t>水溜まり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55680" y="1647720"/>
            <a:ext cx="5419800" cy="7940880"/>
          </a:xfrm>
          <a:custGeom>
            <a:avLst/>
            <a:gdLst/>
            <a:ahLst/>
            <a:rect l="l" t="t" r="r" b="b"/>
            <a:pathLst>
              <a:path w="3414" h="5002">
                <a:moveTo>
                  <a:pt x="836" y="45"/>
                </a:moveTo>
                <a:cubicBezTo>
                  <a:pt x="873" y="160"/>
                  <a:pt x="1020" y="583"/>
                  <a:pt x="1057" y="732"/>
                </a:cubicBezTo>
                <a:cubicBezTo>
                  <a:pt x="1094" y="881"/>
                  <a:pt x="1064" y="907"/>
                  <a:pt x="1057" y="942"/>
                </a:cubicBezTo>
                <a:cubicBezTo>
                  <a:pt x="1050" y="977"/>
                  <a:pt x="1099" y="952"/>
                  <a:pt x="1015" y="942"/>
                </a:cubicBezTo>
                <a:cubicBezTo>
                  <a:pt x="931" y="932"/>
                  <a:pt x="710" y="879"/>
                  <a:pt x="553" y="882"/>
                </a:cubicBezTo>
                <a:cubicBezTo>
                  <a:pt x="396" y="885"/>
                  <a:pt x="146" y="943"/>
                  <a:pt x="73" y="960"/>
                </a:cubicBezTo>
                <a:cubicBezTo>
                  <a:pt x="0" y="977"/>
                  <a:pt x="32" y="991"/>
                  <a:pt x="115" y="984"/>
                </a:cubicBezTo>
                <a:cubicBezTo>
                  <a:pt x="198" y="977"/>
                  <a:pt x="414" y="914"/>
                  <a:pt x="571" y="918"/>
                </a:cubicBezTo>
                <a:cubicBezTo>
                  <a:pt x="728" y="922"/>
                  <a:pt x="975" y="925"/>
                  <a:pt x="1057" y="1008"/>
                </a:cubicBezTo>
                <a:cubicBezTo>
                  <a:pt x="1139" y="1091"/>
                  <a:pt x="1063" y="1239"/>
                  <a:pt x="1065" y="1417"/>
                </a:cubicBezTo>
                <a:cubicBezTo>
                  <a:pt x="1067" y="1595"/>
                  <a:pt x="1131" y="1824"/>
                  <a:pt x="1067" y="2079"/>
                </a:cubicBezTo>
                <a:cubicBezTo>
                  <a:pt x="1003" y="2334"/>
                  <a:pt x="731" y="2734"/>
                  <a:pt x="683" y="2947"/>
                </a:cubicBezTo>
                <a:cubicBezTo>
                  <a:pt x="635" y="3160"/>
                  <a:pt x="804" y="3249"/>
                  <a:pt x="781" y="3360"/>
                </a:cubicBezTo>
                <a:cubicBezTo>
                  <a:pt x="758" y="3471"/>
                  <a:pt x="572" y="3500"/>
                  <a:pt x="547" y="3612"/>
                </a:cubicBezTo>
                <a:cubicBezTo>
                  <a:pt x="522" y="3724"/>
                  <a:pt x="694" y="3822"/>
                  <a:pt x="631" y="4032"/>
                </a:cubicBezTo>
                <a:cubicBezTo>
                  <a:pt x="568" y="4242"/>
                  <a:pt x="235" y="4744"/>
                  <a:pt x="169" y="4873"/>
                </a:cubicBezTo>
                <a:cubicBezTo>
                  <a:pt x="103" y="5002"/>
                  <a:pt x="148" y="4956"/>
                  <a:pt x="233" y="4809"/>
                </a:cubicBezTo>
                <a:cubicBezTo>
                  <a:pt x="318" y="4662"/>
                  <a:pt x="619" y="4194"/>
                  <a:pt x="679" y="3990"/>
                </a:cubicBezTo>
                <a:cubicBezTo>
                  <a:pt x="739" y="3786"/>
                  <a:pt x="511" y="3709"/>
                  <a:pt x="592" y="3587"/>
                </a:cubicBezTo>
                <a:cubicBezTo>
                  <a:pt x="673" y="3465"/>
                  <a:pt x="973" y="3432"/>
                  <a:pt x="1168" y="3258"/>
                </a:cubicBezTo>
                <a:cubicBezTo>
                  <a:pt x="1363" y="3084"/>
                  <a:pt x="1619" y="2730"/>
                  <a:pt x="1760" y="2541"/>
                </a:cubicBezTo>
                <a:cubicBezTo>
                  <a:pt x="1901" y="2352"/>
                  <a:pt x="1941" y="2186"/>
                  <a:pt x="2016" y="2121"/>
                </a:cubicBezTo>
                <a:cubicBezTo>
                  <a:pt x="2091" y="2056"/>
                  <a:pt x="2161" y="2084"/>
                  <a:pt x="2208" y="2148"/>
                </a:cubicBezTo>
                <a:cubicBezTo>
                  <a:pt x="2255" y="2212"/>
                  <a:pt x="2258" y="2452"/>
                  <a:pt x="2299" y="2505"/>
                </a:cubicBezTo>
                <a:cubicBezTo>
                  <a:pt x="2340" y="2558"/>
                  <a:pt x="2417" y="2504"/>
                  <a:pt x="2455" y="2468"/>
                </a:cubicBezTo>
                <a:cubicBezTo>
                  <a:pt x="2493" y="2432"/>
                  <a:pt x="2501" y="2369"/>
                  <a:pt x="2528" y="2285"/>
                </a:cubicBezTo>
                <a:cubicBezTo>
                  <a:pt x="2555" y="2201"/>
                  <a:pt x="2535" y="2067"/>
                  <a:pt x="2619" y="1965"/>
                </a:cubicBezTo>
                <a:cubicBezTo>
                  <a:pt x="2703" y="1863"/>
                  <a:pt x="2930" y="1559"/>
                  <a:pt x="3031" y="1673"/>
                </a:cubicBezTo>
                <a:cubicBezTo>
                  <a:pt x="3132" y="1787"/>
                  <a:pt x="3164" y="2497"/>
                  <a:pt x="3223" y="2651"/>
                </a:cubicBezTo>
                <a:cubicBezTo>
                  <a:pt x="3282" y="2805"/>
                  <a:pt x="3360" y="2727"/>
                  <a:pt x="3387" y="2596"/>
                </a:cubicBezTo>
                <a:cubicBezTo>
                  <a:pt x="3414" y="2465"/>
                  <a:pt x="3387" y="2298"/>
                  <a:pt x="3387" y="1865"/>
                </a:cubicBezTo>
                <a:cubicBezTo>
                  <a:pt x="3387" y="1432"/>
                  <a:pt x="3387" y="389"/>
                  <a:pt x="3387" y="0"/>
                </a:cubicBezTo>
              </a:path>
            </a:pathLst>
          </a:custGeom>
          <a:solidFill>
            <a:srgbClr val="cc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440" y="4335480"/>
            <a:ext cx="1557360" cy="3209760"/>
          </a:xfrm>
          <a:custGeom>
            <a:avLst/>
            <a:gdLst/>
            <a:ahLst/>
            <a:rect l="l" t="t" r="r" b="b"/>
            <a:pathLst>
              <a:path w="981" h="2022">
                <a:moveTo>
                  <a:pt x="531" y="318"/>
                </a:moveTo>
                <a:cubicBezTo>
                  <a:pt x="605" y="196"/>
                  <a:pt x="785" y="0"/>
                  <a:pt x="860" y="26"/>
                </a:cubicBezTo>
                <a:cubicBezTo>
                  <a:pt x="935" y="52"/>
                  <a:pt x="981" y="384"/>
                  <a:pt x="979" y="474"/>
                </a:cubicBezTo>
                <a:cubicBezTo>
                  <a:pt x="977" y="564"/>
                  <a:pt x="916" y="478"/>
                  <a:pt x="846" y="565"/>
                </a:cubicBezTo>
                <a:cubicBezTo>
                  <a:pt x="776" y="652"/>
                  <a:pt x="670" y="837"/>
                  <a:pt x="558" y="997"/>
                </a:cubicBezTo>
                <a:cubicBezTo>
                  <a:pt x="446" y="1157"/>
                  <a:pt x="226" y="1361"/>
                  <a:pt x="174" y="1525"/>
                </a:cubicBezTo>
                <a:cubicBezTo>
                  <a:pt x="122" y="1689"/>
                  <a:pt x="271" y="1942"/>
                  <a:pt x="247" y="1982"/>
                </a:cubicBezTo>
                <a:cubicBezTo>
                  <a:pt x="223" y="2022"/>
                  <a:pt x="56" y="1831"/>
                  <a:pt x="28" y="1763"/>
                </a:cubicBezTo>
                <a:cubicBezTo>
                  <a:pt x="0" y="1695"/>
                  <a:pt x="70" y="1621"/>
                  <a:pt x="78" y="1573"/>
                </a:cubicBezTo>
                <a:cubicBezTo>
                  <a:pt x="86" y="1525"/>
                  <a:pt x="46" y="1557"/>
                  <a:pt x="78" y="1477"/>
                </a:cubicBezTo>
                <a:cubicBezTo>
                  <a:pt x="110" y="1397"/>
                  <a:pt x="242" y="1190"/>
                  <a:pt x="270" y="1093"/>
                </a:cubicBezTo>
                <a:cubicBezTo>
                  <a:pt x="298" y="996"/>
                  <a:pt x="223" y="950"/>
                  <a:pt x="247" y="894"/>
                </a:cubicBezTo>
                <a:cubicBezTo>
                  <a:pt x="271" y="838"/>
                  <a:pt x="367" y="853"/>
                  <a:pt x="414" y="757"/>
                </a:cubicBezTo>
                <a:cubicBezTo>
                  <a:pt x="461" y="661"/>
                  <a:pt x="459" y="446"/>
                  <a:pt x="531" y="31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3400" y="5629320"/>
            <a:ext cx="590400" cy="3000240"/>
          </a:xfrm>
          <a:custGeom>
            <a:avLst/>
            <a:gdLst/>
            <a:ahLst/>
            <a:rect l="l" t="t" r="r" b="b"/>
            <a:pathLst>
              <a:path w="372" h="1890">
                <a:moveTo>
                  <a:pt x="372" y="0"/>
                </a:moveTo>
                <a:cubicBezTo>
                  <a:pt x="368" y="64"/>
                  <a:pt x="365" y="241"/>
                  <a:pt x="325" y="390"/>
                </a:cubicBezTo>
                <a:cubicBezTo>
                  <a:pt x="285" y="539"/>
                  <a:pt x="152" y="764"/>
                  <a:pt x="133" y="894"/>
                </a:cubicBezTo>
                <a:cubicBezTo>
                  <a:pt x="114" y="1024"/>
                  <a:pt x="233" y="1095"/>
                  <a:pt x="213" y="1170"/>
                </a:cubicBezTo>
                <a:cubicBezTo>
                  <a:pt x="193" y="1245"/>
                  <a:pt x="24" y="1294"/>
                  <a:pt x="12" y="1344"/>
                </a:cubicBezTo>
                <a:cubicBezTo>
                  <a:pt x="0" y="1394"/>
                  <a:pt x="90" y="1379"/>
                  <a:pt x="138" y="1470"/>
                </a:cubicBezTo>
                <a:cubicBezTo>
                  <a:pt x="186" y="1561"/>
                  <a:pt x="266" y="1802"/>
                  <a:pt x="300" y="1890"/>
                </a:cubicBezTo>
              </a:path>
            </a:pathLst>
          </a:custGeom>
          <a:noFill/>
          <a:ln w="381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08160" y="1676520"/>
            <a:ext cx="711360" cy="5365800"/>
          </a:xfrm>
          <a:custGeom>
            <a:avLst/>
            <a:gdLst/>
            <a:ahLst/>
            <a:rect l="l" t="t" r="r" b="b"/>
            <a:pathLst>
              <a:path w="448" h="3380">
                <a:moveTo>
                  <a:pt x="156" y="3380"/>
                </a:moveTo>
                <a:cubicBezTo>
                  <a:pt x="138" y="3281"/>
                  <a:pt x="55" y="2963"/>
                  <a:pt x="64" y="2784"/>
                </a:cubicBezTo>
                <a:cubicBezTo>
                  <a:pt x="73" y="2605"/>
                  <a:pt x="160" y="2448"/>
                  <a:pt x="208" y="2304"/>
                </a:cubicBezTo>
                <a:cubicBezTo>
                  <a:pt x="256" y="2160"/>
                  <a:pt x="320" y="2160"/>
                  <a:pt x="352" y="1920"/>
                </a:cubicBezTo>
                <a:cubicBezTo>
                  <a:pt x="384" y="1680"/>
                  <a:pt x="448" y="1152"/>
                  <a:pt x="400" y="864"/>
                </a:cubicBezTo>
                <a:cubicBezTo>
                  <a:pt x="352" y="576"/>
                  <a:pt x="128" y="336"/>
                  <a:pt x="64" y="192"/>
                </a:cubicBezTo>
                <a:cubicBezTo>
                  <a:pt x="0" y="48"/>
                  <a:pt x="8" y="24"/>
                  <a:pt x="16" y="0"/>
                </a:cubicBezTo>
              </a:path>
            </a:pathLst>
          </a:custGeom>
          <a:noFill/>
          <a:ln w="38160">
            <a:solidFill>
              <a:srgbClr val="80808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60760" y="4948200"/>
            <a:ext cx="1300320" cy="2611440"/>
          </a:xfrm>
          <a:custGeom>
            <a:avLst/>
            <a:gdLst/>
            <a:ahLst/>
            <a:rect l="l" t="t" r="r" b="b"/>
            <a:pathLst>
              <a:path w="819" h="1645">
                <a:moveTo>
                  <a:pt x="686" y="40"/>
                </a:moveTo>
                <a:cubicBezTo>
                  <a:pt x="577" y="0"/>
                  <a:pt x="557" y="99"/>
                  <a:pt x="493" y="175"/>
                </a:cubicBezTo>
                <a:cubicBezTo>
                  <a:pt x="429" y="251"/>
                  <a:pt x="378" y="387"/>
                  <a:pt x="301" y="499"/>
                </a:cubicBezTo>
                <a:cubicBezTo>
                  <a:pt x="224" y="611"/>
                  <a:pt x="66" y="751"/>
                  <a:pt x="33" y="847"/>
                </a:cubicBezTo>
                <a:cubicBezTo>
                  <a:pt x="0" y="943"/>
                  <a:pt x="78" y="996"/>
                  <a:pt x="101" y="1075"/>
                </a:cubicBezTo>
                <a:cubicBezTo>
                  <a:pt x="124" y="1154"/>
                  <a:pt x="121" y="1235"/>
                  <a:pt x="173" y="1323"/>
                </a:cubicBezTo>
                <a:cubicBezTo>
                  <a:pt x="225" y="1411"/>
                  <a:pt x="332" y="1561"/>
                  <a:pt x="413" y="1603"/>
                </a:cubicBezTo>
                <a:cubicBezTo>
                  <a:pt x="494" y="1645"/>
                  <a:pt x="631" y="1619"/>
                  <a:pt x="661" y="1575"/>
                </a:cubicBezTo>
                <a:cubicBezTo>
                  <a:pt x="691" y="1531"/>
                  <a:pt x="578" y="1450"/>
                  <a:pt x="593" y="1339"/>
                </a:cubicBezTo>
                <a:cubicBezTo>
                  <a:pt x="608" y="1228"/>
                  <a:pt x="712" y="1040"/>
                  <a:pt x="749" y="907"/>
                </a:cubicBezTo>
                <a:cubicBezTo>
                  <a:pt x="786" y="774"/>
                  <a:pt x="815" y="674"/>
                  <a:pt x="817" y="543"/>
                </a:cubicBezTo>
                <a:cubicBezTo>
                  <a:pt x="819" y="412"/>
                  <a:pt x="783" y="203"/>
                  <a:pt x="761" y="119"/>
                </a:cubicBezTo>
                <a:cubicBezTo>
                  <a:pt x="739" y="35"/>
                  <a:pt x="702" y="57"/>
                  <a:pt x="686" y="4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89040" y="5900760"/>
            <a:ext cx="3883320" cy="1249200"/>
          </a:xfrm>
          <a:custGeom>
            <a:avLst/>
            <a:gdLst/>
            <a:ahLst/>
            <a:rect l="l" t="t" r="r" b="b"/>
            <a:pathLst>
              <a:path w="2446" h="787">
                <a:moveTo>
                  <a:pt x="0" y="787"/>
                </a:moveTo>
                <a:cubicBezTo>
                  <a:pt x="73" y="774"/>
                  <a:pt x="341" y="746"/>
                  <a:pt x="457" y="699"/>
                </a:cubicBezTo>
                <a:cubicBezTo>
                  <a:pt x="573" y="652"/>
                  <a:pt x="553" y="579"/>
                  <a:pt x="697" y="507"/>
                </a:cubicBezTo>
                <a:cubicBezTo>
                  <a:pt x="841" y="435"/>
                  <a:pt x="1100" y="311"/>
                  <a:pt x="1321" y="265"/>
                </a:cubicBezTo>
                <a:cubicBezTo>
                  <a:pt x="1542" y="219"/>
                  <a:pt x="1868" y="229"/>
                  <a:pt x="2025" y="228"/>
                </a:cubicBezTo>
                <a:cubicBezTo>
                  <a:pt x="2182" y="227"/>
                  <a:pt x="2193" y="294"/>
                  <a:pt x="2263" y="256"/>
                </a:cubicBezTo>
                <a:cubicBezTo>
                  <a:pt x="2333" y="218"/>
                  <a:pt x="2408" y="53"/>
                  <a:pt x="2446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41640" y="7175520"/>
            <a:ext cx="387360" cy="2292480"/>
          </a:xfrm>
          <a:custGeom>
            <a:avLst/>
            <a:gdLst/>
            <a:ahLst/>
            <a:rect l="l" t="t" r="r" b="b"/>
            <a:pathLst>
              <a:path w="244" h="1444">
                <a:moveTo>
                  <a:pt x="219" y="0"/>
                </a:moveTo>
                <a:cubicBezTo>
                  <a:pt x="215" y="64"/>
                  <a:pt x="244" y="244"/>
                  <a:pt x="211" y="394"/>
                </a:cubicBezTo>
                <a:cubicBezTo>
                  <a:pt x="178" y="544"/>
                  <a:pt x="38" y="768"/>
                  <a:pt x="19" y="898"/>
                </a:cubicBezTo>
                <a:cubicBezTo>
                  <a:pt x="0" y="1028"/>
                  <a:pt x="85" y="1083"/>
                  <a:pt x="99" y="1174"/>
                </a:cubicBezTo>
                <a:cubicBezTo>
                  <a:pt x="113" y="1265"/>
                  <a:pt x="102" y="1388"/>
                  <a:pt x="103" y="144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16400" y="4254480"/>
            <a:ext cx="101520" cy="330120"/>
          </a:xfrm>
          <a:custGeom>
            <a:avLst/>
            <a:gdLst/>
            <a:ahLst/>
            <a:rect l="l" t="t" r="r" b="b"/>
            <a:pathLst>
              <a:path w="64" h="208">
                <a:moveTo>
                  <a:pt x="8" y="200"/>
                </a:moveTo>
                <a:cubicBezTo>
                  <a:pt x="0" y="192"/>
                  <a:pt x="0" y="88"/>
                  <a:pt x="8" y="56"/>
                </a:cubicBezTo>
                <a:cubicBezTo>
                  <a:pt x="16" y="24"/>
                  <a:pt x="48" y="0"/>
                  <a:pt x="56" y="8"/>
                </a:cubicBezTo>
                <a:cubicBezTo>
                  <a:pt x="64" y="16"/>
                  <a:pt x="64" y="72"/>
                  <a:pt x="56" y="104"/>
                </a:cubicBezTo>
                <a:cubicBezTo>
                  <a:pt x="48" y="136"/>
                  <a:pt x="16" y="208"/>
                  <a:pt x="8" y="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12960" y="6670800"/>
            <a:ext cx="2049480" cy="2616120"/>
          </a:xfrm>
          <a:custGeom>
            <a:avLst/>
            <a:gdLst/>
            <a:ahLst/>
            <a:rect l="l" t="t" r="r" b="b"/>
            <a:pathLst>
              <a:path w="1291" h="1648">
                <a:moveTo>
                  <a:pt x="283" y="1648"/>
                </a:moveTo>
                <a:cubicBezTo>
                  <a:pt x="255" y="1581"/>
                  <a:pt x="157" y="1344"/>
                  <a:pt x="115" y="1246"/>
                </a:cubicBezTo>
                <a:cubicBezTo>
                  <a:pt x="73" y="1148"/>
                  <a:pt x="0" y="1164"/>
                  <a:pt x="31" y="1060"/>
                </a:cubicBezTo>
                <a:cubicBezTo>
                  <a:pt x="62" y="956"/>
                  <a:pt x="252" y="720"/>
                  <a:pt x="301" y="622"/>
                </a:cubicBezTo>
                <a:cubicBezTo>
                  <a:pt x="350" y="524"/>
                  <a:pt x="321" y="528"/>
                  <a:pt x="325" y="472"/>
                </a:cubicBezTo>
                <a:cubicBezTo>
                  <a:pt x="329" y="416"/>
                  <a:pt x="294" y="345"/>
                  <a:pt x="325" y="286"/>
                </a:cubicBezTo>
                <a:cubicBezTo>
                  <a:pt x="356" y="227"/>
                  <a:pt x="448" y="157"/>
                  <a:pt x="511" y="118"/>
                </a:cubicBezTo>
                <a:cubicBezTo>
                  <a:pt x="574" y="79"/>
                  <a:pt x="636" y="0"/>
                  <a:pt x="703" y="52"/>
                </a:cubicBezTo>
                <a:cubicBezTo>
                  <a:pt x="770" y="104"/>
                  <a:pt x="850" y="344"/>
                  <a:pt x="913" y="430"/>
                </a:cubicBezTo>
                <a:cubicBezTo>
                  <a:pt x="976" y="516"/>
                  <a:pt x="1071" y="521"/>
                  <a:pt x="1081" y="568"/>
                </a:cubicBezTo>
                <a:cubicBezTo>
                  <a:pt x="1091" y="615"/>
                  <a:pt x="962" y="652"/>
                  <a:pt x="973" y="712"/>
                </a:cubicBezTo>
                <a:cubicBezTo>
                  <a:pt x="984" y="772"/>
                  <a:pt x="1094" y="821"/>
                  <a:pt x="1147" y="928"/>
                </a:cubicBezTo>
                <a:cubicBezTo>
                  <a:pt x="1200" y="1035"/>
                  <a:pt x="1261" y="1265"/>
                  <a:pt x="1291" y="1354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09680" y="9029880"/>
            <a:ext cx="190800" cy="114120"/>
          </a:xfrm>
          <a:custGeom>
            <a:avLst/>
            <a:gdLst/>
            <a:ahLst/>
            <a:rect l="l" t="t" r="r" b="b"/>
            <a:pathLst>
              <a:path w="448" h="302">
                <a:moveTo>
                  <a:pt x="0" y="146"/>
                </a:moveTo>
                <a:lnTo>
                  <a:pt x="171" y="0"/>
                </a:lnTo>
                <a:lnTo>
                  <a:pt x="267" y="144"/>
                </a:lnTo>
                <a:lnTo>
                  <a:pt x="283" y="73"/>
                </a:lnTo>
                <a:lnTo>
                  <a:pt x="411" y="96"/>
                </a:lnTo>
                <a:lnTo>
                  <a:pt x="448" y="302"/>
                </a:lnTo>
                <a:lnTo>
                  <a:pt x="267" y="288"/>
                </a:lnTo>
                <a:lnTo>
                  <a:pt x="91" y="265"/>
                </a:lnTo>
                <a:lnTo>
                  <a:pt x="0" y="14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7010280"/>
            <a:ext cx="152280" cy="19080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22" y="0"/>
                </a:moveTo>
                <a:lnTo>
                  <a:pt x="118" y="12"/>
                </a:lnTo>
                <a:lnTo>
                  <a:pt x="120" y="81"/>
                </a:lnTo>
                <a:lnTo>
                  <a:pt x="137" y="130"/>
                </a:lnTo>
                <a:lnTo>
                  <a:pt x="192" y="147"/>
                </a:lnTo>
                <a:lnTo>
                  <a:pt x="180" y="198"/>
                </a:lnTo>
                <a:lnTo>
                  <a:pt x="132" y="240"/>
                </a:lnTo>
                <a:lnTo>
                  <a:pt x="72" y="145"/>
                </a:lnTo>
                <a:lnTo>
                  <a:pt x="30" y="134"/>
                </a:lnTo>
                <a:lnTo>
                  <a:pt x="0" y="75"/>
                </a:lnTo>
                <a:lnTo>
                  <a:pt x="22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23920" y="3471840"/>
            <a:ext cx="1068480" cy="2625840"/>
          </a:xfrm>
          <a:custGeom>
            <a:avLst/>
            <a:gdLst/>
            <a:ahLst/>
            <a:rect l="l" t="t" r="r" b="b"/>
            <a:pathLst>
              <a:path w="673" h="1654">
                <a:moveTo>
                  <a:pt x="563" y="21"/>
                </a:moveTo>
                <a:cubicBezTo>
                  <a:pt x="510" y="0"/>
                  <a:pt x="288" y="240"/>
                  <a:pt x="215" y="368"/>
                </a:cubicBezTo>
                <a:cubicBezTo>
                  <a:pt x="142" y="496"/>
                  <a:pt x="149" y="636"/>
                  <a:pt x="124" y="789"/>
                </a:cubicBezTo>
                <a:cubicBezTo>
                  <a:pt x="99" y="942"/>
                  <a:pt x="0" y="1145"/>
                  <a:pt x="65" y="1288"/>
                </a:cubicBezTo>
                <a:cubicBezTo>
                  <a:pt x="130" y="1431"/>
                  <a:pt x="413" y="1654"/>
                  <a:pt x="513" y="1644"/>
                </a:cubicBezTo>
                <a:cubicBezTo>
                  <a:pt x="613" y="1634"/>
                  <a:pt x="653" y="1366"/>
                  <a:pt x="663" y="1228"/>
                </a:cubicBezTo>
                <a:cubicBezTo>
                  <a:pt x="673" y="1090"/>
                  <a:pt x="583" y="987"/>
                  <a:pt x="572" y="816"/>
                </a:cubicBezTo>
                <a:cubicBezTo>
                  <a:pt x="561" y="645"/>
                  <a:pt x="600" y="336"/>
                  <a:pt x="599" y="204"/>
                </a:cubicBezTo>
                <a:cubicBezTo>
                  <a:pt x="598" y="72"/>
                  <a:pt x="570" y="59"/>
                  <a:pt x="563" y="21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9000" y="1482840"/>
            <a:ext cx="1944720" cy="7130880"/>
          </a:xfrm>
          <a:custGeom>
            <a:avLst/>
            <a:gdLst/>
            <a:ahLst/>
            <a:rect l="l" t="t" r="r" b="b"/>
            <a:pathLst>
              <a:path w="1225" h="4492">
                <a:moveTo>
                  <a:pt x="46" y="76"/>
                </a:moveTo>
                <a:cubicBezTo>
                  <a:pt x="153" y="91"/>
                  <a:pt x="593" y="0"/>
                  <a:pt x="713" y="168"/>
                </a:cubicBezTo>
                <a:cubicBezTo>
                  <a:pt x="833" y="336"/>
                  <a:pt x="751" y="842"/>
                  <a:pt x="768" y="1082"/>
                </a:cubicBezTo>
                <a:cubicBezTo>
                  <a:pt x="785" y="1322"/>
                  <a:pt x="825" y="1362"/>
                  <a:pt x="817" y="1610"/>
                </a:cubicBezTo>
                <a:cubicBezTo>
                  <a:pt x="809" y="1858"/>
                  <a:pt x="657" y="2322"/>
                  <a:pt x="721" y="2570"/>
                </a:cubicBezTo>
                <a:cubicBezTo>
                  <a:pt x="785" y="2818"/>
                  <a:pt x="1177" y="2858"/>
                  <a:pt x="1201" y="3098"/>
                </a:cubicBezTo>
                <a:cubicBezTo>
                  <a:pt x="1225" y="3338"/>
                  <a:pt x="961" y="3802"/>
                  <a:pt x="865" y="4010"/>
                </a:cubicBezTo>
                <a:cubicBezTo>
                  <a:pt x="769" y="4218"/>
                  <a:pt x="769" y="4266"/>
                  <a:pt x="625" y="4346"/>
                </a:cubicBezTo>
                <a:cubicBezTo>
                  <a:pt x="481" y="4426"/>
                  <a:pt x="130" y="4462"/>
                  <a:pt x="0" y="4492"/>
                </a:cubicBez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48520" y="5791320"/>
            <a:ext cx="152280" cy="190440"/>
          </a:xfrm>
          <a:custGeom>
            <a:avLst/>
            <a:gdLst/>
            <a:ahLst/>
            <a:rect l="l" t="t" r="r" b="b"/>
            <a:pathLst>
              <a:path w="192" h="240">
                <a:moveTo>
                  <a:pt x="96" y="0"/>
                </a:moveTo>
                <a:lnTo>
                  <a:pt x="144" y="0"/>
                </a:lnTo>
                <a:lnTo>
                  <a:pt x="192" y="144"/>
                </a:lnTo>
                <a:lnTo>
                  <a:pt x="192" y="240"/>
                </a:lnTo>
                <a:lnTo>
                  <a:pt x="96" y="240"/>
                </a:lnTo>
                <a:lnTo>
                  <a:pt x="0" y="240"/>
                </a:lnTo>
                <a:lnTo>
                  <a:pt x="0" y="144"/>
                </a:lnTo>
                <a:lnTo>
                  <a:pt x="48" y="96"/>
                </a:lnTo>
                <a:lnTo>
                  <a:pt x="96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1160" y="792468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65560" y="6781680"/>
            <a:ext cx="398520" cy="1143000"/>
          </a:xfrm>
          <a:custGeom>
            <a:avLst/>
            <a:gdLst/>
            <a:ahLst/>
            <a:rect l="l" t="t" r="r" b="b"/>
            <a:pathLst>
              <a:path w="251" h="720">
                <a:moveTo>
                  <a:pt x="146" y="0"/>
                </a:moveTo>
                <a:cubicBezTo>
                  <a:pt x="163" y="58"/>
                  <a:pt x="251" y="272"/>
                  <a:pt x="247" y="348"/>
                </a:cubicBezTo>
                <a:cubicBezTo>
                  <a:pt x="243" y="424"/>
                  <a:pt x="159" y="406"/>
                  <a:pt x="121" y="456"/>
                </a:cubicBezTo>
                <a:cubicBezTo>
                  <a:pt x="83" y="506"/>
                  <a:pt x="38" y="604"/>
                  <a:pt x="19" y="648"/>
                </a:cubicBezTo>
                <a:cubicBezTo>
                  <a:pt x="0" y="692"/>
                  <a:pt x="8" y="705"/>
                  <a:pt x="5" y="720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7696080"/>
            <a:ext cx="762120" cy="152640"/>
          </a:xfrm>
          <a:custGeom>
            <a:avLst/>
            <a:gdLst/>
            <a:ahLst/>
            <a:rect l="l" t="t" r="r" b="b"/>
            <a:pathLst>
              <a:path w="480" h="96">
                <a:moveTo>
                  <a:pt x="480" y="96"/>
                </a:moveTo>
                <a:cubicBezTo>
                  <a:pt x="460" y="76"/>
                  <a:pt x="440" y="56"/>
                  <a:pt x="384" y="48"/>
                </a:cubicBezTo>
                <a:cubicBezTo>
                  <a:pt x="328" y="40"/>
                  <a:pt x="208" y="56"/>
                  <a:pt x="144" y="48"/>
                </a:cubicBezTo>
                <a:cubicBezTo>
                  <a:pt x="80" y="40"/>
                  <a:pt x="40" y="20"/>
                  <a:pt x="0" y="0"/>
                </a:cubicBez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28600" y="1752480"/>
            <a:ext cx="6227280" cy="7696080"/>
            <a:chOff x="228600" y="1752480"/>
            <a:chExt cx="6227280" cy="7696080"/>
          </a:xfrm>
        </p:grpSpPr>
        <p:grpSp>
          <p:nvGrpSpPr>
            <p:cNvPr id="458" name=""/>
            <p:cNvGrpSpPr/>
            <p:nvPr/>
          </p:nvGrpSpPr>
          <p:grpSpPr>
            <a:xfrm>
              <a:off x="228600" y="1752480"/>
              <a:ext cx="6227280" cy="7349040"/>
              <a:chOff x="228600" y="1752480"/>
              <a:chExt cx="6227280" cy="7349040"/>
            </a:xfrm>
          </p:grpSpPr>
          <p:sp>
            <p:nvSpPr>
              <p:cNvPr id="459" name=""/>
              <p:cNvSpPr/>
              <p:nvPr/>
            </p:nvSpPr>
            <p:spPr>
              <a:xfrm>
                <a:off x="223740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37920" y="244224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23740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437920" y="175248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437920" y="31309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3740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3740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37920" y="45097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23740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37920" y="3821040"/>
                <a:ext cx="19944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437920" y="520020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23740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37080" y="21006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03652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37080" y="278892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03652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03652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837080" y="3472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837080" y="41634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3652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837080" y="485208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03652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3652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37080" y="55418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436760" y="21006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3620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36760" y="278892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63620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3620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36760" y="3472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436760" y="41634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63620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436760" y="485208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63620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3620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36760" y="55418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35000" y="21006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235880" y="24422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035000" y="278892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235880" y="175248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235880" y="3130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35000" y="3472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035000" y="41634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235880" y="45097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35000" y="485208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35880" y="3821040"/>
                <a:ext cx="194400" cy="45864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235880" y="520020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35000" y="55418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856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35560" y="2442240"/>
                <a:ext cx="19332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856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35560" y="1752480"/>
                <a:ext cx="19332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35560" y="313092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856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2856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35560" y="450972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2856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35560" y="3821040"/>
                <a:ext cx="19332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35560" y="5200200"/>
                <a:ext cx="19332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2856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2860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9480" y="24422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2860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29480" y="175248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9480" y="3130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2860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2860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9480" y="45097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2860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9480" y="382104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9480" y="52002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2860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64616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853520" y="2442240"/>
                <a:ext cx="19296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4616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853520" y="1752480"/>
                <a:ext cx="19296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853520" y="31309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64616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64616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853520" y="45097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64616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53520" y="3821040"/>
                <a:ext cx="19296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853520" y="520020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4616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620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447080" y="24422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4620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447080" y="175248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447080" y="3130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4620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24620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447080" y="45097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24620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47080" y="382104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447080" y="52002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24620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845880" y="21006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45320" y="24422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845880" y="278892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045320" y="175248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45320" y="3130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845880" y="34729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45880" y="41634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045320" y="45097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45880" y="485208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045320" y="382104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045320" y="52002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45880" y="554184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445560" y="21006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45000" y="24422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445560" y="278892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645000" y="175248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645000" y="3130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45560" y="347292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45560" y="416340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645000" y="45097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445560" y="485208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645000" y="382104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45000" y="52002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445560" y="5541840"/>
                <a:ext cx="19944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43800" y="21006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245040" y="24422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043800" y="278892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245040" y="175248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245040" y="3130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43800" y="3472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043800" y="41634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45040" y="45097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043800" y="485208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45040" y="3821040"/>
                <a:ext cx="20052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45040" y="52002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043800" y="55418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63772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44720" y="2442240"/>
                <a:ext cx="192960" cy="45828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63772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44720" y="1752480"/>
                <a:ext cx="192960" cy="45972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44720" y="31309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3772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3772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44720" y="450972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63772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844720" y="3821040"/>
                <a:ext cx="192960" cy="458640"/>
              </a:xfrm>
              <a:custGeom>
                <a:avLst/>
                <a:gdLst/>
                <a:ahLst/>
                <a:rect l="l" t="t" r="r" b="b"/>
                <a:pathLst>
                  <a:path w="126" h="299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844720" y="5200200"/>
                <a:ext cx="192960" cy="460080"/>
              </a:xfrm>
              <a:custGeom>
                <a:avLst/>
                <a:gdLst/>
                <a:ahLst/>
                <a:rect l="l" t="t" r="r" b="b"/>
                <a:pathLst>
                  <a:path w="126" h="300">
                    <a:moveTo>
                      <a:pt x="126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6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3772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55000" y="21006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55000" y="278892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55000" y="3472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55000" y="416340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55000" y="485208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55000" y="55418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54680" y="21006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05412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54680" y="278892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05412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05412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54680" y="3472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54680" y="416340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05412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54680" y="485208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05412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05412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854680" y="55418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53280" y="21006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653800" y="2442240"/>
                <a:ext cx="20088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53280" y="2788920"/>
                <a:ext cx="20052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53800" y="17524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653800" y="31309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53280" y="34729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53280" y="416340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653800" y="450972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53280" y="485208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653800" y="382104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653800" y="520020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453280" y="5541840"/>
                <a:ext cx="200520" cy="45828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052960" y="21006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253840" y="2442240"/>
                <a:ext cx="199080" cy="45828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52960" y="2788920"/>
                <a:ext cx="194400" cy="45972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253840" y="1752480"/>
                <a:ext cx="19908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253840" y="31309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52960" y="347292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052960" y="416340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6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253840" y="45097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052960" y="4852080"/>
                <a:ext cx="194400" cy="460080"/>
              </a:xfrm>
              <a:custGeom>
                <a:avLst/>
                <a:gdLst/>
                <a:ahLst/>
                <a:rect l="l" t="t" r="r" b="b"/>
                <a:pathLst>
                  <a:path w="127" h="300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27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253840" y="3821040"/>
                <a:ext cx="19908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253840" y="520020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52960" y="5541840"/>
                <a:ext cx="194400" cy="458280"/>
              </a:xfrm>
              <a:custGeom>
                <a:avLst/>
                <a:gdLst/>
                <a:ahLst/>
                <a:rect l="l" t="t" r="r" b="b"/>
                <a:pathLst>
                  <a:path w="127" h="299">
                    <a:moveTo>
                      <a:pt x="127" y="0"/>
                    </a:moveTo>
                    <a:lnTo>
                      <a:pt x="0" y="77"/>
                    </a:lnTo>
                    <a:lnTo>
                      <a:pt x="0" y="226"/>
                    </a:lnTo>
                    <a:lnTo>
                      <a:pt x="127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237400" y="62305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437920" y="65786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237400" y="692064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437920" y="5888880"/>
                <a:ext cx="199440" cy="45972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437920" y="7268760"/>
                <a:ext cx="199440" cy="458640"/>
              </a:xfrm>
              <a:custGeom>
                <a:avLst/>
                <a:gdLst/>
                <a:ahLst/>
                <a:rect l="l" t="t" r="r" b="b"/>
                <a:pathLst>
                  <a:path w="130" h="299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2"/>
                    </a:lnTo>
                    <a:lnTo>
                      <a:pt x="130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237400" y="760932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237400" y="8299800"/>
                <a:ext cx="20052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37920" y="8641440"/>
                <a:ext cx="19944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437920" y="7957440"/>
                <a:ext cx="199440" cy="453960"/>
              </a:xfrm>
              <a:custGeom>
                <a:avLst/>
                <a:gdLst/>
                <a:ahLst/>
                <a:rect l="l" t="t" r="r" b="b"/>
                <a:pathLst>
                  <a:path w="130" h="296">
                    <a:moveTo>
                      <a:pt x="130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0" y="296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37080" y="623052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036520" y="6578640"/>
                <a:ext cx="200880" cy="46008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37080" y="6920640"/>
                <a:ext cx="199080" cy="460080"/>
              </a:xfrm>
              <a:custGeom>
                <a:avLst/>
                <a:gdLst/>
                <a:ahLst/>
                <a:rect l="l" t="t" r="r" b="b"/>
                <a:pathLst>
                  <a:path w="130" h="300">
                    <a:moveTo>
                      <a:pt x="130" y="0"/>
                    </a:moveTo>
                    <a:lnTo>
                      <a:pt x="0" y="77"/>
                    </a:lnTo>
                    <a:lnTo>
                      <a:pt x="0" y="227"/>
                    </a:lnTo>
                    <a:lnTo>
                      <a:pt x="130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036520" y="5888880"/>
                <a:ext cx="200880" cy="459720"/>
              </a:xfrm>
              <a:custGeom>
                <a:avLst/>
                <a:gdLst/>
                <a:ahLst/>
                <a:rect l="l" t="t" r="r" b="b"/>
                <a:pathLst>
                  <a:path w="131" h="300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3"/>
                    </a:lnTo>
                    <a:lnTo>
                      <a:pt x="131" y="300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036520" y="7268760"/>
                <a:ext cx="200880" cy="458640"/>
              </a:xfrm>
              <a:custGeom>
                <a:avLst/>
                <a:gdLst/>
                <a:ahLst/>
                <a:rect l="l" t="t" r="r" b="b"/>
                <a:pathLst>
                  <a:path w="131" h="299">
                    <a:moveTo>
                      <a:pt x="131" y="0"/>
                    </a:moveTo>
                    <a:lnTo>
                      <a:pt x="0" y="73"/>
                    </a:lnTo>
                    <a:lnTo>
                      <a:pt x="0" y="222"/>
                    </a:lnTo>
                    <a:lnTo>
                      <a:pt x="131" y="299"/>
                    </a:lnTo>
                  </a:path>
                </a:pathLst>
              </a:custGeom>
              <a:noFill/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837080" y="76096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37080" y="8299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3652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03652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36760" y="62308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36200" y="6579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36760" y="6921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36200" y="588888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36200" y="72691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36760" y="76096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36760" y="8299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3620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3620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35000" y="62308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235880" y="6579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35000" y="6921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235880" y="5888880"/>
              <a:ext cx="194400" cy="45972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35880" y="72691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35000" y="76096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35000" y="8299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235880" y="8641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35880" y="7957800"/>
              <a:ext cx="194400" cy="453960"/>
            </a:xfrm>
            <a:custGeom>
              <a:avLst/>
              <a:gdLst/>
              <a:ahLst/>
              <a:rect l="l" t="t" r="r" b="b"/>
              <a:pathLst>
                <a:path w="127" h="296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8560" y="62308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5560" y="6579000"/>
              <a:ext cx="19332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8560" y="6921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5560" y="5888880"/>
              <a:ext cx="19332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35560" y="7269120"/>
              <a:ext cx="19332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8560" y="76096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8560" y="8299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35560" y="8641800"/>
              <a:ext cx="19332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5560" y="7957800"/>
              <a:ext cx="19332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860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9480" y="6579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860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9480" y="588888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9480" y="72691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860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860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29480" y="8641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9480" y="795780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4616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53520" y="65790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4616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853520" y="5888880"/>
              <a:ext cx="19296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53520" y="7269120"/>
              <a:ext cx="19296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4616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4616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53520" y="86418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53520" y="7957800"/>
              <a:ext cx="19296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4620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47080" y="6579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4620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47080" y="588888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47080" y="72691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4620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24620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47080" y="8641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47080" y="795780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45880" y="62308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045320" y="6579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45880" y="69210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045320" y="588888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45320" y="72691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45880" y="76096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45880" y="82998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045320" y="8641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45320" y="795780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45560" y="62308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45000" y="6579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45560" y="69210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45000" y="588888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45000" y="72691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45560" y="760968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445560" y="8299800"/>
              <a:ext cx="19944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45000" y="8641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45000" y="795780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43800" y="62308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45040" y="6579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043800" y="6921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245040" y="5888880"/>
              <a:ext cx="20052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45040" y="72691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3800" y="76096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43800" y="8299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45040" y="8641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45040" y="7957800"/>
              <a:ext cx="20052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37720" y="62308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44720" y="65790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37720" y="6921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44720" y="5888880"/>
              <a:ext cx="192960" cy="45972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44720" y="7269120"/>
              <a:ext cx="192960" cy="458640"/>
            </a:xfrm>
            <a:custGeom>
              <a:avLst/>
              <a:gdLst/>
              <a:ahLst/>
              <a:rect l="l" t="t" r="r" b="b"/>
              <a:pathLst>
                <a:path w="126" h="299">
                  <a:moveTo>
                    <a:pt x="126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6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37720" y="76096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37720" y="8299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44720" y="8641800"/>
              <a:ext cx="192960" cy="4600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6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6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44720" y="7957800"/>
              <a:ext cx="192960" cy="453960"/>
            </a:xfrm>
            <a:custGeom>
              <a:avLst/>
              <a:gdLst/>
              <a:ahLst/>
              <a:rect l="l" t="t" r="r" b="b"/>
              <a:pathLst>
                <a:path w="126" h="296">
                  <a:moveTo>
                    <a:pt x="126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6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255000" y="62308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55000" y="6921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55000" y="760968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55000" y="8299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54680" y="62308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054120" y="6579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54680" y="6921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54120" y="588888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54120" y="72691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54680" y="760968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54680" y="8299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5412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5412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53280" y="62308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53800" y="65790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53280" y="69210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53800" y="5888880"/>
              <a:ext cx="200880" cy="45972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53800" y="72691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53280" y="760968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53280" y="8299800"/>
              <a:ext cx="20052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53800" y="8641800"/>
              <a:ext cx="200880" cy="460080"/>
            </a:xfrm>
            <a:custGeom>
              <a:avLst/>
              <a:gdLst/>
              <a:ahLst/>
              <a:rect l="l" t="t" r="r" b="b"/>
              <a:pathLst>
                <a:path w="131" h="300">
                  <a:moveTo>
                    <a:pt x="131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1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53800" y="7957800"/>
              <a:ext cx="200880" cy="453960"/>
            </a:xfrm>
            <a:custGeom>
              <a:avLst/>
              <a:gdLst/>
              <a:ahLst/>
              <a:rect l="l" t="t" r="r" b="b"/>
              <a:pathLst>
                <a:path w="131" h="296">
                  <a:moveTo>
                    <a:pt x="131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1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52960" y="62308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53840" y="65790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052960" y="69210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253840" y="5888880"/>
              <a:ext cx="199080" cy="45972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253840" y="72691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052960" y="760968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52960" y="8299800"/>
              <a:ext cx="194400" cy="460080"/>
            </a:xfrm>
            <a:custGeom>
              <a:avLst/>
              <a:gdLst/>
              <a:ahLst/>
              <a:rect l="l" t="t" r="r" b="b"/>
              <a:pathLst>
                <a:path w="127" h="300">
                  <a:moveTo>
                    <a:pt x="127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27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253840" y="8641800"/>
              <a:ext cx="199080" cy="460080"/>
            </a:xfrm>
            <a:custGeom>
              <a:avLst/>
              <a:gdLst/>
              <a:ahLst/>
              <a:rect l="l" t="t" r="r" b="b"/>
              <a:pathLst>
                <a:path w="130" h="300">
                  <a:moveTo>
                    <a:pt x="130" y="0"/>
                  </a:moveTo>
                  <a:lnTo>
                    <a:pt x="0" y="77"/>
                  </a:lnTo>
                  <a:lnTo>
                    <a:pt x="0" y="227"/>
                  </a:lnTo>
                  <a:lnTo>
                    <a:pt x="130" y="300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253840" y="7957800"/>
              <a:ext cx="199080" cy="453960"/>
            </a:xfrm>
            <a:custGeom>
              <a:avLst/>
              <a:gdLst/>
              <a:ahLst/>
              <a:rect l="l" t="t" r="r" b="b"/>
              <a:pathLst>
                <a:path w="130" h="296">
                  <a:moveTo>
                    <a:pt x="130" y="0"/>
                  </a:moveTo>
                  <a:lnTo>
                    <a:pt x="0" y="73"/>
                  </a:lnTo>
                  <a:lnTo>
                    <a:pt x="0" y="223"/>
                  </a:lnTo>
                  <a:lnTo>
                    <a:pt x="130" y="296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3740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837080" y="89899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436760" y="89899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35000" y="89899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856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860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4616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24620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45880" y="8989920"/>
              <a:ext cx="19944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45560" y="8989920"/>
              <a:ext cx="19944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043800" y="89899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63772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55000" y="8989920"/>
              <a:ext cx="20088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854680" y="8989920"/>
              <a:ext cx="199080" cy="458640"/>
            </a:xfrm>
            <a:custGeom>
              <a:avLst/>
              <a:gdLst/>
              <a:ahLst/>
              <a:rect l="l" t="t" r="r" b="b"/>
              <a:pathLst>
                <a:path w="130" h="299">
                  <a:moveTo>
                    <a:pt x="130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0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53280" y="8989920"/>
              <a:ext cx="200520" cy="458640"/>
            </a:xfrm>
            <a:custGeom>
              <a:avLst/>
              <a:gdLst/>
              <a:ahLst/>
              <a:rect l="l" t="t" r="r" b="b"/>
              <a:pathLst>
                <a:path w="131" h="299">
                  <a:moveTo>
                    <a:pt x="131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31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52960" y="8989920"/>
              <a:ext cx="194400" cy="458640"/>
            </a:xfrm>
            <a:custGeom>
              <a:avLst/>
              <a:gdLst/>
              <a:ahLst/>
              <a:rect l="l" t="t" r="r" b="b"/>
              <a:pathLst>
                <a:path w="127" h="299">
                  <a:moveTo>
                    <a:pt x="127" y="0"/>
                  </a:moveTo>
                  <a:lnTo>
                    <a:pt x="0" y="73"/>
                  </a:lnTo>
                  <a:lnTo>
                    <a:pt x="0" y="222"/>
                  </a:lnTo>
                  <a:lnTo>
                    <a:pt x="127" y="299"/>
                  </a:lnTo>
                </a:path>
              </a:pathLst>
            </a:custGeom>
            <a:noFill/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28600" y="9601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929628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066680" y="9220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77120" y="1371600"/>
            <a:ext cx="228600" cy="466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48320" y="9296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971800" y="956304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0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86000" y="93726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チェンド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" y="1542960"/>
            <a:ext cx="6477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562720" y="5946840"/>
            <a:ext cx="11430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グラブフォー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,500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5,000g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47920" y="1828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イズレ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09880" y="3505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ワイエスティル湖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86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ヴェスヴェ森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540160" y="8839080"/>
            <a:ext cx="13460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ダウ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人口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,900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5,000gp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124080" y="4510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クルス島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66680" y="6095880"/>
            <a:ext cx="1981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グラスゴーの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0g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600200" y="6019920"/>
            <a:ext cx="76320" cy="75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00400" y="7900920"/>
            <a:ext cx="16002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ノームの集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0gp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4920" y="22860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ロックポート周辺における冒険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9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　　　　　　　　　　　　　　　　　　　　　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58294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752480" y="7162920"/>
            <a:ext cx="1981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ロックポー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人口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,500,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購入上限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,000gp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023920" y="2867040"/>
            <a:ext cx="4605480" cy="6620040"/>
          </a:xfrm>
          <a:custGeom>
            <a:avLst/>
            <a:gdLst/>
            <a:ahLst/>
            <a:rect l="l" t="t" r="r" b="b"/>
            <a:pathLst>
              <a:path w="2901" h="4170">
                <a:moveTo>
                  <a:pt x="2853" y="0"/>
                </a:moveTo>
                <a:cubicBezTo>
                  <a:pt x="2692" y="18"/>
                  <a:pt x="2090" y="34"/>
                  <a:pt x="1887" y="108"/>
                </a:cubicBezTo>
                <a:cubicBezTo>
                  <a:pt x="1684" y="182"/>
                  <a:pt x="1694" y="363"/>
                  <a:pt x="1635" y="444"/>
                </a:cubicBezTo>
                <a:cubicBezTo>
                  <a:pt x="1576" y="525"/>
                  <a:pt x="1567" y="555"/>
                  <a:pt x="1533" y="594"/>
                </a:cubicBezTo>
                <a:cubicBezTo>
                  <a:pt x="1499" y="633"/>
                  <a:pt x="1470" y="630"/>
                  <a:pt x="1431" y="678"/>
                </a:cubicBezTo>
                <a:cubicBezTo>
                  <a:pt x="1392" y="726"/>
                  <a:pt x="1382" y="821"/>
                  <a:pt x="1299" y="882"/>
                </a:cubicBezTo>
                <a:cubicBezTo>
                  <a:pt x="1216" y="943"/>
                  <a:pt x="1009" y="979"/>
                  <a:pt x="933" y="1044"/>
                </a:cubicBezTo>
                <a:cubicBezTo>
                  <a:pt x="857" y="1109"/>
                  <a:pt x="900" y="1125"/>
                  <a:pt x="843" y="1272"/>
                </a:cubicBezTo>
                <a:cubicBezTo>
                  <a:pt x="786" y="1419"/>
                  <a:pt x="717" y="1783"/>
                  <a:pt x="591" y="1926"/>
                </a:cubicBezTo>
                <a:cubicBezTo>
                  <a:pt x="465" y="2069"/>
                  <a:pt x="174" y="2045"/>
                  <a:pt x="87" y="2130"/>
                </a:cubicBezTo>
                <a:cubicBezTo>
                  <a:pt x="0" y="2215"/>
                  <a:pt x="35" y="2345"/>
                  <a:pt x="69" y="2434"/>
                </a:cubicBezTo>
                <a:cubicBezTo>
                  <a:pt x="103" y="2523"/>
                  <a:pt x="172" y="2647"/>
                  <a:pt x="293" y="2666"/>
                </a:cubicBezTo>
                <a:cubicBezTo>
                  <a:pt x="414" y="2685"/>
                  <a:pt x="634" y="2557"/>
                  <a:pt x="797" y="2546"/>
                </a:cubicBezTo>
                <a:cubicBezTo>
                  <a:pt x="960" y="2535"/>
                  <a:pt x="1110" y="2643"/>
                  <a:pt x="1269" y="2602"/>
                </a:cubicBezTo>
                <a:cubicBezTo>
                  <a:pt x="1428" y="2561"/>
                  <a:pt x="1585" y="2358"/>
                  <a:pt x="1749" y="2298"/>
                </a:cubicBezTo>
                <a:cubicBezTo>
                  <a:pt x="1913" y="2238"/>
                  <a:pt x="2154" y="2154"/>
                  <a:pt x="2253" y="2242"/>
                </a:cubicBezTo>
                <a:cubicBezTo>
                  <a:pt x="2352" y="2330"/>
                  <a:pt x="2284" y="2691"/>
                  <a:pt x="2341" y="2826"/>
                </a:cubicBezTo>
                <a:cubicBezTo>
                  <a:pt x="2398" y="2961"/>
                  <a:pt x="2602" y="2970"/>
                  <a:pt x="2597" y="3050"/>
                </a:cubicBezTo>
                <a:cubicBezTo>
                  <a:pt x="2592" y="3130"/>
                  <a:pt x="2413" y="3221"/>
                  <a:pt x="2309" y="3306"/>
                </a:cubicBezTo>
                <a:cubicBezTo>
                  <a:pt x="2205" y="3391"/>
                  <a:pt x="2108" y="3487"/>
                  <a:pt x="1973" y="3562"/>
                </a:cubicBezTo>
                <a:cubicBezTo>
                  <a:pt x="1838" y="3637"/>
                  <a:pt x="1529" y="3670"/>
                  <a:pt x="1501" y="3754"/>
                </a:cubicBezTo>
                <a:cubicBezTo>
                  <a:pt x="1473" y="3838"/>
                  <a:pt x="1572" y="3997"/>
                  <a:pt x="1805" y="4066"/>
                </a:cubicBezTo>
                <a:cubicBezTo>
                  <a:pt x="2038" y="4135"/>
                  <a:pt x="2673" y="4148"/>
                  <a:pt x="2901" y="417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7960" y="5345280"/>
            <a:ext cx="4979880" cy="4233600"/>
          </a:xfrm>
          <a:custGeom>
            <a:avLst/>
            <a:gdLst/>
            <a:ahLst/>
            <a:rect l="l" t="t" r="r" b="b"/>
            <a:pathLst>
              <a:path w="3137" h="2667">
                <a:moveTo>
                  <a:pt x="0" y="0"/>
                </a:moveTo>
                <a:cubicBezTo>
                  <a:pt x="84" y="40"/>
                  <a:pt x="416" y="171"/>
                  <a:pt x="539" y="238"/>
                </a:cubicBezTo>
                <a:cubicBezTo>
                  <a:pt x="662" y="305"/>
                  <a:pt x="690" y="353"/>
                  <a:pt x="736" y="401"/>
                </a:cubicBezTo>
                <a:cubicBezTo>
                  <a:pt x="782" y="449"/>
                  <a:pt x="801" y="461"/>
                  <a:pt x="814" y="527"/>
                </a:cubicBezTo>
                <a:cubicBezTo>
                  <a:pt x="827" y="593"/>
                  <a:pt x="806" y="724"/>
                  <a:pt x="814" y="797"/>
                </a:cubicBezTo>
                <a:cubicBezTo>
                  <a:pt x="822" y="870"/>
                  <a:pt x="841" y="906"/>
                  <a:pt x="862" y="965"/>
                </a:cubicBezTo>
                <a:cubicBezTo>
                  <a:pt x="883" y="1024"/>
                  <a:pt x="881" y="1085"/>
                  <a:pt x="940" y="1151"/>
                </a:cubicBezTo>
                <a:cubicBezTo>
                  <a:pt x="999" y="1217"/>
                  <a:pt x="1132" y="1325"/>
                  <a:pt x="1216" y="1362"/>
                </a:cubicBezTo>
                <a:cubicBezTo>
                  <a:pt x="1300" y="1399"/>
                  <a:pt x="1302" y="1299"/>
                  <a:pt x="1445" y="1371"/>
                </a:cubicBezTo>
                <a:cubicBezTo>
                  <a:pt x="1588" y="1443"/>
                  <a:pt x="1889" y="1637"/>
                  <a:pt x="2075" y="1792"/>
                </a:cubicBezTo>
                <a:cubicBezTo>
                  <a:pt x="2261" y="1947"/>
                  <a:pt x="2453" y="2165"/>
                  <a:pt x="2560" y="2304"/>
                </a:cubicBezTo>
                <a:cubicBezTo>
                  <a:pt x="2667" y="2443"/>
                  <a:pt x="3137" y="2581"/>
                  <a:pt x="2715" y="2624"/>
                </a:cubicBezTo>
                <a:cubicBezTo>
                  <a:pt x="2293" y="2667"/>
                  <a:pt x="587" y="2573"/>
                  <a:pt x="27" y="2560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14440" y="5143680"/>
            <a:ext cx="5505480" cy="3247920"/>
          </a:xfrm>
          <a:custGeom>
            <a:avLst/>
            <a:gdLst/>
            <a:ahLst/>
            <a:rect l="l" t="t" r="r" b="b"/>
            <a:pathLst>
              <a:path w="3468" h="2046">
                <a:moveTo>
                  <a:pt x="11" y="0"/>
                </a:moveTo>
                <a:cubicBezTo>
                  <a:pt x="20" y="23"/>
                  <a:pt x="0" y="78"/>
                  <a:pt x="102" y="137"/>
                </a:cubicBezTo>
                <a:cubicBezTo>
                  <a:pt x="204" y="196"/>
                  <a:pt x="496" y="271"/>
                  <a:pt x="623" y="357"/>
                </a:cubicBezTo>
                <a:cubicBezTo>
                  <a:pt x="750" y="443"/>
                  <a:pt x="828" y="562"/>
                  <a:pt x="864" y="654"/>
                </a:cubicBezTo>
                <a:cubicBezTo>
                  <a:pt x="900" y="746"/>
                  <a:pt x="795" y="774"/>
                  <a:pt x="840" y="906"/>
                </a:cubicBezTo>
                <a:cubicBezTo>
                  <a:pt x="885" y="1038"/>
                  <a:pt x="979" y="1355"/>
                  <a:pt x="1135" y="1445"/>
                </a:cubicBezTo>
                <a:cubicBezTo>
                  <a:pt x="1291" y="1535"/>
                  <a:pt x="1610" y="1381"/>
                  <a:pt x="1775" y="1445"/>
                </a:cubicBezTo>
                <a:cubicBezTo>
                  <a:pt x="1940" y="1509"/>
                  <a:pt x="2027" y="1744"/>
                  <a:pt x="2123" y="1829"/>
                </a:cubicBezTo>
                <a:cubicBezTo>
                  <a:pt x="2219" y="1914"/>
                  <a:pt x="2286" y="1924"/>
                  <a:pt x="2352" y="1956"/>
                </a:cubicBezTo>
                <a:cubicBezTo>
                  <a:pt x="2418" y="1988"/>
                  <a:pt x="2428" y="2046"/>
                  <a:pt x="2520" y="2022"/>
                </a:cubicBezTo>
                <a:cubicBezTo>
                  <a:pt x="2612" y="1998"/>
                  <a:pt x="2746" y="1862"/>
                  <a:pt x="2904" y="1812"/>
                </a:cubicBezTo>
                <a:cubicBezTo>
                  <a:pt x="3062" y="1762"/>
                  <a:pt x="3351" y="1741"/>
                  <a:pt x="3468" y="1722"/>
                </a:cubicBezTo>
              </a:path>
            </a:pathLst>
          </a:custGeom>
          <a:noFill/>
          <a:ln w="5724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320" y="9372600"/>
            <a:ext cx="6705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rot="20921400">
            <a:off x="4572000" y="61718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20921400">
            <a:off x="5334120" y="80006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rot="20629800">
            <a:off x="4343040" y="88390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rot="20996400">
            <a:off x="3962520" y="85341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rot="21053400">
            <a:off x="3809880" y="82292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21270600">
            <a:off x="4571640" y="8458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rot="20996400">
            <a:off x="3048120" y="7009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rot="19171800">
            <a:off x="2438280" y="6476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rot="19171800">
            <a:off x="3886200" y="75434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rot="19171800">
            <a:off x="4419720" y="792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19171800">
            <a:off x="4876560" y="754344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20488200">
            <a:off x="3124080" y="76201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21043800">
            <a:off x="4419360" y="5866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20478600">
            <a:off x="5257440" y="62481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21228000">
            <a:off x="4876560" y="70866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351000">
            <a:off x="3352320" y="701028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rot="19856400">
            <a:off x="5257800" y="731484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19725600">
            <a:off x="5334120" y="65527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rot="20569800">
            <a:off x="5334120" y="69343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rot="20629800">
            <a:off x="4190760" y="6172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7800" y="5054760"/>
            <a:ext cx="3897360" cy="3603600"/>
          </a:xfrm>
          <a:custGeom>
            <a:avLst/>
            <a:gdLst/>
            <a:ahLst/>
            <a:rect l="l" t="t" r="r" b="b"/>
            <a:pathLst>
              <a:path w="2455" h="2270">
                <a:moveTo>
                  <a:pt x="11" y="0"/>
                </a:moveTo>
                <a:cubicBezTo>
                  <a:pt x="20" y="23"/>
                  <a:pt x="0" y="78"/>
                  <a:pt x="102" y="137"/>
                </a:cubicBezTo>
                <a:cubicBezTo>
                  <a:pt x="204" y="196"/>
                  <a:pt x="494" y="267"/>
                  <a:pt x="623" y="357"/>
                </a:cubicBezTo>
                <a:cubicBezTo>
                  <a:pt x="752" y="447"/>
                  <a:pt x="838" y="581"/>
                  <a:pt x="879" y="677"/>
                </a:cubicBezTo>
                <a:cubicBezTo>
                  <a:pt x="920" y="773"/>
                  <a:pt x="827" y="805"/>
                  <a:pt x="870" y="933"/>
                </a:cubicBezTo>
                <a:cubicBezTo>
                  <a:pt x="913" y="1061"/>
                  <a:pt x="984" y="1360"/>
                  <a:pt x="1135" y="1445"/>
                </a:cubicBezTo>
                <a:cubicBezTo>
                  <a:pt x="1286" y="1530"/>
                  <a:pt x="1610" y="1381"/>
                  <a:pt x="1775" y="1445"/>
                </a:cubicBezTo>
                <a:cubicBezTo>
                  <a:pt x="1940" y="1509"/>
                  <a:pt x="2033" y="1754"/>
                  <a:pt x="2123" y="1829"/>
                </a:cubicBezTo>
                <a:cubicBezTo>
                  <a:pt x="2213" y="1904"/>
                  <a:pt x="2262" y="1840"/>
                  <a:pt x="2315" y="1893"/>
                </a:cubicBezTo>
                <a:cubicBezTo>
                  <a:pt x="2368" y="1946"/>
                  <a:pt x="2431" y="2086"/>
                  <a:pt x="2443" y="2149"/>
                </a:cubicBezTo>
                <a:cubicBezTo>
                  <a:pt x="2455" y="2212"/>
                  <a:pt x="2401" y="2245"/>
                  <a:pt x="2390" y="2270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064040" y="7721640"/>
            <a:ext cx="237960" cy="228600"/>
          </a:xfrm>
          <a:custGeom>
            <a:avLst/>
            <a:gdLst/>
            <a:ahLst/>
            <a:rect l="l" t="t" r="r" b="b"/>
            <a:pathLst>
              <a:path w="150" h="144">
                <a:moveTo>
                  <a:pt x="0" y="54"/>
                </a:moveTo>
                <a:lnTo>
                  <a:pt x="6" y="144"/>
                </a:lnTo>
                <a:lnTo>
                  <a:pt x="102" y="144"/>
                </a:lnTo>
                <a:lnTo>
                  <a:pt x="150" y="96"/>
                </a:lnTo>
                <a:lnTo>
                  <a:pt x="102" y="0"/>
                </a:lnTo>
                <a:lnTo>
                  <a:pt x="0" y="5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629400" y="2819520"/>
            <a:ext cx="228600" cy="647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9103400">
            <a:off x="3047760" y="815292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22860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ノームの集落：ラスルン村の周辺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所属：なし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村長：“スピニング” シーボ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ノーム、男、バー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口：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00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ゲーム中の取引上限価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200{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芸術品や薬、練金関連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000gp}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主な施設：利用可能な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雑貨屋：“ガラクタ売り”のルンヴァ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キスパー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鍛冶・錬金術工房：“甘辛風味の”スコルダル・ワンヘ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エキスパー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ビアホール“ウサギ亭”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“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ぷたぷなる”ジャヌワン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モナ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ガー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ノームの守護神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礼拝所：司祭”囁く金の”ヴァルネブ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リッ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魔法工房：“ユラユラなる”ヘドミッ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ウィザー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見張り小屋：自警団長“穴熊の” ガエリエン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ウォリア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：森林巡視員“土砂隠れの” ズック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レンジャー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劇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旅人用の宿を兼ねる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1gp/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4876920" y="304920"/>
            <a:ext cx="1609200" cy="1481760"/>
            <a:chOff x="4876920" y="304920"/>
            <a:chExt cx="1609200" cy="1481760"/>
          </a:xfrm>
        </p:grpSpPr>
        <p:grpSp>
          <p:nvGrpSpPr>
            <p:cNvPr id="850" name=""/>
            <p:cNvGrpSpPr/>
            <p:nvPr/>
          </p:nvGrpSpPr>
          <p:grpSpPr>
            <a:xfrm>
              <a:off x="5648040" y="1114560"/>
              <a:ext cx="838080" cy="648000"/>
              <a:chOff x="5648040" y="1114560"/>
              <a:chExt cx="838080" cy="648000"/>
            </a:xfrm>
          </p:grpSpPr>
          <p:grpSp>
            <p:nvGrpSpPr>
              <p:cNvPr id="851" name=""/>
              <p:cNvGrpSpPr/>
              <p:nvPr/>
            </p:nvGrpSpPr>
            <p:grpSpPr>
              <a:xfrm>
                <a:off x="5648040" y="1228680"/>
                <a:ext cx="152280" cy="414360"/>
                <a:chOff x="5648040" y="1228680"/>
                <a:chExt cx="152280" cy="41436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5648040" y="1228680"/>
                  <a:ext cx="152280" cy="0"/>
                </a:xfrm>
                <a:prstGeom prst="line">
                  <a:avLst/>
                </a:prstGeom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648040" y="1452600"/>
                  <a:ext cx="152280" cy="0"/>
                </a:xfrm>
                <a:prstGeom prst="line">
                  <a:avLst/>
                </a:prstGeom>
                <a:ln w="19080">
                  <a:solidFill>
                    <a:srgbClr val="cc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5648040" y="1643040"/>
                  <a:ext cx="152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>
                <a:off x="5733720" y="1114560"/>
                <a:ext cx="752400" cy="64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道・石橋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丸木橋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防壁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4876920" y="304920"/>
              <a:ext cx="1380600" cy="1481760"/>
              <a:chOff x="4876920" y="304920"/>
              <a:chExt cx="1380600" cy="1481760"/>
            </a:xfrm>
          </p:grpSpPr>
          <p:sp>
            <p:nvSpPr>
              <p:cNvPr id="857" name=""/>
              <p:cNvSpPr/>
              <p:nvPr/>
            </p:nvSpPr>
            <p:spPr>
              <a:xfrm>
                <a:off x="4876920" y="924120"/>
                <a:ext cx="152280" cy="1522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76920" y="1533600"/>
                <a:ext cx="152280" cy="1522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76920" y="1333800"/>
                <a:ext cx="152280" cy="1522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76920" y="1152720"/>
                <a:ext cx="152280" cy="1522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76920" y="34776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962240" y="304920"/>
                <a:ext cx="1295280" cy="148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居住区画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居住区画（富裕層）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居住区画（貧民層）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畑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牧場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水辺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森林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76920" y="542880"/>
                <a:ext cx="15228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76920" y="733680"/>
                <a:ext cx="152280" cy="1522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5" name=""/>
          <p:cNvSpPr/>
          <p:nvPr/>
        </p:nvSpPr>
        <p:spPr>
          <a:xfrm>
            <a:off x="2017800" y="2905200"/>
            <a:ext cx="2801880" cy="3325680"/>
          </a:xfrm>
          <a:custGeom>
            <a:avLst/>
            <a:gdLst/>
            <a:ahLst/>
            <a:rect l="l" t="t" r="r" b="b"/>
            <a:pathLst>
              <a:path w="1765" h="2095">
                <a:moveTo>
                  <a:pt x="1765" y="0"/>
                </a:moveTo>
                <a:cubicBezTo>
                  <a:pt x="1740" y="56"/>
                  <a:pt x="1682" y="248"/>
                  <a:pt x="1615" y="360"/>
                </a:cubicBezTo>
                <a:cubicBezTo>
                  <a:pt x="1548" y="472"/>
                  <a:pt x="1420" y="598"/>
                  <a:pt x="1363" y="672"/>
                </a:cubicBezTo>
                <a:cubicBezTo>
                  <a:pt x="1306" y="746"/>
                  <a:pt x="1353" y="748"/>
                  <a:pt x="1273" y="804"/>
                </a:cubicBezTo>
                <a:cubicBezTo>
                  <a:pt x="1193" y="860"/>
                  <a:pt x="965" y="906"/>
                  <a:pt x="881" y="1010"/>
                </a:cubicBezTo>
                <a:cubicBezTo>
                  <a:pt x="797" y="1114"/>
                  <a:pt x="823" y="1278"/>
                  <a:pt x="768" y="1427"/>
                </a:cubicBezTo>
                <a:cubicBezTo>
                  <a:pt x="713" y="1576"/>
                  <a:pt x="629" y="1808"/>
                  <a:pt x="548" y="1903"/>
                </a:cubicBezTo>
                <a:cubicBezTo>
                  <a:pt x="467" y="1998"/>
                  <a:pt x="374" y="1962"/>
                  <a:pt x="283" y="1994"/>
                </a:cubicBezTo>
                <a:cubicBezTo>
                  <a:pt x="192" y="2026"/>
                  <a:pt x="59" y="2074"/>
                  <a:pt x="0" y="2095"/>
                </a:cubicBezTo>
              </a:path>
            </a:pathLst>
          </a:custGeom>
          <a:noFill/>
          <a:ln w="190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227480" y="7513560"/>
            <a:ext cx="639720" cy="525600"/>
          </a:xfrm>
          <a:custGeom>
            <a:avLst/>
            <a:gdLst/>
            <a:ahLst/>
            <a:rect l="l" t="t" r="r" b="b"/>
            <a:pathLst>
              <a:path w="403" h="331">
                <a:moveTo>
                  <a:pt x="403" y="43"/>
                </a:moveTo>
                <a:cubicBezTo>
                  <a:pt x="386" y="36"/>
                  <a:pt x="341" y="0"/>
                  <a:pt x="301" y="1"/>
                </a:cubicBezTo>
                <a:cubicBezTo>
                  <a:pt x="261" y="2"/>
                  <a:pt x="197" y="8"/>
                  <a:pt x="164" y="48"/>
                </a:cubicBezTo>
                <a:cubicBezTo>
                  <a:pt x="131" y="88"/>
                  <a:pt x="127" y="193"/>
                  <a:pt x="100" y="240"/>
                </a:cubicBezTo>
                <a:cubicBezTo>
                  <a:pt x="73" y="287"/>
                  <a:pt x="21" y="312"/>
                  <a:pt x="0" y="331"/>
                </a:cubicBezTo>
              </a:path>
            </a:pathLst>
          </a:custGeom>
          <a:noFill/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2600" y="2776680"/>
            <a:ext cx="4473360" cy="3349440"/>
          </a:xfrm>
          <a:custGeom>
            <a:avLst/>
            <a:gdLst/>
            <a:ahLst/>
            <a:rect l="l" t="t" r="r" b="b"/>
            <a:pathLst>
              <a:path w="2818" h="2110">
                <a:moveTo>
                  <a:pt x="0" y="15"/>
                </a:moveTo>
                <a:cubicBezTo>
                  <a:pt x="399" y="19"/>
                  <a:pt x="1970" y="0"/>
                  <a:pt x="2394" y="39"/>
                </a:cubicBezTo>
                <a:cubicBezTo>
                  <a:pt x="2818" y="78"/>
                  <a:pt x="2579" y="116"/>
                  <a:pt x="2544" y="249"/>
                </a:cubicBezTo>
                <a:cubicBezTo>
                  <a:pt x="2509" y="382"/>
                  <a:pt x="2314" y="704"/>
                  <a:pt x="2184" y="837"/>
                </a:cubicBezTo>
                <a:cubicBezTo>
                  <a:pt x="2054" y="970"/>
                  <a:pt x="1850" y="940"/>
                  <a:pt x="1764" y="1047"/>
                </a:cubicBezTo>
                <a:cubicBezTo>
                  <a:pt x="1678" y="1154"/>
                  <a:pt x="1698" y="1369"/>
                  <a:pt x="1668" y="1479"/>
                </a:cubicBezTo>
                <a:cubicBezTo>
                  <a:pt x="1638" y="1589"/>
                  <a:pt x="1626" y="1624"/>
                  <a:pt x="1584" y="1707"/>
                </a:cubicBezTo>
                <a:cubicBezTo>
                  <a:pt x="1542" y="1790"/>
                  <a:pt x="1475" y="1925"/>
                  <a:pt x="1416" y="1977"/>
                </a:cubicBezTo>
                <a:cubicBezTo>
                  <a:pt x="1357" y="2029"/>
                  <a:pt x="1322" y="1998"/>
                  <a:pt x="1230" y="2019"/>
                </a:cubicBezTo>
                <a:cubicBezTo>
                  <a:pt x="1138" y="2040"/>
                  <a:pt x="929" y="2110"/>
                  <a:pt x="864" y="2103"/>
                </a:cubicBezTo>
                <a:cubicBezTo>
                  <a:pt x="799" y="2096"/>
                  <a:pt x="830" y="2029"/>
                  <a:pt x="840" y="1977"/>
                </a:cubicBezTo>
                <a:cubicBezTo>
                  <a:pt x="850" y="1925"/>
                  <a:pt x="945" y="1843"/>
                  <a:pt x="924" y="1791"/>
                </a:cubicBezTo>
                <a:cubicBezTo>
                  <a:pt x="903" y="1739"/>
                  <a:pt x="840" y="1710"/>
                  <a:pt x="714" y="1665"/>
                </a:cubicBezTo>
                <a:cubicBezTo>
                  <a:pt x="588" y="1620"/>
                  <a:pt x="283" y="1573"/>
                  <a:pt x="168" y="1521"/>
                </a:cubicBezTo>
                <a:cubicBezTo>
                  <a:pt x="53" y="1469"/>
                  <a:pt x="54" y="1388"/>
                  <a:pt x="24" y="1353"/>
                </a:cubicBez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114800" y="70102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4800" y="7115040"/>
            <a:ext cx="371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劇場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2280" y="4724280"/>
            <a:ext cx="198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クロックポー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62320" y="642924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見張り小屋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86200" y="8458200"/>
            <a:ext cx="533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鍛冶工房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 flipV="1">
            <a:off x="4438800" y="8020080"/>
            <a:ext cx="209520" cy="28584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419720" y="822960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ビアホール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038480" y="7543800"/>
            <a:ext cx="5335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雑貨屋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24280" y="7543800"/>
            <a:ext cx="6098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ガール神殿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4114440" y="7696080"/>
            <a:ext cx="152280" cy="22860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 flipV="1">
            <a:off x="4400280" y="8299080"/>
            <a:ext cx="75960" cy="15228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3267000" y="7362720"/>
            <a:ext cx="0" cy="15264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59320" y="6473880"/>
            <a:ext cx="708120" cy="538200"/>
          </a:xfrm>
          <a:custGeom>
            <a:avLst/>
            <a:gdLst/>
            <a:ahLst/>
            <a:rect l="l" t="t" r="r" b="b"/>
            <a:pathLst>
              <a:path w="446" h="339">
                <a:moveTo>
                  <a:pt x="23" y="242"/>
                </a:moveTo>
                <a:cubicBezTo>
                  <a:pt x="0" y="216"/>
                  <a:pt x="7" y="209"/>
                  <a:pt x="29" y="182"/>
                </a:cubicBezTo>
                <a:cubicBezTo>
                  <a:pt x="51" y="155"/>
                  <a:pt x="92" y="108"/>
                  <a:pt x="155" y="80"/>
                </a:cubicBezTo>
                <a:cubicBezTo>
                  <a:pt x="218" y="52"/>
                  <a:pt x="368" y="0"/>
                  <a:pt x="407" y="14"/>
                </a:cubicBezTo>
                <a:cubicBezTo>
                  <a:pt x="446" y="28"/>
                  <a:pt x="396" y="125"/>
                  <a:pt x="389" y="164"/>
                </a:cubicBezTo>
                <a:cubicBezTo>
                  <a:pt x="382" y="203"/>
                  <a:pt x="402" y="219"/>
                  <a:pt x="365" y="248"/>
                </a:cubicBezTo>
                <a:cubicBezTo>
                  <a:pt x="328" y="277"/>
                  <a:pt x="224" y="339"/>
                  <a:pt x="167" y="338"/>
                </a:cubicBezTo>
                <a:cubicBezTo>
                  <a:pt x="110" y="337"/>
                  <a:pt x="39" y="258"/>
                  <a:pt x="23" y="242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133720" y="9324720"/>
            <a:ext cx="29908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6320" y="2666880"/>
            <a:ext cx="6705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343400" y="259092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至グラブフォ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19725600">
            <a:off x="3809880" y="32763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21043800">
            <a:off x="5409720" y="533376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98880" y="3500280"/>
            <a:ext cx="268200" cy="462240"/>
          </a:xfrm>
          <a:custGeom>
            <a:avLst/>
            <a:gdLst/>
            <a:ahLst/>
            <a:rect l="l" t="t" r="r" b="b"/>
            <a:pathLst>
              <a:path w="169" h="291">
                <a:moveTo>
                  <a:pt x="0" y="0"/>
                </a:moveTo>
                <a:cubicBezTo>
                  <a:pt x="16" y="12"/>
                  <a:pt x="41" y="19"/>
                  <a:pt x="48" y="48"/>
                </a:cubicBezTo>
                <a:cubicBezTo>
                  <a:pt x="55" y="77"/>
                  <a:pt x="34" y="134"/>
                  <a:pt x="42" y="174"/>
                </a:cubicBezTo>
                <a:cubicBezTo>
                  <a:pt x="50" y="214"/>
                  <a:pt x="75" y="285"/>
                  <a:pt x="96" y="288"/>
                </a:cubicBezTo>
                <a:cubicBezTo>
                  <a:pt x="117" y="291"/>
                  <a:pt x="167" y="208"/>
                  <a:pt x="168" y="192"/>
                </a:cubicBezTo>
                <a:cubicBezTo>
                  <a:pt x="169" y="176"/>
                  <a:pt x="114" y="216"/>
                  <a:pt x="102" y="192"/>
                </a:cubicBezTo>
                <a:cubicBezTo>
                  <a:pt x="90" y="168"/>
                  <a:pt x="105" y="80"/>
                  <a:pt x="96" y="48"/>
                </a:cubicBezTo>
                <a:cubicBezTo>
                  <a:pt x="87" y="16"/>
                  <a:pt x="68" y="12"/>
                  <a:pt x="48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476680" y="7915320"/>
            <a:ext cx="75960" cy="152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400720" y="7763040"/>
            <a:ext cx="609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" spc="-1" strike="noStrike">
                <a:solidFill>
                  <a:srgbClr val="3333cc"/>
                </a:solidFill>
                <a:latin typeface="ＭＳ ゴシック"/>
                <a:ea typeface="ＭＳ ゴシック"/>
              </a:rPr>
              <a:t>魔法工房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457200" y="304920"/>
            <a:ext cx="609588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4920" y="940608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4 [1.1]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952880" y="4933800"/>
            <a:ext cx="1600200" cy="4534200"/>
          </a:xfrm>
          <a:custGeom>
            <a:avLst/>
            <a:gdLst/>
            <a:ahLst/>
            <a:rect l="l" t="t" r="r" b="b"/>
            <a:pathLst>
              <a:path w="1008" h="2856">
                <a:moveTo>
                  <a:pt x="1008" y="0"/>
                </a:moveTo>
                <a:lnTo>
                  <a:pt x="420" y="444"/>
                </a:lnTo>
                <a:lnTo>
                  <a:pt x="336" y="888"/>
                </a:lnTo>
                <a:lnTo>
                  <a:pt x="48" y="1140"/>
                </a:lnTo>
                <a:lnTo>
                  <a:pt x="0" y="1476"/>
                </a:lnTo>
                <a:lnTo>
                  <a:pt x="300" y="1932"/>
                </a:lnTo>
                <a:lnTo>
                  <a:pt x="468" y="2100"/>
                </a:lnTo>
                <a:lnTo>
                  <a:pt x="384" y="2448"/>
                </a:lnTo>
                <a:lnTo>
                  <a:pt x="384" y="2856"/>
                </a:lnTo>
                <a:lnTo>
                  <a:pt x="972" y="2856"/>
                </a:lnTo>
                <a:lnTo>
                  <a:pt x="1008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305080" y="285840"/>
            <a:ext cx="3095640" cy="9182160"/>
          </a:xfrm>
          <a:custGeom>
            <a:avLst/>
            <a:gdLst/>
            <a:ahLst/>
            <a:rect l="l" t="t" r="r" b="b"/>
            <a:pathLst>
              <a:path w="1950" h="5784">
                <a:moveTo>
                  <a:pt x="1920" y="36"/>
                </a:moveTo>
                <a:cubicBezTo>
                  <a:pt x="1848" y="576"/>
                  <a:pt x="1950" y="1204"/>
                  <a:pt x="1920" y="1656"/>
                </a:cubicBezTo>
                <a:cubicBezTo>
                  <a:pt x="1890" y="2108"/>
                  <a:pt x="1784" y="2474"/>
                  <a:pt x="1740" y="2748"/>
                </a:cubicBezTo>
                <a:cubicBezTo>
                  <a:pt x="1696" y="3022"/>
                  <a:pt x="1740" y="3062"/>
                  <a:pt x="1656" y="3300"/>
                </a:cubicBezTo>
                <a:cubicBezTo>
                  <a:pt x="1572" y="3538"/>
                  <a:pt x="1328" y="3946"/>
                  <a:pt x="1236" y="4176"/>
                </a:cubicBezTo>
                <a:cubicBezTo>
                  <a:pt x="1144" y="4406"/>
                  <a:pt x="1148" y="4418"/>
                  <a:pt x="1104" y="4680"/>
                </a:cubicBezTo>
                <a:cubicBezTo>
                  <a:pt x="1060" y="4942"/>
                  <a:pt x="1000" y="5570"/>
                  <a:pt x="972" y="5748"/>
                </a:cubicBezTo>
                <a:cubicBezTo>
                  <a:pt x="768" y="5748"/>
                  <a:pt x="1096" y="5742"/>
                  <a:pt x="936" y="5748"/>
                </a:cubicBezTo>
                <a:cubicBezTo>
                  <a:pt x="776" y="5754"/>
                  <a:pt x="348" y="5748"/>
                  <a:pt x="12" y="5784"/>
                </a:cubicBezTo>
                <a:cubicBezTo>
                  <a:pt x="0" y="5624"/>
                  <a:pt x="97" y="5257"/>
                  <a:pt x="120" y="5052"/>
                </a:cubicBezTo>
                <a:cubicBezTo>
                  <a:pt x="143" y="4847"/>
                  <a:pt x="46" y="4910"/>
                  <a:pt x="148" y="4554"/>
                </a:cubicBezTo>
                <a:cubicBezTo>
                  <a:pt x="250" y="4198"/>
                  <a:pt x="599" y="3393"/>
                  <a:pt x="732" y="2916"/>
                </a:cubicBezTo>
                <a:cubicBezTo>
                  <a:pt x="865" y="2439"/>
                  <a:pt x="910" y="2172"/>
                  <a:pt x="948" y="1692"/>
                </a:cubicBezTo>
                <a:cubicBezTo>
                  <a:pt x="986" y="1212"/>
                  <a:pt x="798" y="312"/>
                  <a:pt x="960" y="36"/>
                </a:cubicBezTo>
                <a:cubicBezTo>
                  <a:pt x="1380" y="24"/>
                  <a:pt x="1596" y="0"/>
                  <a:pt x="1920" y="36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5907600">
            <a:off x="2337120" y="238680"/>
            <a:ext cx="1271520" cy="1400040"/>
          </a:xfrm>
          <a:prstGeom prst="cloudCallout">
            <a:avLst>
              <a:gd name="adj1" fmla="val -12953"/>
              <a:gd name="adj2" fmla="val -518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095560" y="2685960"/>
            <a:ext cx="914400" cy="914400"/>
          </a:xfrm>
          <a:prstGeom prst="cloudCallout">
            <a:avLst>
              <a:gd name="adj1" fmla="val 16495"/>
              <a:gd name="adj2" fmla="val -43055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343400" y="8229600"/>
            <a:ext cx="762120" cy="1219320"/>
          </a:xfrm>
          <a:prstGeom prst="cloudCallout">
            <a:avLst>
              <a:gd name="adj1" fmla="val 49791"/>
              <a:gd name="adj2" fmla="val -13541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90920" y="2895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5400000">
            <a:off x="723240" y="2247840"/>
            <a:ext cx="457200" cy="1143000"/>
          </a:xfrm>
          <a:prstGeom prst="cloudCallout">
            <a:avLst>
              <a:gd name="adj1" fmla="val 34027"/>
              <a:gd name="adj2" fmla="val -14305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7200" y="2724120"/>
            <a:ext cx="2133720" cy="5486400"/>
          </a:xfrm>
          <a:custGeom>
            <a:avLst/>
            <a:gdLst/>
            <a:ahLst/>
            <a:rect l="l" t="t" r="r" b="b"/>
            <a:pathLst>
              <a:path w="1344" h="3456">
                <a:moveTo>
                  <a:pt x="0" y="204"/>
                </a:moveTo>
                <a:lnTo>
                  <a:pt x="204" y="204"/>
                </a:lnTo>
                <a:lnTo>
                  <a:pt x="420" y="0"/>
                </a:lnTo>
                <a:lnTo>
                  <a:pt x="840" y="36"/>
                </a:lnTo>
                <a:lnTo>
                  <a:pt x="960" y="408"/>
                </a:lnTo>
                <a:lnTo>
                  <a:pt x="924" y="456"/>
                </a:lnTo>
                <a:lnTo>
                  <a:pt x="1260" y="624"/>
                </a:lnTo>
                <a:lnTo>
                  <a:pt x="1344" y="1164"/>
                </a:lnTo>
                <a:lnTo>
                  <a:pt x="1212" y="1428"/>
                </a:lnTo>
                <a:lnTo>
                  <a:pt x="984" y="1560"/>
                </a:lnTo>
                <a:lnTo>
                  <a:pt x="863" y="2003"/>
                </a:lnTo>
                <a:lnTo>
                  <a:pt x="672" y="2196"/>
                </a:lnTo>
                <a:lnTo>
                  <a:pt x="336" y="2736"/>
                </a:lnTo>
                <a:lnTo>
                  <a:pt x="300" y="3072"/>
                </a:lnTo>
                <a:lnTo>
                  <a:pt x="84" y="3288"/>
                </a:lnTo>
                <a:lnTo>
                  <a:pt x="0" y="3456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418680" y="3105000"/>
            <a:ext cx="1257480" cy="1219320"/>
            <a:chOff x="418680" y="3105000"/>
            <a:chExt cx="1257480" cy="1219320"/>
          </a:xfrm>
        </p:grpSpPr>
        <p:sp>
          <p:nvSpPr>
            <p:cNvPr id="900" name=""/>
            <p:cNvSpPr/>
            <p:nvPr/>
          </p:nvSpPr>
          <p:spPr>
            <a:xfrm rot="5400000">
              <a:off x="466200" y="3114360"/>
              <a:ext cx="1162080" cy="1257480"/>
            </a:xfrm>
            <a:custGeom>
              <a:avLst/>
              <a:gdLst/>
              <a:ahLst/>
              <a:rect l="l" t="t" r="r" b="b"/>
              <a:pathLst>
                <a:path w="732" h="792">
                  <a:moveTo>
                    <a:pt x="48" y="84"/>
                  </a:moveTo>
                  <a:lnTo>
                    <a:pt x="422" y="0"/>
                  </a:lnTo>
                  <a:lnTo>
                    <a:pt x="732" y="94"/>
                  </a:lnTo>
                  <a:lnTo>
                    <a:pt x="732" y="282"/>
                  </a:lnTo>
                  <a:lnTo>
                    <a:pt x="546" y="477"/>
                  </a:lnTo>
                  <a:lnTo>
                    <a:pt x="422" y="792"/>
                  </a:lnTo>
                  <a:lnTo>
                    <a:pt x="125" y="752"/>
                  </a:lnTo>
                  <a:lnTo>
                    <a:pt x="0" y="300"/>
                  </a:lnTo>
                  <a:lnTo>
                    <a:pt x="4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5400000">
              <a:off x="475920" y="3085920"/>
              <a:ext cx="1086120" cy="1123920"/>
            </a:xfrm>
            <a:custGeom>
              <a:avLst/>
              <a:gdLst/>
              <a:ahLst/>
              <a:rect l="l" t="t" r="r" b="b"/>
              <a:pathLst>
                <a:path w="684" h="708">
                  <a:moveTo>
                    <a:pt x="72" y="60"/>
                  </a:moveTo>
                  <a:lnTo>
                    <a:pt x="384" y="0"/>
                  </a:lnTo>
                  <a:lnTo>
                    <a:pt x="684" y="84"/>
                  </a:lnTo>
                  <a:lnTo>
                    <a:pt x="684" y="252"/>
                  </a:lnTo>
                  <a:lnTo>
                    <a:pt x="504" y="426"/>
                  </a:lnTo>
                  <a:lnTo>
                    <a:pt x="384" y="708"/>
                  </a:lnTo>
                  <a:lnTo>
                    <a:pt x="96" y="672"/>
                  </a:lnTo>
                  <a:lnTo>
                    <a:pt x="0" y="264"/>
                  </a:lnTo>
                  <a:lnTo>
                    <a:pt x="72" y="6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5257800" y="285840"/>
            <a:ext cx="1295280" cy="1695240"/>
          </a:xfrm>
          <a:custGeom>
            <a:avLst/>
            <a:gdLst/>
            <a:ahLst/>
            <a:rect l="l" t="t" r="r" b="b"/>
            <a:pathLst>
              <a:path w="816" h="1068">
                <a:moveTo>
                  <a:pt x="96" y="204"/>
                </a:moveTo>
                <a:lnTo>
                  <a:pt x="528" y="0"/>
                </a:lnTo>
                <a:lnTo>
                  <a:pt x="816" y="0"/>
                </a:lnTo>
                <a:lnTo>
                  <a:pt x="816" y="960"/>
                </a:lnTo>
                <a:lnTo>
                  <a:pt x="432" y="1068"/>
                </a:lnTo>
                <a:lnTo>
                  <a:pt x="144" y="1020"/>
                </a:lnTo>
                <a:lnTo>
                  <a:pt x="0" y="636"/>
                </a:lnTo>
                <a:lnTo>
                  <a:pt x="96" y="20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724280" y="85345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905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909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4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2" name=""/>
          <p:cNvGrpSpPr/>
          <p:nvPr/>
        </p:nvGrpSpPr>
        <p:grpSpPr>
          <a:xfrm>
            <a:off x="5562720" y="590400"/>
            <a:ext cx="1143000" cy="554400"/>
            <a:chOff x="5562720" y="590400"/>
            <a:chExt cx="1143000" cy="554400"/>
          </a:xfrm>
        </p:grpSpPr>
        <p:sp>
          <p:nvSpPr>
            <p:cNvPr id="943" name=""/>
            <p:cNvSpPr/>
            <p:nvPr/>
          </p:nvSpPr>
          <p:spPr>
            <a:xfrm>
              <a:off x="5562720" y="590400"/>
              <a:ext cx="1143000" cy="5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下生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39040" y="609480"/>
              <a:ext cx="22860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39040" y="895320"/>
              <a:ext cx="22860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57200" y="304920"/>
            <a:ext cx="6095880" cy="914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4920" y="9469080"/>
            <a:ext cx="6248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5 [3.3]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8120" y="723960"/>
            <a:ext cx="6127920" cy="6467400"/>
          </a:xfrm>
          <a:custGeom>
            <a:avLst/>
            <a:gdLst/>
            <a:ahLst/>
            <a:rect l="l" t="t" r="r" b="b"/>
            <a:pathLst>
              <a:path w="3860" h="4074">
                <a:moveTo>
                  <a:pt x="0" y="0"/>
                </a:moveTo>
                <a:cubicBezTo>
                  <a:pt x="240" y="120"/>
                  <a:pt x="486" y="532"/>
                  <a:pt x="744" y="756"/>
                </a:cubicBezTo>
                <a:cubicBezTo>
                  <a:pt x="988" y="988"/>
                  <a:pt x="1274" y="1300"/>
                  <a:pt x="1464" y="1392"/>
                </a:cubicBezTo>
                <a:cubicBezTo>
                  <a:pt x="1654" y="1484"/>
                  <a:pt x="1744" y="1392"/>
                  <a:pt x="1884" y="1308"/>
                </a:cubicBezTo>
                <a:cubicBezTo>
                  <a:pt x="2024" y="1224"/>
                  <a:pt x="1976" y="972"/>
                  <a:pt x="2304" y="888"/>
                </a:cubicBezTo>
                <a:cubicBezTo>
                  <a:pt x="2632" y="804"/>
                  <a:pt x="3600" y="748"/>
                  <a:pt x="3852" y="804"/>
                </a:cubicBezTo>
                <a:cubicBezTo>
                  <a:pt x="3860" y="804"/>
                  <a:pt x="3816" y="960"/>
                  <a:pt x="3816" y="1224"/>
                </a:cubicBezTo>
                <a:cubicBezTo>
                  <a:pt x="3564" y="1224"/>
                  <a:pt x="2928" y="1176"/>
                  <a:pt x="2676" y="1224"/>
                </a:cubicBezTo>
                <a:cubicBezTo>
                  <a:pt x="2424" y="1272"/>
                  <a:pt x="2402" y="1380"/>
                  <a:pt x="2304" y="1512"/>
                </a:cubicBezTo>
                <a:cubicBezTo>
                  <a:pt x="2206" y="1644"/>
                  <a:pt x="2096" y="1856"/>
                  <a:pt x="2088" y="2016"/>
                </a:cubicBezTo>
                <a:cubicBezTo>
                  <a:pt x="2080" y="2176"/>
                  <a:pt x="2240" y="2394"/>
                  <a:pt x="2256" y="2472"/>
                </a:cubicBezTo>
                <a:cubicBezTo>
                  <a:pt x="2272" y="2550"/>
                  <a:pt x="2134" y="2398"/>
                  <a:pt x="2184" y="2484"/>
                </a:cubicBezTo>
                <a:cubicBezTo>
                  <a:pt x="2234" y="2570"/>
                  <a:pt x="2492" y="2723"/>
                  <a:pt x="2556" y="2988"/>
                </a:cubicBezTo>
                <a:cubicBezTo>
                  <a:pt x="2620" y="3253"/>
                  <a:pt x="2672" y="3893"/>
                  <a:pt x="2568" y="4074"/>
                </a:cubicBezTo>
                <a:cubicBezTo>
                  <a:pt x="2308" y="4074"/>
                  <a:pt x="2120" y="4050"/>
                  <a:pt x="1932" y="4074"/>
                </a:cubicBezTo>
                <a:cubicBezTo>
                  <a:pt x="1920" y="3914"/>
                  <a:pt x="1969" y="3551"/>
                  <a:pt x="1920" y="3360"/>
                </a:cubicBezTo>
                <a:cubicBezTo>
                  <a:pt x="1876" y="3157"/>
                  <a:pt x="1806" y="3088"/>
                  <a:pt x="1668" y="2856"/>
                </a:cubicBezTo>
                <a:cubicBezTo>
                  <a:pt x="1530" y="2624"/>
                  <a:pt x="1300" y="2228"/>
                  <a:pt x="1092" y="1968"/>
                </a:cubicBezTo>
                <a:cubicBezTo>
                  <a:pt x="884" y="1708"/>
                  <a:pt x="596" y="1470"/>
                  <a:pt x="420" y="1296"/>
                </a:cubicBezTo>
                <a:cubicBezTo>
                  <a:pt x="244" y="1122"/>
                  <a:pt x="240" y="1092"/>
                  <a:pt x="36" y="924"/>
                </a:cubicBezTo>
                <a:cubicBezTo>
                  <a:pt x="36" y="672"/>
                  <a:pt x="7" y="192"/>
                  <a:pt x="0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7200" y="8839080"/>
            <a:ext cx="1371600" cy="609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200" y="8991720"/>
            <a:ext cx="1371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066680" y="8458200"/>
            <a:ext cx="685800" cy="3808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2" name="8x2_Lightning.b.180" descr=""/>
          <p:cNvPicPr/>
          <p:nvPr/>
        </p:nvPicPr>
        <p:blipFill>
          <a:blip r:embed="rId6"/>
          <a:stretch/>
        </p:blipFill>
        <p:spPr>
          <a:xfrm>
            <a:off x="2019240" y="8305920"/>
            <a:ext cx="4038840" cy="114300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1828800" y="8305920"/>
            <a:ext cx="1522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19920" y="8305920"/>
            <a:ext cx="15228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828800" y="8077320"/>
            <a:ext cx="1143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029200" y="8077320"/>
            <a:ext cx="1143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4x2_DragonSkeleton.b.180" descr=""/>
          <p:cNvPicPr/>
          <p:nvPr/>
        </p:nvPicPr>
        <p:blipFill>
          <a:blip r:embed="rId7"/>
          <a:stretch/>
        </p:blipFill>
        <p:spPr>
          <a:xfrm>
            <a:off x="2971800" y="716292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2971800" y="8153280"/>
            <a:ext cx="1143000" cy="76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038480" y="8153280"/>
            <a:ext cx="990720" cy="76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076800" y="8915400"/>
            <a:ext cx="76320" cy="5335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8381880"/>
            <a:ext cx="1219320" cy="10670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2x2_Obelisk.a.0" descr=""/>
          <p:cNvPicPr/>
          <p:nvPr/>
        </p:nvPicPr>
        <p:blipFill>
          <a:blip r:embed="rId12"/>
          <a:stretch/>
        </p:blipFill>
        <p:spPr>
          <a:xfrm>
            <a:off x="198108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63" name="2x2_Obelisk.a.0" descr=""/>
          <p:cNvPicPr/>
          <p:nvPr/>
        </p:nvPicPr>
        <p:blipFill>
          <a:blip r:embed="rId13"/>
          <a:stretch/>
        </p:blipFill>
        <p:spPr>
          <a:xfrm>
            <a:off x="5524560" y="603900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4419720" y="3048120"/>
            <a:ext cx="1066680" cy="838080"/>
          </a:xfrm>
          <a:prstGeom prst="cloudCallout">
            <a:avLst>
              <a:gd name="adj1" fmla="val 6995"/>
              <a:gd name="adj2" fmla="val -15152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380880"/>
            <a:ext cx="761760" cy="1219320"/>
          </a:xfrm>
          <a:prstGeom prst="cloudCallout">
            <a:avLst>
              <a:gd name="adj1" fmla="val 49791"/>
              <a:gd name="adj2" fmla="val -13541"/>
            </a:avLst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00600" y="33526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133720" y="9907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279800">
            <a:off x="1295280" y="8076960"/>
            <a:ext cx="457200" cy="68580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970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974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9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"/>
          <p:cNvGrpSpPr/>
          <p:nvPr/>
        </p:nvGrpSpPr>
        <p:grpSpPr>
          <a:xfrm>
            <a:off x="5638680" y="1219320"/>
            <a:ext cx="1143000" cy="554400"/>
            <a:chOff x="5638680" y="1219320"/>
            <a:chExt cx="1143000" cy="554400"/>
          </a:xfrm>
        </p:grpSpPr>
        <p:sp>
          <p:nvSpPr>
            <p:cNvPr id="1008" name=""/>
            <p:cNvSpPr/>
            <p:nvPr/>
          </p:nvSpPr>
          <p:spPr>
            <a:xfrm>
              <a:off x="5638680" y="1219320"/>
              <a:ext cx="1143000" cy="5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下生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715000" y="1238400"/>
              <a:ext cx="228600" cy="228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715000" y="1524240"/>
              <a:ext cx="228600" cy="228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5514120" y="240840"/>
            <a:ext cx="1071720" cy="1072080"/>
            <a:chOff x="5514120" y="240840"/>
            <a:chExt cx="1071720" cy="1072080"/>
          </a:xfrm>
        </p:grpSpPr>
        <p:sp>
          <p:nvSpPr>
            <p:cNvPr id="1012" name=""/>
            <p:cNvSpPr/>
            <p:nvPr/>
          </p:nvSpPr>
          <p:spPr>
            <a:xfrm rot="3057600">
              <a:off x="5668920" y="39564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3057600">
              <a:off x="6145920" y="4665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rot="3057600">
              <a:off x="6111000" y="8773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3057600">
              <a:off x="5695920" y="83160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3057600">
              <a:off x="5733720" y="4496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5877360" y="607320"/>
              <a:ext cx="366480" cy="29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98960" y="666360"/>
              <a:ext cx="239760" cy="29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457200" y="4876920"/>
            <a:ext cx="4572000" cy="457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7200" y="304920"/>
            <a:ext cx="4572000" cy="4800600"/>
          </a:xfrm>
          <a:custGeom>
            <a:avLst/>
            <a:gdLst/>
            <a:ahLst/>
            <a:rect l="l" t="t" r="r" b="b"/>
            <a:pathLst>
              <a:path w="2880" h="3024">
                <a:moveTo>
                  <a:pt x="0" y="0"/>
                </a:moveTo>
                <a:lnTo>
                  <a:pt x="2880" y="0"/>
                </a:lnTo>
                <a:lnTo>
                  <a:pt x="2880" y="2496"/>
                </a:lnTo>
                <a:lnTo>
                  <a:pt x="2364" y="2892"/>
                </a:lnTo>
                <a:lnTo>
                  <a:pt x="2016" y="3024"/>
                </a:lnTo>
                <a:lnTo>
                  <a:pt x="1728" y="2976"/>
                </a:lnTo>
                <a:lnTo>
                  <a:pt x="1440" y="3024"/>
                </a:lnTo>
                <a:lnTo>
                  <a:pt x="1248" y="2832"/>
                </a:lnTo>
                <a:lnTo>
                  <a:pt x="12" y="289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495680" y="7162920"/>
            <a:ext cx="2057400" cy="2286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04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4920" y="940608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6 [5.1](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943440" y="324000"/>
            <a:ext cx="2609640" cy="4038480"/>
          </a:xfrm>
          <a:custGeom>
            <a:avLst/>
            <a:gdLst/>
            <a:ahLst/>
            <a:rect l="l" t="t" r="r" b="b"/>
            <a:pathLst>
              <a:path w="1644" h="2544">
                <a:moveTo>
                  <a:pt x="1308" y="1032"/>
                </a:moveTo>
                <a:lnTo>
                  <a:pt x="1392" y="732"/>
                </a:lnTo>
                <a:lnTo>
                  <a:pt x="1476" y="696"/>
                </a:lnTo>
                <a:lnTo>
                  <a:pt x="1644" y="696"/>
                </a:lnTo>
                <a:lnTo>
                  <a:pt x="1620" y="0"/>
                </a:lnTo>
                <a:lnTo>
                  <a:pt x="660" y="0"/>
                </a:lnTo>
                <a:lnTo>
                  <a:pt x="636" y="360"/>
                </a:lnTo>
                <a:lnTo>
                  <a:pt x="384" y="444"/>
                </a:lnTo>
                <a:lnTo>
                  <a:pt x="384" y="1284"/>
                </a:lnTo>
                <a:lnTo>
                  <a:pt x="48" y="1500"/>
                </a:lnTo>
                <a:lnTo>
                  <a:pt x="0" y="2244"/>
                </a:lnTo>
                <a:lnTo>
                  <a:pt x="120" y="2544"/>
                </a:lnTo>
                <a:lnTo>
                  <a:pt x="708" y="2508"/>
                </a:lnTo>
                <a:lnTo>
                  <a:pt x="768" y="2208"/>
                </a:lnTo>
                <a:lnTo>
                  <a:pt x="1020" y="2124"/>
                </a:lnTo>
                <a:lnTo>
                  <a:pt x="1056" y="1116"/>
                </a:lnTo>
                <a:lnTo>
                  <a:pt x="1308" y="1032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477120" y="7162920"/>
            <a:ext cx="7596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5" name="4x4_Pool.b.270" descr=""/>
          <p:cNvPicPr/>
          <p:nvPr/>
        </p:nvPicPr>
        <p:blipFill>
          <a:blip r:embed="rId3"/>
          <a:stretch/>
        </p:blipFill>
        <p:spPr>
          <a:xfrm>
            <a:off x="2971800" y="7162920"/>
            <a:ext cx="2057400" cy="228600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457200" y="1504800"/>
            <a:ext cx="4057560" cy="7944120"/>
          </a:xfrm>
          <a:custGeom>
            <a:avLst/>
            <a:gdLst/>
            <a:ahLst/>
            <a:rect l="l" t="t" r="r" b="b"/>
            <a:pathLst>
              <a:path w="2556" h="5004">
                <a:moveTo>
                  <a:pt x="0" y="5003"/>
                </a:moveTo>
                <a:lnTo>
                  <a:pt x="2556" y="5004"/>
                </a:lnTo>
                <a:lnTo>
                  <a:pt x="2556" y="4632"/>
                </a:lnTo>
                <a:lnTo>
                  <a:pt x="1596" y="4620"/>
                </a:lnTo>
                <a:lnTo>
                  <a:pt x="1584" y="3576"/>
                </a:lnTo>
                <a:lnTo>
                  <a:pt x="1044" y="3492"/>
                </a:lnTo>
                <a:lnTo>
                  <a:pt x="960" y="3240"/>
                </a:lnTo>
                <a:lnTo>
                  <a:pt x="624" y="3156"/>
                </a:lnTo>
                <a:lnTo>
                  <a:pt x="588" y="2868"/>
                </a:lnTo>
                <a:lnTo>
                  <a:pt x="708" y="2532"/>
                </a:lnTo>
                <a:lnTo>
                  <a:pt x="1260" y="2484"/>
                </a:lnTo>
                <a:lnTo>
                  <a:pt x="1236" y="2808"/>
                </a:lnTo>
                <a:lnTo>
                  <a:pt x="1296" y="2184"/>
                </a:lnTo>
                <a:lnTo>
                  <a:pt x="1260" y="1860"/>
                </a:lnTo>
                <a:lnTo>
                  <a:pt x="960" y="1728"/>
                </a:lnTo>
                <a:lnTo>
                  <a:pt x="924" y="1092"/>
                </a:lnTo>
                <a:lnTo>
                  <a:pt x="672" y="1020"/>
                </a:lnTo>
                <a:lnTo>
                  <a:pt x="624" y="768"/>
                </a:lnTo>
                <a:lnTo>
                  <a:pt x="372" y="720"/>
                </a:lnTo>
                <a:lnTo>
                  <a:pt x="360" y="12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000680" y="819000"/>
            <a:ext cx="2533320" cy="6934320"/>
          </a:xfrm>
          <a:custGeom>
            <a:avLst/>
            <a:gdLst/>
            <a:ahLst/>
            <a:rect l="l" t="t" r="r" b="b"/>
            <a:pathLst>
              <a:path w="1596" h="4368">
                <a:moveTo>
                  <a:pt x="1596" y="0"/>
                </a:moveTo>
                <a:lnTo>
                  <a:pt x="1272" y="60"/>
                </a:lnTo>
                <a:lnTo>
                  <a:pt x="1176" y="300"/>
                </a:lnTo>
                <a:lnTo>
                  <a:pt x="960" y="504"/>
                </a:lnTo>
                <a:lnTo>
                  <a:pt x="936" y="1404"/>
                </a:lnTo>
                <a:lnTo>
                  <a:pt x="672" y="1512"/>
                </a:lnTo>
                <a:lnTo>
                  <a:pt x="600" y="2028"/>
                </a:lnTo>
                <a:lnTo>
                  <a:pt x="336" y="2148"/>
                </a:lnTo>
                <a:lnTo>
                  <a:pt x="264" y="2412"/>
                </a:lnTo>
                <a:lnTo>
                  <a:pt x="84" y="2532"/>
                </a:lnTo>
                <a:lnTo>
                  <a:pt x="0" y="2856"/>
                </a:lnTo>
                <a:lnTo>
                  <a:pt x="336" y="2988"/>
                </a:lnTo>
                <a:lnTo>
                  <a:pt x="288" y="3492"/>
                </a:lnTo>
                <a:lnTo>
                  <a:pt x="0" y="3660"/>
                </a:lnTo>
                <a:lnTo>
                  <a:pt x="0" y="4368"/>
                </a:lnTo>
                <a:lnTo>
                  <a:pt x="336" y="4368"/>
                </a:lnTo>
                <a:lnTo>
                  <a:pt x="336" y="3996"/>
                </a:lnTo>
                <a:lnTo>
                  <a:pt x="1596" y="3996"/>
                </a:lnTo>
                <a:lnTo>
                  <a:pt x="159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8" name="4x2_BrokenIronDoors.a.270" descr=""/>
          <p:cNvPicPr/>
          <p:nvPr/>
        </p:nvPicPr>
        <p:blipFill>
          <a:blip r:embed="rId4"/>
          <a:stretch/>
        </p:blipFill>
        <p:spPr>
          <a:xfrm>
            <a:off x="4038480" y="7696080"/>
            <a:ext cx="457200" cy="114300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5029200" y="4286160"/>
            <a:ext cx="15238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39000" y="1467000"/>
            <a:ext cx="533160" cy="28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57200" y="7715160"/>
            <a:ext cx="20574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7200" y="3143160"/>
            <a:ext cx="5335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304920"/>
            <a:ext cx="1295280" cy="1218960"/>
          </a:xfrm>
          <a:prstGeom prst="cloudCallout">
            <a:avLst>
              <a:gd name="adj1" fmla="val 2819"/>
              <a:gd name="adj2" fmla="val -26041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447920" y="304920"/>
            <a:ext cx="1066680" cy="609480"/>
          </a:xfrm>
          <a:prstGeom prst="cloudCallout">
            <a:avLst>
              <a:gd name="adj1" fmla="val 21277"/>
              <a:gd name="adj2" fmla="val 22916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91120" y="609480"/>
            <a:ext cx="152280" cy="152640"/>
          </a:xfrm>
          <a:custGeom>
            <a:avLst/>
            <a:gdLst>
              <a:gd name="textAreaLeft" fmla="*/ 34560 w 152280"/>
              <a:gd name="textAreaRight" fmla="*/ 117720 w 152280"/>
              <a:gd name="textAreaTop" fmla="*/ 34920 h 152640"/>
              <a:gd name="textAreaBottom" fmla="*/ 1177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676520" y="533520"/>
            <a:ext cx="152280" cy="152280"/>
          </a:xfrm>
          <a:custGeom>
            <a:avLst/>
            <a:gdLst>
              <a:gd name="textAreaLeft" fmla="*/ 34560 w 152280"/>
              <a:gd name="textAreaRight" fmla="*/ 117720 w 15228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495680" y="914400"/>
            <a:ext cx="609840" cy="990720"/>
          </a:xfrm>
          <a:prstGeom prst="cloudCallout">
            <a:avLst>
              <a:gd name="adj1" fmla="val -12759"/>
              <a:gd name="adj2" fmla="val 33333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724280" y="1447920"/>
            <a:ext cx="152640" cy="152280"/>
          </a:xfrm>
          <a:custGeom>
            <a:avLst/>
            <a:gdLst>
              <a:gd name="textAreaLeft" fmla="*/ 34920 w 152640"/>
              <a:gd name="textAreaRight" fmla="*/ 117720 w 152640"/>
              <a:gd name="textAreaTop" fmla="*/ 34560 h 152280"/>
              <a:gd name="textAreaBottom" fmla="*/ 1177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495680" y="9372600"/>
            <a:ext cx="20574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76320" y="66600"/>
            <a:ext cx="7315200" cy="9435600"/>
            <a:chOff x="76320" y="66600"/>
            <a:chExt cx="7315200" cy="9435600"/>
          </a:xfrm>
        </p:grpSpPr>
        <p:sp>
          <p:nvSpPr>
            <p:cNvPr id="1041" name=""/>
            <p:cNvSpPr/>
            <p:nvPr/>
          </p:nvSpPr>
          <p:spPr>
            <a:xfrm>
              <a:off x="708660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32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984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457200" y="295200"/>
              <a:ext cx="6095880" cy="9153000"/>
              <a:chOff x="457200" y="295200"/>
              <a:chExt cx="6095880" cy="915300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5014800" y="299520"/>
                <a:ext cx="1524240" cy="9148680"/>
                <a:chOff x="5014800" y="299520"/>
                <a:chExt cx="1524240" cy="914868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603396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5198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5390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014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2986200" y="299520"/>
                <a:ext cx="1523880" cy="9148680"/>
                <a:chOff x="2986200" y="299520"/>
                <a:chExt cx="1523880" cy="91486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400500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4909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51008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9862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976320" y="295200"/>
                <a:ext cx="1523880" cy="9147960"/>
                <a:chOff x="976320" y="295200"/>
                <a:chExt cx="1523880" cy="914796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199512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14810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250020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9763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0" name=""/>
              <p:cNvSpPr/>
              <p:nvPr/>
            </p:nvSpPr>
            <p:spPr>
              <a:xfrm>
                <a:off x="45720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720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720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720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720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720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5720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5720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5720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5720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5720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5720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5720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720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5720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5720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720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720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8" name=""/>
          <p:cNvGrpSpPr/>
          <p:nvPr/>
        </p:nvGrpSpPr>
        <p:grpSpPr>
          <a:xfrm>
            <a:off x="533520" y="8610480"/>
            <a:ext cx="1143000" cy="554400"/>
            <a:chOff x="533520" y="8610480"/>
            <a:chExt cx="1143000" cy="554400"/>
          </a:xfrm>
        </p:grpSpPr>
        <p:sp>
          <p:nvSpPr>
            <p:cNvPr id="1079" name=""/>
            <p:cNvSpPr/>
            <p:nvPr/>
          </p:nvSpPr>
          <p:spPr>
            <a:xfrm>
              <a:off x="533520" y="8610480"/>
              <a:ext cx="1143000" cy="5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下生え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9840" y="8629560"/>
              <a:ext cx="22860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9840" y="8915400"/>
              <a:ext cx="22860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952880" y="7981920"/>
            <a:ext cx="152280" cy="628560"/>
            <a:chOff x="4952880" y="7981920"/>
            <a:chExt cx="152280" cy="628560"/>
          </a:xfrm>
        </p:grpSpPr>
        <p:sp>
          <p:nvSpPr>
            <p:cNvPr id="1083" name=""/>
            <p:cNvSpPr/>
            <p:nvPr/>
          </p:nvSpPr>
          <p:spPr>
            <a:xfrm>
              <a:off x="5029200" y="8039160"/>
              <a:ext cx="75960" cy="457200"/>
            </a:xfrm>
            <a:prstGeom prst="rect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52880" y="7981920"/>
              <a:ext cx="152280" cy="15228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52880" y="8458200"/>
              <a:ext cx="152280" cy="152280"/>
            </a:xfrm>
            <a:prstGeom prst="ellipse">
              <a:avLst/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457200" y="304920"/>
            <a:ext cx="6100920" cy="914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87360" y="1047600"/>
            <a:ext cx="5521320" cy="6334200"/>
          </a:xfrm>
          <a:custGeom>
            <a:avLst/>
            <a:gdLst/>
            <a:ahLst/>
            <a:rect l="l" t="t" r="r" b="b"/>
            <a:pathLst>
              <a:path w="3478" h="3990">
                <a:moveTo>
                  <a:pt x="2492" y="2940"/>
                </a:moveTo>
                <a:cubicBezTo>
                  <a:pt x="2492" y="2940"/>
                  <a:pt x="2406" y="3360"/>
                  <a:pt x="2204" y="3444"/>
                </a:cubicBezTo>
                <a:cubicBezTo>
                  <a:pt x="2002" y="3528"/>
                  <a:pt x="1484" y="3388"/>
                  <a:pt x="1280" y="3444"/>
                </a:cubicBezTo>
                <a:cubicBezTo>
                  <a:pt x="1076" y="3500"/>
                  <a:pt x="1170" y="3724"/>
                  <a:pt x="980" y="3780"/>
                </a:cubicBezTo>
                <a:cubicBezTo>
                  <a:pt x="790" y="3836"/>
                  <a:pt x="280" y="3990"/>
                  <a:pt x="140" y="3780"/>
                </a:cubicBezTo>
                <a:cubicBezTo>
                  <a:pt x="0" y="3570"/>
                  <a:pt x="90" y="2770"/>
                  <a:pt x="140" y="2520"/>
                </a:cubicBezTo>
                <a:cubicBezTo>
                  <a:pt x="190" y="2270"/>
                  <a:pt x="364" y="2518"/>
                  <a:pt x="440" y="2280"/>
                </a:cubicBezTo>
                <a:cubicBezTo>
                  <a:pt x="516" y="2042"/>
                  <a:pt x="654" y="1318"/>
                  <a:pt x="596" y="1092"/>
                </a:cubicBezTo>
                <a:cubicBezTo>
                  <a:pt x="538" y="866"/>
                  <a:pt x="174" y="1104"/>
                  <a:pt x="92" y="924"/>
                </a:cubicBezTo>
                <a:cubicBezTo>
                  <a:pt x="80" y="588"/>
                  <a:pt x="121" y="516"/>
                  <a:pt x="103" y="12"/>
                </a:cubicBezTo>
                <a:cubicBezTo>
                  <a:pt x="679" y="11"/>
                  <a:pt x="2888" y="0"/>
                  <a:pt x="3380" y="0"/>
                </a:cubicBezTo>
                <a:cubicBezTo>
                  <a:pt x="3032" y="84"/>
                  <a:pt x="3008" y="270"/>
                  <a:pt x="3044" y="420"/>
                </a:cubicBezTo>
                <a:cubicBezTo>
                  <a:pt x="3050" y="506"/>
                  <a:pt x="3354" y="416"/>
                  <a:pt x="3416" y="516"/>
                </a:cubicBezTo>
                <a:cubicBezTo>
                  <a:pt x="3478" y="616"/>
                  <a:pt x="3410" y="852"/>
                  <a:pt x="3416" y="1020"/>
                </a:cubicBezTo>
                <a:cubicBezTo>
                  <a:pt x="3422" y="1188"/>
                  <a:pt x="3460" y="1384"/>
                  <a:pt x="3452" y="1524"/>
                </a:cubicBezTo>
                <a:cubicBezTo>
                  <a:pt x="3444" y="1664"/>
                  <a:pt x="3450" y="1770"/>
                  <a:pt x="3368" y="1860"/>
                </a:cubicBezTo>
                <a:cubicBezTo>
                  <a:pt x="3286" y="1950"/>
                  <a:pt x="3042" y="1910"/>
                  <a:pt x="2960" y="2064"/>
                </a:cubicBezTo>
                <a:cubicBezTo>
                  <a:pt x="2878" y="2218"/>
                  <a:pt x="2894" y="2634"/>
                  <a:pt x="2876" y="2784"/>
                </a:cubicBez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8" name="2x1_SingleDoor.b.90" descr=""/>
          <p:cNvPicPr/>
          <p:nvPr/>
        </p:nvPicPr>
        <p:blipFill>
          <a:blip r:embed="rId2"/>
          <a:stretch/>
        </p:blipFill>
        <p:spPr>
          <a:xfrm>
            <a:off x="4267080" y="6400800"/>
            <a:ext cx="762120" cy="152388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5791320" y="304920"/>
            <a:ext cx="76176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91320" y="304920"/>
            <a:ext cx="76176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743200" y="9524880"/>
            <a:ext cx="14479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7 [6.4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743200" y="7162920"/>
            <a:ext cx="304812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7200" y="304920"/>
            <a:ext cx="533412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791320" y="1066680"/>
            <a:ext cx="76176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791320" y="2590920"/>
            <a:ext cx="761760" cy="1523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52880" y="1066680"/>
            <a:ext cx="8384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2x1_DoubleDoors.a.0" descr=""/>
          <p:cNvPicPr/>
          <p:nvPr/>
        </p:nvPicPr>
        <p:blipFill>
          <a:blip r:embed="rId4"/>
          <a:stretch/>
        </p:blipFill>
        <p:spPr>
          <a:xfrm>
            <a:off x="1219320" y="7162920"/>
            <a:ext cx="1523880" cy="76176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457200" y="4114800"/>
            <a:ext cx="15228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29200" y="6400800"/>
            <a:ext cx="762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" y="1066680"/>
            <a:ext cx="83808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57200" y="304920"/>
            <a:ext cx="15228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57200" y="7924680"/>
            <a:ext cx="60958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7200" y="6400800"/>
            <a:ext cx="762120" cy="152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4" name="2x1_SingleDoor.b.90" descr=""/>
          <p:cNvPicPr/>
          <p:nvPr/>
        </p:nvPicPr>
        <p:blipFill>
          <a:blip r:embed="rId5"/>
          <a:stretch/>
        </p:blipFill>
        <p:spPr>
          <a:xfrm>
            <a:off x="1981080" y="3352680"/>
            <a:ext cx="762120" cy="152424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2057400" y="3429000"/>
            <a:ext cx="609480" cy="13716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1371600"/>
              <a:gd name="textAreaBottom" fmla="*/ 1342080 h 1371600"/>
            </a:gdLst>
            <a:ahLst/>
            <a:rect l="textAreaLeft" t="textAreaTop" r="textAreaRight" b="textAreaBottom"/>
            <a:pathLst>
              <a:path w="21600" h="48594">
                <a:moveTo>
                  <a:pt x="3600" y="0"/>
                </a:moveTo>
                <a:arcTo wR="3600" hR="3600" stAng="16200000" swAng="-5400000"/>
                <a:lnTo>
                  <a:pt x="0" y="44994"/>
                </a:lnTo>
                <a:arcTo wR="3600" hR="3600" stAng="10800000" swAng="-5400000"/>
                <a:lnTo>
                  <a:pt x="18000" y="485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1107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1108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457200" y="298800"/>
            <a:ext cx="855720" cy="842040"/>
            <a:chOff x="457200" y="298800"/>
            <a:chExt cx="855720" cy="842040"/>
          </a:xfrm>
        </p:grpSpPr>
        <p:sp>
          <p:nvSpPr>
            <p:cNvPr id="1134" name=""/>
            <p:cNvSpPr/>
            <p:nvPr/>
          </p:nvSpPr>
          <p:spPr>
            <a:xfrm rot="16200000">
              <a:off x="502560" y="363600"/>
              <a:ext cx="76212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16200000">
              <a:off x="459360" y="5936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6200000">
              <a:off x="744840" y="2966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6200000">
              <a:off x="1038600" y="59364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16200000">
              <a:off x="768600" y="8665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626400" y="754200"/>
              <a:ext cx="47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931680" y="54468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452520" y="317520"/>
            <a:ext cx="6100560" cy="914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981760" y="6610320"/>
            <a:ext cx="457200" cy="533520"/>
          </a:xfrm>
          <a:custGeom>
            <a:avLst/>
            <a:gdLst/>
            <a:ahLst/>
            <a:rect l="l" t="t" r="r" b="b"/>
            <a:pathLst>
              <a:path w="816" h="1068">
                <a:moveTo>
                  <a:pt x="96" y="204"/>
                </a:moveTo>
                <a:lnTo>
                  <a:pt x="528" y="0"/>
                </a:lnTo>
                <a:lnTo>
                  <a:pt x="816" y="0"/>
                </a:lnTo>
                <a:lnTo>
                  <a:pt x="816" y="960"/>
                </a:lnTo>
                <a:lnTo>
                  <a:pt x="432" y="1068"/>
                </a:lnTo>
                <a:lnTo>
                  <a:pt x="144" y="1020"/>
                </a:lnTo>
                <a:lnTo>
                  <a:pt x="0" y="636"/>
                </a:lnTo>
                <a:lnTo>
                  <a:pt x="96" y="20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3" name="1x1_SkullPile.a.0" descr=""/>
          <p:cNvPicPr/>
          <p:nvPr/>
        </p:nvPicPr>
        <p:blipFill>
          <a:blip r:embed="rId2"/>
          <a:stretch/>
        </p:blipFill>
        <p:spPr>
          <a:xfrm>
            <a:off x="5029200" y="8686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 rot="147000">
            <a:off x="1893960" y="6724800"/>
            <a:ext cx="3351240" cy="198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724280" y="7543800"/>
            <a:ext cx="304920" cy="304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743200" y="9600840"/>
            <a:ext cx="14479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8 [6.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505320" y="304920"/>
            <a:ext cx="304776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57200" y="9296280"/>
            <a:ext cx="60958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00800" y="4876920"/>
            <a:ext cx="152280" cy="3047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791320" y="7924680"/>
            <a:ext cx="761760" cy="1524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28560" y="7238880"/>
            <a:ext cx="533520" cy="2000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05320" y="8381880"/>
            <a:ext cx="304560" cy="30492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971800" y="7162920"/>
            <a:ext cx="304920" cy="30456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05320" y="4114800"/>
            <a:ext cx="304776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7200" y="1066680"/>
            <a:ext cx="1523880" cy="381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6" name="2x1_DoubleDoors.a.0" descr=""/>
          <p:cNvPicPr/>
          <p:nvPr/>
        </p:nvPicPr>
        <p:blipFill>
          <a:blip r:embed="rId8"/>
          <a:stretch/>
        </p:blipFill>
        <p:spPr>
          <a:xfrm>
            <a:off x="1981080" y="4114800"/>
            <a:ext cx="1524240" cy="76212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457200" y="1828800"/>
            <a:ext cx="7621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267080" y="304920"/>
            <a:ext cx="2286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rot="21361200">
            <a:off x="3504960" y="5638680"/>
            <a:ext cx="2133360" cy="685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1x1_Statue.a.270" descr=""/>
          <p:cNvPicPr/>
          <p:nvPr/>
        </p:nvPicPr>
        <p:blipFill>
          <a:blip r:embed="rId10"/>
          <a:stretch/>
        </p:blipFill>
        <p:spPr>
          <a:xfrm>
            <a:off x="533520" y="6400800"/>
            <a:ext cx="685800" cy="7621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457200" y="4876920"/>
            <a:ext cx="15228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943600" y="6553080"/>
            <a:ext cx="457200" cy="533520"/>
          </a:xfrm>
          <a:custGeom>
            <a:avLst/>
            <a:gdLst/>
            <a:ahLst/>
            <a:rect l="l" t="t" r="r" b="b"/>
            <a:pathLst>
              <a:path w="816" h="1068">
                <a:moveTo>
                  <a:pt x="96" y="204"/>
                </a:moveTo>
                <a:lnTo>
                  <a:pt x="528" y="0"/>
                </a:lnTo>
                <a:lnTo>
                  <a:pt x="816" y="0"/>
                </a:lnTo>
                <a:lnTo>
                  <a:pt x="816" y="960"/>
                </a:lnTo>
                <a:lnTo>
                  <a:pt x="432" y="1068"/>
                </a:lnTo>
                <a:lnTo>
                  <a:pt x="144" y="1020"/>
                </a:lnTo>
                <a:lnTo>
                  <a:pt x="0" y="636"/>
                </a:lnTo>
                <a:lnTo>
                  <a:pt x="96" y="204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438280" y="7696080"/>
            <a:ext cx="685800" cy="3812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279800">
            <a:off x="3733920" y="7009920"/>
            <a:ext cx="457200" cy="6858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21384600">
            <a:off x="2828880" y="7315200"/>
            <a:ext cx="1970280" cy="1216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2768040" y="7404120"/>
            <a:ext cx="898200" cy="736560"/>
            <a:chOff x="2768040" y="7404120"/>
            <a:chExt cx="898200" cy="736560"/>
          </a:xfrm>
        </p:grpSpPr>
        <p:sp>
          <p:nvSpPr>
            <p:cNvPr id="1167" name=""/>
            <p:cNvSpPr/>
            <p:nvPr/>
          </p:nvSpPr>
          <p:spPr>
            <a:xfrm rot="20932200">
              <a:off x="2861280" y="7490880"/>
              <a:ext cx="755640" cy="58212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96" y="144"/>
                  </a:moveTo>
                  <a:lnTo>
                    <a:pt x="288" y="0"/>
                  </a:lnTo>
                  <a:lnTo>
                    <a:pt x="816" y="48"/>
                  </a:lnTo>
                  <a:lnTo>
                    <a:pt x="912" y="528"/>
                  </a:lnTo>
                  <a:lnTo>
                    <a:pt x="768" y="912"/>
                  </a:lnTo>
                  <a:lnTo>
                    <a:pt x="432" y="1008"/>
                  </a:lnTo>
                  <a:lnTo>
                    <a:pt x="144" y="960"/>
                  </a:lnTo>
                  <a:lnTo>
                    <a:pt x="0" y="576"/>
                  </a:lnTo>
                  <a:lnTo>
                    <a:pt x="96" y="14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20932200">
              <a:off x="2817000" y="7471440"/>
              <a:ext cx="755280" cy="58212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96" y="144"/>
                  </a:moveTo>
                  <a:lnTo>
                    <a:pt x="288" y="0"/>
                  </a:lnTo>
                  <a:lnTo>
                    <a:pt x="816" y="48"/>
                  </a:lnTo>
                  <a:lnTo>
                    <a:pt x="912" y="528"/>
                  </a:lnTo>
                  <a:lnTo>
                    <a:pt x="768" y="912"/>
                  </a:lnTo>
                  <a:lnTo>
                    <a:pt x="432" y="1008"/>
                  </a:lnTo>
                  <a:lnTo>
                    <a:pt x="144" y="960"/>
                  </a:lnTo>
                  <a:lnTo>
                    <a:pt x="0" y="576"/>
                  </a:lnTo>
                  <a:lnTo>
                    <a:pt x="96" y="14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-152280" y="42840"/>
            <a:ext cx="7467480" cy="10131480"/>
            <a:chOff x="-152280" y="42840"/>
            <a:chExt cx="7467480" cy="10131480"/>
          </a:xfrm>
        </p:grpSpPr>
        <p:grpSp>
          <p:nvGrpSpPr>
            <p:cNvPr id="1170" name=""/>
            <p:cNvGrpSpPr/>
            <p:nvPr/>
          </p:nvGrpSpPr>
          <p:grpSpPr>
            <a:xfrm>
              <a:off x="452520" y="299880"/>
              <a:ext cx="6176880" cy="9134640"/>
              <a:chOff x="452520" y="299880"/>
              <a:chExt cx="6176880" cy="9134640"/>
            </a:xfrm>
          </p:grpSpPr>
          <p:sp>
            <p:nvSpPr>
              <p:cNvPr id="1171" name=""/>
              <p:cNvSpPr/>
              <p:nvPr/>
            </p:nvSpPr>
            <p:spPr>
              <a:xfrm>
                <a:off x="458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220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982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744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506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268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030640" y="299880"/>
                <a:ext cx="180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9276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554880" y="299880"/>
                <a:ext cx="1440" cy="9134640"/>
              </a:xfrm>
              <a:prstGeom prst="line">
                <a:avLst/>
              </a:prstGeom>
              <a:ln w="12600">
                <a:solidFill>
                  <a:srgbClr val="0a0b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452520" y="312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452520" y="1074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452520" y="1836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452520" y="259848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452520" y="336060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452520" y="412272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452520" y="4886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452520" y="5648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452520" y="641016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452520" y="717228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452520" y="793404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452520" y="8697600"/>
                <a:ext cx="6176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>
                <a:off x="452520" y="9428040"/>
                <a:ext cx="6176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838080" y="76320"/>
              <a:ext cx="6477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 C D E F G H  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-152280" y="42840"/>
              <a:ext cx="533160" cy="101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51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086600" y="60948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12x16" descr=""/>
          <p:cNvPicPr/>
          <p:nvPr/>
        </p:nvPicPr>
        <p:blipFill>
          <a:blip r:embed="rId1"/>
          <a:stretch/>
        </p:blipFill>
        <p:spPr>
          <a:xfrm>
            <a:off x="411120" y="306360"/>
            <a:ext cx="6113520" cy="9142560"/>
          </a:xfrm>
          <a:prstGeom prst="rect">
            <a:avLst/>
          </a:prstGeom>
          <a:ln w="0">
            <a:noFill/>
          </a:ln>
        </p:spPr>
      </p:pic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4920" y="9448920"/>
            <a:ext cx="6248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配付資料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9 ([6.6], 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マス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=5f, A3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拡大して使用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57200" y="304920"/>
            <a:ext cx="76320" cy="746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9" name="2x1_DoubleDoors.a.0" descr=""/>
          <p:cNvPicPr/>
          <p:nvPr/>
        </p:nvPicPr>
        <p:blipFill>
          <a:blip r:embed="rId2"/>
          <a:stretch/>
        </p:blipFill>
        <p:spPr>
          <a:xfrm>
            <a:off x="1981080" y="716292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1200" name=""/>
          <p:cNvSpPr/>
          <p:nvPr/>
        </p:nvSpPr>
        <p:spPr>
          <a:xfrm>
            <a:off x="5029200" y="6019920"/>
            <a:ext cx="5335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6280" y="7143840"/>
            <a:ext cx="1504800" cy="1695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2" name="4x2_Stairs.a.90" descr=""/>
          <p:cNvPicPr/>
          <p:nvPr/>
        </p:nvPicPr>
        <p:blipFill>
          <a:blip r:embed="rId3">
            <a:lum bright="-16000"/>
          </a:blip>
          <a:stretch/>
        </p:blipFill>
        <p:spPr>
          <a:xfrm>
            <a:off x="533520" y="1447920"/>
            <a:ext cx="990360" cy="2286000"/>
          </a:xfrm>
          <a:prstGeom prst="rect">
            <a:avLst/>
          </a:prstGeom>
          <a:ln w="0">
            <a:noFill/>
          </a:ln>
        </p:spPr>
      </p:pic>
      <p:pic>
        <p:nvPicPr>
          <p:cNvPr id="1203" name="2x2_FireBowl.b.270" descr=""/>
          <p:cNvPicPr/>
          <p:nvPr/>
        </p:nvPicPr>
        <p:blipFill>
          <a:blip r:embed="rId4">
            <a:lum bright="-14000"/>
          </a:blip>
          <a:stretch/>
        </p:blipFill>
        <p:spPr>
          <a:xfrm>
            <a:off x="457200" y="304920"/>
            <a:ext cx="990720" cy="106668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457200" y="304920"/>
            <a:ext cx="601992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95680" y="4267080"/>
            <a:ext cx="533520" cy="289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2x1_DoubleDoors.a.270" descr=""/>
          <p:cNvPicPr/>
          <p:nvPr/>
        </p:nvPicPr>
        <p:blipFill>
          <a:blip r:embed="rId5"/>
          <a:stretch/>
        </p:blipFill>
        <p:spPr>
          <a:xfrm>
            <a:off x="4495680" y="3124080"/>
            <a:ext cx="533520" cy="1143000"/>
          </a:xfrm>
          <a:prstGeom prst="rect">
            <a:avLst/>
          </a:prstGeom>
          <a:ln w="0">
            <a:noFill/>
          </a:ln>
        </p:spPr>
      </p:pic>
      <p:pic>
        <p:nvPicPr>
          <p:cNvPr id="1207" name="4x2_Stairs.a.180" descr=""/>
          <p:cNvPicPr/>
          <p:nvPr/>
        </p:nvPicPr>
        <p:blipFill>
          <a:blip r:embed="rId6"/>
          <a:srcRect l="0" t="0" r="25923" b="0"/>
          <a:stretch/>
        </p:blipFill>
        <p:spPr>
          <a:xfrm>
            <a:off x="1447920" y="3049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208" name="4x2_Crevasse.b.270" descr=""/>
          <p:cNvPicPr/>
          <p:nvPr/>
        </p:nvPicPr>
        <p:blipFill>
          <a:blip r:embed="rId7">
            <a:lum bright="-32000"/>
          </a:blip>
          <a:stretch/>
        </p:blipFill>
        <p:spPr>
          <a:xfrm>
            <a:off x="1523880" y="1447920"/>
            <a:ext cx="990720" cy="228600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/>
          <p:nvPr/>
        </p:nvSpPr>
        <p:spPr>
          <a:xfrm>
            <a:off x="2971800" y="7162920"/>
            <a:ext cx="20574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5029200" y="777168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505320" y="7772400"/>
            <a:ext cx="2971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57200" y="7696080"/>
            <a:ext cx="990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514760" y="304920"/>
            <a:ext cx="990720" cy="281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49720" y="6557760"/>
            <a:ext cx="1033920" cy="562320"/>
            <a:chOff x="549720" y="6557760"/>
            <a:chExt cx="1033920" cy="562320"/>
          </a:xfrm>
        </p:grpSpPr>
        <p:sp>
          <p:nvSpPr>
            <p:cNvPr id="1215" name=""/>
            <p:cNvSpPr/>
            <p:nvPr/>
          </p:nvSpPr>
          <p:spPr>
            <a:xfrm rot="21223200">
              <a:off x="571680" y="6612840"/>
              <a:ext cx="938160" cy="4572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21223200">
              <a:off x="1402920" y="6564600"/>
              <a:ext cx="156240" cy="4572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7" name=""/>
          <p:cNvSpPr/>
          <p:nvPr/>
        </p:nvSpPr>
        <p:spPr>
          <a:xfrm rot="16200000">
            <a:off x="3657600" y="1904760"/>
            <a:ext cx="228600" cy="2286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rot="16200000">
            <a:off x="3352680" y="1599840"/>
            <a:ext cx="228600" cy="2286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rot="16200000">
            <a:off x="4038480" y="914040"/>
            <a:ext cx="228600" cy="22860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rot="21343200">
            <a:off x="3352680" y="2971440"/>
            <a:ext cx="1017720" cy="1533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524560" y="304920"/>
            <a:ext cx="99072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991040" y="324000"/>
            <a:ext cx="152424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991040" y="6553080"/>
            <a:ext cx="152424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573480" y="5465520"/>
            <a:ext cx="1024560" cy="536760"/>
            <a:chOff x="573480" y="5465520"/>
            <a:chExt cx="1024560" cy="536760"/>
          </a:xfrm>
        </p:grpSpPr>
        <p:sp>
          <p:nvSpPr>
            <p:cNvPr id="1225" name=""/>
            <p:cNvSpPr/>
            <p:nvPr/>
          </p:nvSpPr>
          <p:spPr>
            <a:xfrm rot="282000">
              <a:off x="590400" y="5502960"/>
              <a:ext cx="938520" cy="4572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282000">
              <a:off x="1423080" y="5539320"/>
              <a:ext cx="156240" cy="4572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555120" y="4304520"/>
            <a:ext cx="1023480" cy="534600"/>
            <a:chOff x="555120" y="4304520"/>
            <a:chExt cx="1023480" cy="534600"/>
          </a:xfrm>
        </p:grpSpPr>
        <p:sp>
          <p:nvSpPr>
            <p:cNvPr id="1228" name=""/>
            <p:cNvSpPr/>
            <p:nvPr/>
          </p:nvSpPr>
          <p:spPr>
            <a:xfrm rot="21327000">
              <a:off x="571680" y="4345200"/>
              <a:ext cx="938160" cy="4572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21327000">
              <a:off x="1404000" y="4309920"/>
              <a:ext cx="156240" cy="4572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489040" y="1447920"/>
            <a:ext cx="101880" cy="23619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3520" y="3714840"/>
            <a:ext cx="2057400" cy="1015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rot="16200000">
            <a:off x="3962520" y="1599840"/>
            <a:ext cx="228600" cy="22860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rot="15984600">
            <a:off x="3238560" y="1162080"/>
            <a:ext cx="990720" cy="5335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rot="16200000">
            <a:off x="1295280" y="5257440"/>
            <a:ext cx="228600" cy="22860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57240" y="66600"/>
            <a:ext cx="7315200" cy="9435600"/>
            <a:chOff x="57240" y="66600"/>
            <a:chExt cx="7315200" cy="9435600"/>
          </a:xfrm>
        </p:grpSpPr>
        <p:sp>
          <p:nvSpPr>
            <p:cNvPr id="1236" name=""/>
            <p:cNvSpPr/>
            <p:nvPr/>
          </p:nvSpPr>
          <p:spPr>
            <a:xfrm>
              <a:off x="7067520" y="218880"/>
              <a:ext cx="304920" cy="38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47480"/>
              <a:ext cx="533520" cy="905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0760" y="6660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A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B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C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D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E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F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G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H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I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J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K</a:t>
              </a:r>
              <a:r>
                <a:rPr b="0" lang="zh-CN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　　　　</a:t>
              </a:r>
              <a:r>
                <a:rPr b="0" lang="en-US" sz="9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438120" y="295200"/>
              <a:ext cx="6095880" cy="9153000"/>
              <a:chOff x="438120" y="295200"/>
              <a:chExt cx="6095880" cy="915300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4995720" y="299520"/>
                <a:ext cx="1524240" cy="9148680"/>
                <a:chOff x="4995720" y="299520"/>
                <a:chExt cx="1524240" cy="914868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01488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55008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51996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9957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2967120" y="299520"/>
                <a:ext cx="1523880" cy="9148680"/>
                <a:chOff x="2967120" y="299520"/>
                <a:chExt cx="1523880" cy="914868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3985920" y="30420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347184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449100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967120" y="299520"/>
                  <a:ext cx="0" cy="9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957240" y="295200"/>
                <a:ext cx="1523880" cy="9147960"/>
                <a:chOff x="957240" y="295200"/>
                <a:chExt cx="1523880" cy="91479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1976040" y="29952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46196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8112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957240" y="295200"/>
                  <a:ext cx="0" cy="9143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"/>
              <p:cNvSpPr/>
              <p:nvPr/>
            </p:nvSpPr>
            <p:spPr>
              <a:xfrm>
                <a:off x="438120" y="299520"/>
                <a:ext cx="0" cy="9143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38120" y="9443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38120" y="7719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38120" y="8286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38120" y="886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38120" y="7157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38120" y="5433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38120" y="6000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38120" y="658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38120" y="4871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38120" y="3147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38120" y="3714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38120" y="429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38120" y="2585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38120" y="861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38120" y="142848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38120" y="200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38120" y="299520"/>
                <a:ext cx="60958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15:02:37Z</dcterms:created>
  <dc:creator>ｘｘｘｘ</dc:creator>
  <dc:description/>
  <dc:language>en-US</dc:language>
  <cp:lastModifiedBy>xxxx</cp:lastModifiedBy>
  <dcterms:modified xsi:type="dcterms:W3CDTF">2007-12-17T21:26:22Z</dcterms:modified>
  <cp:revision>742</cp:revision>
  <dc:subject/>
  <dc:title>PowerPoint プレゼンテーション</dc:title>
</cp:coreProperties>
</file>